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wmf" ContentType="image/x-wmf"/>
  <Override PartName="/ppt/media/image56.wmf" ContentType="image/x-wmf"/>
  <Override PartName="/ppt/media/image55.wmf" ContentType="image/x-wmf"/>
  <Override PartName="/ppt/media/image98.png" ContentType="image/png"/>
  <Override PartName="/ppt/media/image54.wmf" ContentType="image/x-wmf"/>
  <Override PartName="/ppt/media/image97.png" ContentType="image/png"/>
  <Override PartName="/ppt/media/image53.wmf" ContentType="image/x-wmf"/>
  <Override PartName="/ppt/media/image50.png" ContentType="image/png"/>
  <Override PartName="/ppt/media/image48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47.jpeg" ContentType="image/jpeg"/>
  <Override PartName="/ppt/media/image90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73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2.png" ContentType="image/png"/>
  <Override PartName="/ppt/media/image13.wmf" ContentType="image/x-wmf"/>
  <Override PartName="/ppt/media/image5.png" ContentType="image/png"/>
  <Override PartName="/ppt/media/image82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62.wmf" ContentType="image/x-wmf"/>
  <Override PartName="/ppt/media/image22.png" ContentType="image/png"/>
  <Override PartName="/ppt/media/image63.wmf" ContentType="image/x-wmf"/>
  <Override PartName="/ppt/media/image64.wmf" ContentType="image/x-wmf"/>
  <Override PartName="/ppt/media/image28.wmf" ContentType="image/x-wmf"/>
  <Override PartName="/ppt/media/image65.wmf" ContentType="image/x-wmf"/>
  <Override PartName="/ppt/media/image25.png" ContentType="image/png"/>
  <Override PartName="/ppt/media/image66.wmf" ContentType="image/x-wmf"/>
  <Override PartName="/ppt/media/image67.wmf" ContentType="image/x-wmf"/>
  <Override PartName="/ppt/media/image68.wmf" ContentType="image/x-wmf"/>
  <Override PartName="/ppt/media/image24.wmf" ContentType="image/x-wmf"/>
  <Override PartName="/ppt/media/image61.wmf" ContentType="image/x-wmf"/>
  <Override PartName="/ppt/media/image96.wmf" ContentType="image/x-wmf"/>
  <Override PartName="/ppt/media/image17.wmf" ContentType="image/x-wmf"/>
  <Override PartName="/ppt/media/image72.wmf" ContentType="image/x-wmf"/>
  <Override PartName="/ppt/media/image23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95.wmf" ContentType="image/x-wmf"/>
  <Override PartName="/ppt/media/image45.jpeg" ContentType="image/jpeg"/>
  <Override PartName="/ppt/media/image69.wmf" ContentType="image/x-wmf"/>
  <Override PartName="/ppt/media/image71.png" ContentType="image/png"/>
  <Override PartName="/ppt/media/image88.wmf" ContentType="image/x-wmf"/>
  <Override PartName="/ppt/media/image51.wmf" ContentType="image/x-wmf"/>
  <Override PartName="/ppt/media/image93.png" ContentType="image/png"/>
  <Override PartName="/ppt/media/image76.wmf" ContentType="image/x-wmf"/>
  <Override PartName="/ppt/media/image87.wmf" ContentType="image/x-wmf"/>
  <Override PartName="/ppt/media/image75.wmf" ContentType="image/x-wmf"/>
  <Override PartName="/ppt/media/image70.jpeg" ContentType="image/jpeg"/>
  <Override PartName="/ppt/media/image78.wmf" ContentType="image/x-wmf"/>
  <Override PartName="/ppt/media/image77.wmf" ContentType="image/x-wmf"/>
  <Override PartName="/ppt/media/image21.png" ContentType="image/png"/>
  <Override PartName="/ppt/media/image89.wmf" ContentType="image/x-wmf"/>
  <Override PartName="/ppt/media/image27.wmf" ContentType="image/x-wmf"/>
  <Override PartName="/ppt/media/image92.wmf" ContentType="image/x-wmf"/>
  <Override PartName="/ppt/media/image59.wmf" ContentType="image/x-wmf"/>
  <Override PartName="/ppt/media/image12.wmf" ContentType="image/x-wmf"/>
  <Override PartName="/ppt/media/image20.jpeg" ContentType="image/jpeg"/>
  <Override PartName="/ppt/media/image16.wmf" ContentType="image/x-wmf"/>
  <Override PartName="/ppt/media/image81.wmf" ContentType="image/x-wmf"/>
  <Override PartName="/ppt/media/image1.png" ContentType="image/png"/>
  <Override PartName="/ppt/media/image29.wmf" ContentType="image/x-wmf"/>
  <Override PartName="/ppt/media/image94.wmf" ContentType="image/x-wmf"/>
  <Override PartName="/ppt/media/image91.wmf" ContentType="image/x-wmf"/>
  <Override PartName="/ppt/media/image26.wmf" ContentType="image/x-wmf"/>
  <Override PartName="/ppt/media/image58.png" ContentType="image/png"/>
  <Override PartName="/ppt/media/image15.wmf" ContentType="image/x-wmf"/>
  <Override PartName="/ppt/media/image46.jpeg" ContentType="image/jpeg"/>
  <Override PartName="/ppt/media/image80.wmf" ContentType="image/x-wmf"/>
  <Override PartName="/ppt/media/image3.wmf" ContentType="image/x-wmf"/>
  <Override PartName="/ppt/media/image33.wmf" ContentType="image/x-wmf"/>
  <Override PartName="/ppt/media/image14.wmf" ContentType="image/x-wmf"/>
  <Override PartName="/ppt/media/image10.wmf" ContentType="image/x-wmf"/>
  <Override PartName="/ppt/media/image11.png" ContentType="image/png"/>
  <Override PartName="/ppt/media/image7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1D65-0ACE-4053-8426-2AEFA647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866-5670-45E6-9396-A655C310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5DCC-1BE7-44B4-9599-A9D2C234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56E8-528A-43F3-8578-810EA91A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40E-3E7E-4FAC-B327-EBC7AC15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D4A-15F7-4018-9019-37A028F2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79D-DFFC-4779-9CAA-1A09767A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5C2D-1F01-45F4-B339-3CFCDD10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1597-EABC-4FA6-BF17-429D175A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995-017A-4CFC-B862-C92E7AF8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311-9A2A-4959-B6CE-87B05F42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531B-4995-4BA9-9D79-C425DF8A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48DE-21BE-47E5-9112-4536B29CD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3.png"/><Relationship Id="rId3" Type="http://schemas.openxmlformats.org/officeDocument/2006/relationships/image" Target="../media/image84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DC2D-D5A1-4377-92A5-44BB85CC4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359080" y="3809880"/>
            <a:ext cx="463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828800" y="6172200"/>
            <a:ext cx="5943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 The McGraw-Hill Companies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69AE-6C04-42C5-9DC2-10CBCD0A9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28600" y="152568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 idrogeno forma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atomi di idrogeno sono legati da un legame, ognuno presenta un livello di valenza con due elett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990720"/>
            <a:ext cx="64008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nell’idrogeno molecolare (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8862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DB98-07A3-4F9F-8897-18D149DF9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04920" y="838080"/>
            <a:ext cx="8534160" cy="58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elementi della seconda riga non possono avere più di otto elettroni intorno. Per le molecole neutre, questo ha due conseguenz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uno, due o tre  elettroni di valenza formano uno, due o tre legami rispettivamente, in molecole neutr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quattro o più elettroni di valenza formano legami sufficienti per formare l’ottetto. Questi concetti sono riassunti nella seguente equazione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ando elementi della seconda riga formano meno di quattro legami i loro ottetti consistono di elettroni sia di legame (condivisi) che di non legame (non condivisi). Gli elettroni non condivisi sono anche chiamat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ppie solitari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3962520"/>
            <a:ext cx="5607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8DBF-B421-45B7-ABC0-0A23E400D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2270160"/>
            <a:ext cx="9144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B7A5-1F14-41F8-9548-F1152F779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8985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assunto delle strutture di Lew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1403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strutture di Lewis sono rappresentazioni delle molecole in cui gli elettroni sono rappresentati con un punto. Ci sono tre regole generali per disegnare strutture di Lew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04920" y="2286000"/>
            <a:ext cx="86104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egnare solo gli elettroni di valenz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elemento della seconda riga un ottetto di elettroni, se possib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idrogeno due elettron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726264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1433-1C00-48F6-8F8C-44D5C41A5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52280" y="990720"/>
            <a:ext cx="5639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ica Form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28600" y="1371600"/>
            <a:ext cx="86868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formale è la carica assegnata a singoli atomi in una struttura di Lewi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colando la carica formale determiniamo come il numero degli elettroni intorno ad un particolare atomo si confronti con il numero dei suoi elettroni di valenza. La carica formale è calcolata come segu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8600" y="4495680"/>
            <a:ext cx="86868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numero di elettroni “posseduti” da un atomo è determinato dal suo numero di legami e dalle coppie solita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atomo “possiede”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utt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 suoi elettroni non condivisi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a met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 quelli condivis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723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01D3-5D32-489A-B843-8B6C96180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28600" y="10065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elettroni “posseduti” da atomi diversi è  indicato negli esempi seguen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8320" y="2762280"/>
            <a:ext cx="79473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B310-50AE-43D0-8AD0-2509DFCA2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76320" y="1341360"/>
            <a:ext cx="71913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1B41-377F-498F-80AE-101CACFEA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28600" y="68580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somer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10666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disegnare una struttura di Lewis per una molecola con molti atomi, qualche volta per una data formula molecolare è possibile più di una disposizione degli atomi che la costituisco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sempi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4495680"/>
            <a:ext cx="87631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mbe sono strutture di Lewis valide ed entrambe le molecole esistono. Questi due composti sono chiamati isomer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li isomeri sono molecole diverse che hanno la stessa formula molecolar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etanolo e l’etere dimetilico sono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someri costituziona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5273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FCB7-05C7-4A77-8CE2-38D4368B9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52280" y="97488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ccezioni alla regola dell’ottett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30 second row elements without an octet"/>
          <p:cNvPicPr/>
          <p:nvPr/>
        </p:nvPicPr>
        <p:blipFill>
          <a:blip r:embed="rId1"/>
          <a:stretch/>
        </p:blipFill>
        <p:spPr>
          <a:xfrm>
            <a:off x="2057400" y="2057400"/>
            <a:ext cx="5143680" cy="1436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304920" y="1447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i Gruppi 2A e 3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8600" y="3657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lla terza ri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650052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0DC5-7B26-4A73-A121-C5FC6DE76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600" y="533520"/>
            <a:ext cx="278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1066680"/>
            <a:ext cx="8686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cune molecole non possono essere adeguatamente rappresentate da una singola struttura di Lewis. Per esempio, due valide strutture di Lewis possono essere disegnate per l’anione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struttura presenta l’atomo di azoto carico negativamente ed un doppio legame C-O; l’altra presenta un atomo di ossigeno carico negativamente ed un doppio legame C-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920" y="461808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e strutture sono chiamate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rutture di risonanz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forme di risonanz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freccia a due punte viene usata per separare le strutture di risonanz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5791320"/>
            <a:ext cx="6688080" cy="556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200400"/>
            <a:ext cx="373536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F666-8701-4559-AD60-F02B4B446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04920" y="472428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cleo contiene protoni carichi positivamente e neutroni neut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uvola elettronica è composta da elettroni carichi negativ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3600" y="1828800"/>
            <a:ext cx="4815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927D-3BBF-42A6-8181-629A92312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228600" y="685800"/>
            <a:ext cx="693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90440" y="9144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66760" y="10666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66760" y="11430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ivamente alle due strutture di risonanza di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qui mostrate, si deve notare ch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04920" y="3200400"/>
            <a:ext cx="853416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suna struttura di risonanza è un’accurata rappresentazione per (HCONH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La vera struttura è una struttura mista di entrambe le forme di risonanza ed è chiama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brido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’ibrido mostra caratteristiche di entrambe le strut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risonanza fa sì che alcune coppie elettroniche risultin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z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 due o più atomi, e ques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azione aumenta la stabilit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molecola con due o più forme di risonanza viene detta esser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tabilizzata per risonan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73536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6EF2-1230-4F37-AF13-C2BC08968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28600" y="746280"/>
            <a:ext cx="6705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66760" y="1263600"/>
            <a:ext cx="8610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icorda i seguenti principi di base della teoria della risonanza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00" y="2209680"/>
            <a:ext cx="8610480" cy="39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real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singola struttura di risonanza non rappresenta in modo adeguato la struttura di una molecola o di uno ione. Ciò vale solo per l’ibrid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n equilibrio tra lor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Non c’è movimento di elettroni da una all’altra.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somer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Due isomeri differiscono nella disposizione sia di atomi che di elettroni, mentre le strutture di risonanza differiscono solamente nella disposizione degli elettron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4F88-E67D-4B22-B542-B8A1B695F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52280" y="685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2280" y="112716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1]: Due strutture di risonanza differiscono nella posizione di legami multipli e di elettroni di non legame. La posizione degli atomi e dei legami singoli rimane sempre la stess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04920" y="470844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2]: Due strutture di risonanza devono avere lo stesso numero di elettroni non accoppi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70320" y="2317680"/>
            <a:ext cx="4203360" cy="2222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0720" y="5410080"/>
            <a:ext cx="71546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1D18-C688-4B20-9BF1-E0AA41C48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6606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3]: le strutture di risonanza devono essere strutture di Lewis valide. L’idrogeno deve avere due elettroni e nessun elemento della seconda riga deve avere più di otto elettron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28600" y="990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27986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A733-CB57-449E-8DF0-9A9E70D70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22860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838080"/>
            <a:ext cx="85341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è una convenzione che viene usata per mostrare come la posizione degli elettroni differisca fra le due forme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mostra il movimento di una coppia di elettron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oda della freccia inizia sempre da una coppia di elettroni, sia di un legame che di una coppia solitaria. La testa è rivolta dove la coppia di elettroni si “muove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57200" y="32004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57560" y="501336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2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666880" y="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62320" y="4900680"/>
            <a:ext cx="5029200" cy="174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666880" y="3200400"/>
            <a:ext cx="4902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3496-489A-4609-AB59-C9F57EF1D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8600" y="898560"/>
            <a:ext cx="556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04920" y="53341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i due esempi precedenti, una coppia solitaria è posizionata su un atomo direttamente legato ad un doppio lega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77960" y="2050920"/>
            <a:ext cx="5786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8D38-A5AE-48D3-8F2F-2D6CADF54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920" y="1066680"/>
            <a:ext cx="556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04920" y="4876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li esempi precedenti, un atomo che porta una carica (+) è legato sia ad un doppio legame sia ad un atomo con una coppia solitari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839960" y="2592360"/>
            <a:ext cx="5462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A8F3-6ABB-41A7-BAF5-1E8DED079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92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80880" y="1371600"/>
            <a:ext cx="83822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 ibrido di risonanza è la struttura composta di tutte le possibili strutture di risonanz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Nell’ibrido di risonanza le coppie di elettroni, disegnate nelle differenti posizioni delle strutture di risonanza individuali, sono delocalizza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strutture di risonanza sono differenti, l’ibrido assomiglia di più alla struttura di risonanza “migliore”. La struttura di risonanza “migliore” è chiamata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ggior contribu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’ibrido, e tutte le altr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tribuenti mino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brido è la media pesata delle strutture di risonanza contrib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B1BA-F2F1-4ECD-B433-07B5F6699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04920" y="1371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 struttura di risonanza “migliore” è quella che presenta più legami e meno carich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2860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63600" y="2352600"/>
            <a:ext cx="48150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7B4B-978A-4949-83BA-25B2EDF04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33520" y="1523880"/>
            <a:ext cx="5257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gli 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8230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8613-1F7C-44E4-9D48-BEC9FF9E5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53341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riga hanno dimensioni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colonna hanno proprietà elettroniche e chimiche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15960" y="1839960"/>
            <a:ext cx="6110280" cy="3176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403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1670-FE60-40FB-B1DD-9DD42CBE5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28600" y="525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2280" y="609480"/>
            <a:ext cx="6019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variabili definiscono la struttura di una molecola: lunghezza di legame e angolo di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04920" y="21337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diminuisce lungo una riga della tavola periodica con la diminuzione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28600" y="4267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aumenta scendendo lungo una colonna della tavola periodica con l’aumento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724280" y="3048120"/>
            <a:ext cx="3735360" cy="1241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495680" y="5486400"/>
            <a:ext cx="3591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FC6E-7D2F-4F08-BB76-0BBD72F7C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61960" y="2308320"/>
            <a:ext cx="80186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7695-86D0-4263-9906-3F6B72151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228600" y="1143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golo di legame determina la forma intorno ad ogni atomo legato ad altri due atom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52280" y="609480"/>
            <a:ext cx="7239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-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80880" y="1905120"/>
            <a:ext cx="84582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gruppi che circonda un  particolare atomo determina la sua geometria. Un gruppo è sia un atomo sia una coppia solitaria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disposizione più stabile tiene questi gruppi il più possibile distanti uno dall’altro. Questo è esemplificato nella teoria della Repulsione tra le coppie Elettroniche nel Livello di Valenza - Valence Shell Electron Pair Repulsion (VSEPR) the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54277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E21C-EEA2-44A3-9D57-5FF9D912E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76320" y="1203480"/>
            <a:ext cx="731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76320" y="1752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du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1546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99F7-14C9-40A3-B040-52CEA44DF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8600" y="12034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04920" y="182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tr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731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90AA-B2D0-4288-AE0F-BDA82B1D8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04920" y="1371600"/>
            <a:ext cx="601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57200" y="1981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quattro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6686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4736-2B74-4A3E-9CE4-4E607257B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04920" y="76212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57200" y="1371600"/>
            <a:ext cx="807732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nel piano è indicato con una linea piena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avanti al piano è indicato con un cune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ietro al piano è indicato con una linea tratteggi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731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D1FF-566B-43B8-81B4-A9EA1C4A8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52280" y="1219320"/>
            <a:ext cx="7696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7524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possono essere ruotate nei modi più diversi, generando molte rappresentazioni equivalenti. Tutte queste sono accettabili rapprestazioni d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6939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02E1-AF05-4B4E-87E0-030945A38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304920" y="105084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57200" y="1600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nei  e tratteggi  sono usati per rappresentare gruppi che stanno in realtà allineati uno dietro l’altro. Nelle due rappresentazioni seguenti, non importa se il tratteggio o il cuneo siano a destra o a sinistra, in quanto i due H sono in realtà alline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7983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67E8-EDFF-46B8-A51E-8AF806028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28600" y="80640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04920" y="1679400"/>
            <a:ext cx="85341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uno dei quattro gruppi legati all’N centrale è una coppia solitaria. I tre H e la coppia solitaria sono direzionati secondo i vertici di un tetraedro. L’angolo H-N-H di 10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forma di riferimento è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iramide trigo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6831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1116-DFDB-49C2-9781-61908A742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38188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6F9D-5589-4195-8ABD-FA170BFDE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304920" y="685800"/>
            <a:ext cx="8534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80880" y="1523880"/>
            <a:ext cx="80773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, due dei quattro gruppi legati all’ O centrale sono coppie solitarie. I due H e le due oppie libere sono direzionati secondo i vertici di un tetraedro. L’angolo H-O-H di 10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’acqua ha una forma ad angolo, perchè due dei gruppi che circondano l’ossigeno sono coppie solitarie di elettr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71182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D81E-6956-4FFA-8C59-66AA1582E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2666880" y="5014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54 water"/>
          <p:cNvPicPr/>
          <p:nvPr/>
        </p:nvPicPr>
        <p:blipFill>
          <a:blip r:embed="rId1"/>
          <a:srcRect l="86608" t="0" r="0" b="0"/>
          <a:stretch/>
        </p:blipFill>
        <p:spPr>
          <a:xfrm>
            <a:off x="990720" y="4267080"/>
            <a:ext cx="990360" cy="1797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53 ammonia"/>
          <p:cNvPicPr/>
          <p:nvPr/>
        </p:nvPicPr>
        <p:blipFill>
          <a:blip r:embed="rId2"/>
          <a:srcRect l="84449" t="0" r="0" b="0"/>
          <a:stretch/>
        </p:blipFill>
        <p:spPr>
          <a:xfrm>
            <a:off x="914400" y="2514600"/>
            <a:ext cx="1066680" cy="187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50 drawing 3d structures on paper"/>
          <p:cNvPicPr/>
          <p:nvPr/>
        </p:nvPicPr>
        <p:blipFill>
          <a:blip r:embed="rId3"/>
          <a:srcRect l="78503" t="25449" r="8602" b="19445"/>
          <a:stretch/>
        </p:blipFill>
        <p:spPr>
          <a:xfrm>
            <a:off x="838080" y="1219320"/>
            <a:ext cx="1055880" cy="1143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8"/>
          <p:cNvSpPr/>
          <p:nvPr/>
        </p:nvSpPr>
        <p:spPr>
          <a:xfrm>
            <a:off x="2151720" y="1752480"/>
            <a:ext cx="207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no 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103480" y="3352680"/>
            <a:ext cx="27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166840" y="5181480"/>
            <a:ext cx="195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4876920" y="1295280"/>
            <a:ext cx="358128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ntrambe le molecole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, l’angolo di legame è di poco inferiore all’angolo teorico tetraedrico a causa della repulsione delle coppie solitarie di elettroni. Gli atomi legati sono quindi compressi in uno spazio minore con un angolo di legame più picco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7AAB-399D-4C0D-90AD-A4A100F5C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304920" y="143208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dire la geometria sulla base del numero dei gruppi attorno all’atomo centr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2630520"/>
            <a:ext cx="91440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5679-4718-4135-A45B-392A6534D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52280" y="6094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le molecole organiche—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28600" y="1022400"/>
            <a:ext cx="86868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tti gli atomi vengono disegnati, ma le linee dei legami a due elettroni vengono generalmente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i atomi vengono solitamente disegnati  vicini agli atomi ai quali sono leg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parentesi sono usate intorno a gruppi uguali legati allo stesso atom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coppie elettroniche solitarie vengono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6327720" cy="1295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330372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2161-5DFD-45F3-BFD5-DE893FB8B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76212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007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6900-F2D4-4CF8-B05C-2318A3303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52280" y="76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 contenenti un doppio legame C-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76756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F9CE-7CF3-43EB-B282-C8D409680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52280" y="66996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utture segmentat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28600" y="1117440"/>
            <a:ext cx="8686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ci sia un atomo di carbonio in corrispondenza di ogni giunzione di due segmenti o all’estremità di ogni segmen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intorno ad ogni atomo di carbonio ci siano abbastanza idrogeni per renderlo tetraval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erire tutti gli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eteroatomi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gli H ad essi direttamente lega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143000" y="3581280"/>
            <a:ext cx="68310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D13B-FBB3-4FF8-A605-8486C6E2F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152280" y="685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segmen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15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68E3-6FDA-4FA7-BF2E-C2C24DC5A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152280" y="62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quanto segue sull’interpretazione delle strutture segmentate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76320" y="1366920"/>
            <a:ext cx="868680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carica su un atomo di carbonio prende il posto di un atomo di idr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determina il numero di coppie solitarie. Atomi di carbonio con una carica negativa hanno una coppia solitaria e atomi con una carica positiva non ne hanno alcun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6977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9DFD-DAEE-4167-B068-C14373106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28600" y="7621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L’idroge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04920" y="129528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un atomo di idrogeno si sovrappone all’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tro atomo di idrogeno, si forma tra i due nuclei un legame sigma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che concentra la densità elettronica tra i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o legame ha simmetria cilindrica perchè gli elettroni che formano il legame sono distribuiti simmetricamente attorno ad una linea immaginaria che congiunge i due nucle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6543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A878-E809-4A85-947A-3FA7C8AE4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52280" y="12952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 una densità elettonica sferica e una energia più bassa di altri orbitali nello stesso liv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enta una forma a due lobi e contiene un nodo di densità elettronica presso il nucleo. Presenta una energia più alta di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522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61102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6842-A7FC-4976-87E3-B9E991CD1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228600" y="6094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04920" y="1066680"/>
            <a:ext cx="853416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endere conto dei tipi di legame osservati in molecole più complesse, dobbiamo esaminare più da vicino gli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gli atomi della seconda rig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carbonio ha due elettroni interni più quattro elettroni di valenza. Per riempire gli orbitali atomici nella configurazione più stabile, gli elettroni sono disposti negli orbitali a più bassa energia. Per questo nel carbonio abbiamo due elettroni nel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d un elettrone ciascuno n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04920" y="60642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Nota: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La disposizione a più bassa energia degli elettroni per un atomo prende il nome di stato fondamenta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133720" y="3962520"/>
            <a:ext cx="4886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75C3-9C65-4F6D-8711-307629A07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228600" y="9907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04920" y="1523880"/>
            <a:ext cx="85341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questa descrizione, il carbonio dovrebbe formare solo due legami poichè ha solo due elettroni di valenza spaiati,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vrebbe essere una molecola stabile. In realtà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specie altamente reattiva che non può essere isolata nelle normali condizioni di laboratorio.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arbonio non avrebbe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951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0690-5C56-4334-A50A-351442C6D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228600" y="68580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04920" y="121932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a seconda possibilità. L’avanzamento di un elettrone d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ibero darebbe origine a quattro elettroni spaiati per formare legami. Questo processo richiede energia perchè sposta un elettrone su un orbitale ad energia più elevata. Questa nuova disposizione di elettroni su orbitali a più alta energia è chiamat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stato eccita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80880" y="51973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a descrizione però non è ancora adeguata. Il carbonio formerebbe due tipi di legame: tre con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uno con 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Tuttavia prove sperimentali evidenziano che nel metano il carbonio forma quattro legami identic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75153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EDC8-5038-4EAF-A59C-2473DCAAC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228600" y="7462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04920" y="1204920"/>
            <a:ext cx="853416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isolvere questa incongruenza, i chimici hanno postulato che atomi come il carbonio non usino orbitali pur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formare i legami, bensì un insieme di nuovi orbitali chiamati orbitali ibrid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Arial"/>
              </a:rPr>
              <a:t>L’ ibridazione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è la combinazione di due o più orbitali atomici per formare lo stesso numero di orbitali ibridi, ognuno dei quali ha la stessa forma ed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7586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E3DF-B9AB-4835-A4F2-C5C804157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228600" y="685800"/>
            <a:ext cx="7924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ma ed orientamento d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04920" y="1112760"/>
            <a:ext cx="85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binando insieme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ferico e tre orbitali a forma bilobata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ottengono quattro orbitali formati da un lobo grande ed un lobo piccol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304920" y="37339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quattro orbitali ibridi sono orientati secondo i vertici di un tetraedro, e formano quattro legami equivalen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110280" cy="1368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1752480" y="4379760"/>
            <a:ext cx="6664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863A-6104-4CC9-AD5E-2E0489075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228600" y="974880"/>
            <a:ext cx="685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attaverso gl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04920" y="1494000"/>
            <a:ext cx="8534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legame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formato dalla sovrapposizione di un orbitale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arbonio con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idrogeno. Questi quattro legami puntano verso i vertici di un tetraed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324480" y="2819520"/>
            <a:ext cx="2546640" cy="6476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73342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67D2-BF70-4926-BC02-80DD5AF2E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228600" y="685800"/>
            <a:ext cx="4800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04920" y="116532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tr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quattro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du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tr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du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14528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45EA-E1EE-4059-8A87-DC7E87372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228600" y="838080"/>
            <a:ext cx="518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04920" y="128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terminare l’ibridazione di un atomo in una molecola contare i gruppi intorno all’atomo. Il numero dei gruppi (atomi e coppie elettroniche di non legame) corrisponde al numero degli orbitali atomici che devono essere ibridati per formare gli orbitali ibr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7118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0096-6FF7-4D28-AFA4-D1980E8DC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52280" y="609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ibrid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76320" y="4724280"/>
            <a:ext cx="8915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39360" cy="3473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2514600" y="4800600"/>
            <a:ext cx="5570640" cy="1709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28600" y="5715000"/>
            <a:ext cx="2619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2C33-2187-45F8-BF60-2AFF4B789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1371600" y="2971800"/>
            <a:ext cx="563868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228600" y="6094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505320" y="838080"/>
            <a:ext cx="518148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952560" y="76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762120"/>
            <a:ext cx="1351080" cy="1488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191120" y="1066680"/>
            <a:ext cx="3698640" cy="1511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1752480" y="3048120"/>
            <a:ext cx="5139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7453-6F48-41F3-8CD6-58AD653C4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28600" y="762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l momento che è presente un solo orbitale nel primo livello, ed ogni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bit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uò contenere al massimo due elettroni, ci sono due elementi nella prima riga, H ed 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28600" y="296244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ni elemento della seconda riga della tavola periodica presenta quattro orbitali disponibili ad accettare ulteriori elettroni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 orbitale 2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 orbitali 2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362640" cy="1224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9600" y="3876840"/>
            <a:ext cx="79833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5AE6-04D8-4208-AEE8-DF1991BE7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228600" y="15238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371600" y="3352680"/>
            <a:ext cx="7238880" cy="297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1711440"/>
            <a:ext cx="1351080" cy="14889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6"/>
          <p:cNvSpPr/>
          <p:nvPr/>
        </p:nvSpPr>
        <p:spPr>
          <a:xfrm>
            <a:off x="304920" y="8985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362320" y="164772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lizzazione di un modello dell’etano illustra un’ulteriore caratteristica circa la sua struttura. Attorno al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—C esiste libera rot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981080" y="3505320"/>
            <a:ext cx="60022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723C-5830-4ACC-B880-57BDB8A74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22860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419720" y="1401840"/>
            <a:ext cx="4495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trigonale e planar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ibrida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7"/>
          <p:cNvSpPr/>
          <p:nvPr/>
        </p:nvSpPr>
        <p:spPr>
          <a:xfrm>
            <a:off x="152280" y="2895480"/>
            <a:ext cx="883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195720" cy="1331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2630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C744-5861-47E9-847C-9679BD793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429000" y="4648320"/>
            <a:ext cx="533412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1219320" y="2362320"/>
            <a:ext cx="70866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952560" y="228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230280" cy="12780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393920" y="2455920"/>
            <a:ext cx="6759360" cy="1944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3505320" y="4724280"/>
            <a:ext cx="5175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B037-BB67-43EF-AB50-4498158EE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304920" y="166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228600" y="251460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versamente dal legame singolo C—C nell’ etano, la rotazione attorno al doppio legame C—C nell’etilene è limitata. Può verificarsi solo s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rima si rompe e poi si riforma, un processo che richiede un apporto considerevole di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122640" cy="1332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4778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4333-9FC1-4C35-9B50-45FC84C5F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152280" y="6094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152280" y="29718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86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89F3-EBE7-45B4-B0F9-14B49EE81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2286000" y="4876920"/>
            <a:ext cx="563868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676520" y="2209680"/>
            <a:ext cx="678168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76320" y="45720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1143000" y="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54100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343400" y="1157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 1.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6362640" cy="2457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371760" y="4910040"/>
            <a:ext cx="34099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6A54-9E9D-4DA6-94D7-157EF12F2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4343400" y="2895480"/>
            <a:ext cx="3657600" cy="1981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76320" y="8380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143000" y="2430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52280" y="2593800"/>
            <a:ext cx="4114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atomo di carbonio ha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ibridi che sono perpendicolari fra loro e agli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La sovrapposizione laterale d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 un carbonio con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ll’altro carbonio dà origine al secondo e terzo legame del triplo legame. Tutti i tripli legami sono formati da un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du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2906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F68F-B914-475F-BE6C-5CA7371B3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76320" y="2819520"/>
            <a:ext cx="8915400" cy="380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2781360" y="10666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76320" y="517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90512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assunto dei legami nell’ acetile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1295280" y="22860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228600" y="1919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1.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65437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0AEC-EA43-4241-8E0F-820E89C8C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52280" y="4413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rio dei legami covalenti osservati nei composti del carbonio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2666880" y="76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34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B765-EB42-4A0C-8AEF-E9B28498A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304920" y="898560"/>
            <a:ext cx="6324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419040" y="1447920"/>
            <a:ext cx="8458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’aumentare del numero di elettroni tra due nuclei, i legami diventano più corti e più for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indi, i legami tripli sono più corti e più forti dei legami doppi, che a loro volta sono più corti e più forti dei legami singo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701064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67A6-DA2B-474C-9321-AABFC2000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822240"/>
            <a:ext cx="464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menti della Seconda Rig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1295280"/>
            <a:ext cx="8458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ognuno dei quattro orbitali disponibili nel secondo livello può ospitare due elettroni, gli elementi della seconda riga presentano una capacità massima di otto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econda riga della tavola perodica consiste di otto elementi, ottenuti per aggiunta di elettroni agli orbitali 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6831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7930-03EF-4B38-BC2C-125429353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26"/>
          <p:cNvSpPr/>
          <p:nvPr/>
        </p:nvSpPr>
        <p:spPr>
          <a:xfrm>
            <a:off x="228600" y="127944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027"/>
          <p:cNvSpPr/>
          <p:nvPr/>
        </p:nvSpPr>
        <p:spPr>
          <a:xfrm>
            <a:off x="419040" y="1905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lunghezza e la forza dei legami 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 varia dipendentemente dall’ibridazione dell’atomo di carbon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30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45464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D8DE-F254-42A4-B3BA-F4E3EA5D2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98320" y="723960"/>
            <a:ext cx="794736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7E5C-8054-4478-A3CE-F33388BE3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152280" y="97488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2092320" y="2379600"/>
            <a:ext cx="4959360" cy="2097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3706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8E4E-DA26-4627-882E-AD0498CCF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26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28"/>
          <p:cNvSpPr/>
          <p:nvPr/>
        </p:nvSpPr>
        <p:spPr>
          <a:xfrm>
            <a:off x="304920" y="1523880"/>
            <a:ext cx="85341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a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’aumentare del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un orbitale ibrido mantiene i suoi elettroni più vicini al nucleo e il legame diventa più corto e più for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bbene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ano simili nella forma, sono tuttavia differenti nelle dimens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29"/>
          <p:cNvSpPr/>
          <p:nvPr/>
        </p:nvSpPr>
        <p:spPr>
          <a:xfrm>
            <a:off x="228600" y="1066680"/>
            <a:ext cx="617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030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2971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44FA-4957-4D5F-B2E9-37796075D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762120" y="2590920"/>
            <a:ext cx="7391160" cy="3733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52280" y="746280"/>
            <a:ext cx="632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266760" y="12193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 elettronegatività è una misura dell’attrazione di un atomo per gli elettroni in un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685800" y="21178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ori di elettronegatività per alcuni elementi comun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2666880" y="1206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2001960" y="2703600"/>
            <a:ext cx="51386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84F0-85A8-49B8-81FE-C9787ED92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1600200" y="2666880"/>
            <a:ext cx="6095880" cy="221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1828800" y="228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152280" y="274320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228600" y="68580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valori di elettronegatività sono usati come riferimento per indicare se gli elettroni sono ugualmente condivisi o non ugualmente condivisi tra due atomi. Quando gli elettroni sono ugualmente condivisi il legame è detto non polare. Quando le differenze di elettronegatività producono una diseguale condivisione degli elettroni, il legame è polare, e si dice che ha una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 o un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28600" y="4952880"/>
            <a:ext cx="8686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n legame carbonio—carbonio è nonpol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Lo stesso è vero ogniqualvolta sono legati insieme due atomi diversi che hanno elettronegatività sim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cc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 legami C—H sono considerati non pola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chè la differenza di elettronegatività tra C e H è piccol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749600" y="2654280"/>
            <a:ext cx="56433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1F2E-0CCE-4447-B82C-AAC442401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1828800" y="9036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3048120" y="2819520"/>
            <a:ext cx="5715000" cy="19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228600" y="685800"/>
            <a:ext cx="8686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legame tra atomi di differente elettronegatività produce una diversa diseguale condivisione degli elettroni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sempi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l legame C—O, gli elettroni sono spinti lontano dal C (2.5) verso l’ O (3.4), l’elemento a maggior elettronegatività. Il legame è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valente 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Si dice che il legame presenta u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cioè un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52280" y="49528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direzione della polarità in un legame è indicata da una freccia con la punta della freccia rivolta verso l’elemento più elettronegativo. La coda della freccia, che ha una linea tracciata perpendicolarmente, è rivolta verso l’elemento meno elettronegativo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304920" y="2803680"/>
            <a:ext cx="25905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 baseline="30000">
                <a:solidFill>
                  <a:srgbClr val="00cc99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defici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30000">
                <a:solidFill>
                  <a:srgbClr val="00cc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ric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499428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58C3-B988-49F9-803D-A7D0F67EE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609480" y="3886200"/>
            <a:ext cx="8001000" cy="281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152280" y="593640"/>
            <a:ext cx="449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28600" y="1082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re la seguente procedura a due fasi per determinare se una molecola ha un dipolo net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304920" y="1893960"/>
            <a:ext cx="85341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sare le differenze di elettronegatività per identificare tutti i legami polari </a:t>
            </a: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e le direzioni dei dipoli di legam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terminare la geometria intorno ai singoli atomi contando i gruppi, e stabilire se i dipoli individuali si elidono o si rafforzano a vicenda nello spazi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532080" y="3886200"/>
            <a:ext cx="548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a del potenziale elettrostatico di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758664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957B-319D-48F5-AE77-69B0864FB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52280" y="669960"/>
            <a:ext cx="384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228600" y="106668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polare ha o un legame polare o due o più dipoli di legame che si sommano vettorialmente. Un esempio è l’acqua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228600" y="441972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non polare o non ha legami polari, o ha due o più dipoli di legame che si elidono. Un esempio è il biossido di carboni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065240" y="2303640"/>
            <a:ext cx="7012080" cy="22492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665360" y="5257800"/>
            <a:ext cx="74786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CD2D-FB28-43DC-B801-EC3511D19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28600" y="1203480"/>
            <a:ext cx="3886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assunto sul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80880" y="1774800"/>
            <a:ext cx="83822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legame è l’unione di due atomi in un arrangiamen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completano il livello esterno di elettroni di val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raggiungono la configurazione stabile de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ionici si originano dal trasferimento di elettroni da un elemento ad un al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covalenti si originano dalla compartecipazione di elettroni tra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B4FF-17E6-4EB8-9F30-9F613D5A2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04920" y="76212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legame ionico è generalmente presente quando elementi situati sul lato sinistro della tavola periodica si combinano con elementi situati sul lato destro, fatta esclusione per 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tione carico positivamente formato da un elemento situato sul lato sinistro attrae un anione carico negativamente formato da un elemento situato sulla parte destra. Un esempio è cloruro di sodio,  NaC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3962520"/>
            <a:ext cx="34099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4:56Z</dcterms:modified>
  <cp:revision>318</cp:revision>
  <dc:subject/>
  <dc:title>PowerPoint Presentation</dc:title>
</cp:coreProperties>
</file>