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7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5.jpeg" ContentType="image/jpeg"/>
  <Override PartName="/ppt/media/image2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B440-1D7D-4370-88A8-9B12B5E8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353F-B638-4A6A-B1CE-6CC7B768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3EC5-C6C3-49D2-9380-796E5F28F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B652-9412-4C76-87E1-76018321F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44DF-66DC-4F07-92C8-37E9412A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016C-1A2D-434F-AFD1-F14BCDD7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CBA2-4C6A-459B-9904-6F6C3747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8A48-1892-4B36-9F5F-EE093D33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3C17-4D36-4B85-9311-9B7337A2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3E88-FE9B-41E2-A9A9-63F6C357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CC49-2867-4ECE-8244-63A4F68B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FA60-11F9-4859-8792-70A627B3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386C-BA0D-4237-A382-96E202ACC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6E14-5650-4CD0-B81D-071432DC8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860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152800" y="3809880"/>
            <a:ext cx="5060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1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2DF1-9F42-45E7-962E-F8A99DBBE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2895480" y="2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28600" y="16765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e evidenze dell’alogenazione suggeriscono che il meccanismo coinvolge intermedi radicalici, e non ionici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—Meccanismo di Re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0005"/>
          <p:cNvPicPr/>
          <p:nvPr/>
        </p:nvPicPr>
        <p:blipFill>
          <a:blip r:embed="rId1"/>
          <a:stretch/>
        </p:blipFill>
        <p:spPr>
          <a:xfrm>
            <a:off x="457200" y="2743200"/>
            <a:ext cx="830592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4BA4-27CA-47DD-A716-4C97EF241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895480" y="763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28600" y="114300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alogenazione radicalica ha tre passaggi distinti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—Meccanismo di Re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28600" y="4572000"/>
            <a:ext cx="868680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 meccanismo (come l’alogenazione radicalica), che prevede due o più stadi che si ripetono, è chiamat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eccanismo a caten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li stadi più importanti dell’alogenazione radicalica son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gli stadi di propagazione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e portano alla formazione dei prodott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61084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94E8-FEBB-4A9F-83CC-1055280F6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1523880" y="903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—Meccanism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mechanism_151_c_la_764"/>
          <p:cNvPicPr/>
          <p:nvPr/>
        </p:nvPicPr>
        <p:blipFill>
          <a:blip r:embed="rId1"/>
          <a:stretch/>
        </p:blipFill>
        <p:spPr>
          <a:xfrm>
            <a:off x="838080" y="838080"/>
            <a:ext cx="7239240" cy="59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C0E6-F10F-4262-BCC6-A7C8274AB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2743200" y="1522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28600" y="1295280"/>
            <a:ext cx="8686800" cy="26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lgrado gli alcani subiscano reazioni radicaliche sia con Cl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he con Br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la clorurazione e la bromurazione mostrano due importanti differenz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lorurazione è più veloce della bromurazion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lorurazione non è selettiva, e fornisce una miscela di prodotti, mentre la bromurazione è spesso selettiva, e fornisce un prodotto principa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fferenze fra Clorurazione e Bromur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0008a"/>
          <p:cNvPicPr/>
          <p:nvPr/>
        </p:nvPicPr>
        <p:blipFill>
          <a:blip r:embed="rId1"/>
          <a:stretch/>
        </p:blipFill>
        <p:spPr>
          <a:xfrm>
            <a:off x="457200" y="4095720"/>
            <a:ext cx="83818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FA1B-60FB-4385-BC17-699C4EE5E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2743200" y="1666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28600" y="1228680"/>
            <a:ext cx="868680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carboni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llilico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è un carbonio adiacente a un doppio legam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omolisi del legame C—H allilico del propene genera 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adica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llilic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che ha un elettrone spaiato sul carbonio adiacente al doppio legam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Radicalica al Carbonio Allilic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0013b"/>
          <p:cNvPicPr/>
          <p:nvPr/>
        </p:nvPicPr>
        <p:blipFill>
          <a:blip r:embed="rId1"/>
          <a:stretch/>
        </p:blipFill>
        <p:spPr>
          <a:xfrm>
            <a:off x="914400" y="2843280"/>
            <a:ext cx="7238880" cy="10429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228600" y="3987720"/>
            <a:ext cx="868680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energia di dissociazione di questo processo è inferiore anche a quella di un legame C—H 3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91 kcal/mol)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Questo significa che 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adica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llilic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più stabile del radicale 3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0013c"/>
          <p:cNvPicPr/>
          <p:nvPr/>
        </p:nvPicPr>
        <p:blipFill>
          <a:blip r:embed="rId2"/>
          <a:stretch/>
        </p:blipFill>
        <p:spPr>
          <a:xfrm>
            <a:off x="685800" y="5518080"/>
            <a:ext cx="822960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05DC-B41E-4DAC-BA4C-FEB182F12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2895480" y="2286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28600" y="16002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radicale allilico è più stabile di altri radicali in quanto può essere descritto con due strutture di risonanza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Radicalica al Carbonio Allilic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"/>
          <p:cNvPicPr/>
          <p:nvPr/>
        </p:nvPicPr>
        <p:blipFill>
          <a:blip r:embed="rId1"/>
          <a:stretch/>
        </p:blipFill>
        <p:spPr>
          <a:xfrm>
            <a:off x="380880" y="2828880"/>
            <a:ext cx="84646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31B5-682B-4517-B2DF-4F5850A4F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2895480" y="763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28600" y="1143000"/>
            <a:ext cx="86868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HBr si lega agli alcheni per formare bromuri alchilici in presenza di luce, calore o perossid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regioselettività dell’addizione a un alchene asimmetrico è diversa dall’addizione di HBr in assenza di luce, calore o perossidi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52280" y="6094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0018c"/>
          <p:cNvPicPr/>
          <p:nvPr/>
        </p:nvPicPr>
        <p:blipFill>
          <a:blip r:embed="rId1"/>
          <a:stretch/>
        </p:blipFill>
        <p:spPr>
          <a:xfrm>
            <a:off x="685800" y="2878200"/>
            <a:ext cx="8077320" cy="29890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228600" y="594360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ddizione di HBr ad alcheni in presenza di luce, calore o perossidi avviene con un meccanismo radicalico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3971-677F-4B97-BE58-13FB90FE6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3200400" y="763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cal Rea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52280" y="51768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mechanism_154_c_la_764"/>
          <p:cNvPicPr/>
          <p:nvPr/>
        </p:nvPicPr>
        <p:blipFill>
          <a:blip r:embed="rId1"/>
          <a:stretch/>
        </p:blipFill>
        <p:spPr>
          <a:xfrm>
            <a:off x="533520" y="1095480"/>
            <a:ext cx="784836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9648-279A-40B7-88E4-D509A9A3C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895480" y="763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28600" y="1136520"/>
            <a:ext cx="868680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re che nel primo stadio di propagazione (l’addizione di B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al doppio legame) ci sono due possibili percors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percorso [A] forma il radicale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meno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percorso [B] forma il radicale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52280" y="577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228600" y="3139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radicale 2° più stabile si forma più velocemente, e quindi il percorso [B] è favori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0019"/>
          <p:cNvPicPr/>
          <p:nvPr/>
        </p:nvPicPr>
        <p:blipFill>
          <a:blip r:embed="rId1"/>
          <a:stretch/>
        </p:blipFill>
        <p:spPr>
          <a:xfrm>
            <a:off x="685800" y="4143240"/>
            <a:ext cx="777240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5207-ED44-44BD-A070-B937E2933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895480" y="1666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228600" y="12510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radicalico mostra anche perchè la regioselettività dell’addizione di HBr dipende dalle condizioni di re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30592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C018-60EB-45E6-A979-87FC206C3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1295280"/>
            <a:ext cx="868680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significativo gruppo di reazioni prevede intermedi radicalic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adic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 intermedio reattivo con un singolo elettrone spaiato, che si forma dall’omolisi di un legame coval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radicale contiene un atomo che non ha un ottetto di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mostrare il movimento di singoli elettroni nei processi radicalici si usa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recce a una sola punta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0001a"/>
          <p:cNvPicPr/>
          <p:nvPr/>
        </p:nvPicPr>
        <p:blipFill>
          <a:blip r:embed="rId1"/>
          <a:stretch/>
        </p:blipFill>
        <p:spPr>
          <a:xfrm>
            <a:off x="2971800" y="5372280"/>
            <a:ext cx="297180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F680-2EE4-4FF3-AF6B-735CB7417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2895480" y="2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533600"/>
            <a:ext cx="86868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radicali del carbonio sono classificati come primari (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econdari (2°) o terziari 3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carbonio radicalico è ibrida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d è trigonale planare, come i carbocationi ibridat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orbitale non ibrid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tiene un elettrone spaiato e si estende al di sopra e al di sotto del carbonio trigonale plan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0001b"/>
          <p:cNvPicPr/>
          <p:nvPr/>
        </p:nvPicPr>
        <p:blipFill>
          <a:blip r:embed="rId1"/>
          <a:stretch/>
        </p:blipFill>
        <p:spPr>
          <a:xfrm>
            <a:off x="685800" y="4495680"/>
            <a:ext cx="78487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2E37-7DE1-4EC2-8224-1DAB406DE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52280" y="882720"/>
            <a:ext cx="87631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9"/>
          <p:cNvSpPr/>
          <p:nvPr/>
        </p:nvSpPr>
        <p:spPr>
          <a:xfrm>
            <a:off x="228600" y="396252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7716960" cy="2332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4"/>
          <p:cNvSpPr/>
          <p:nvPr/>
        </p:nvSpPr>
        <p:spPr>
          <a:xfrm>
            <a:off x="147600" y="4038480"/>
            <a:ext cx="22975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13.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bilità relativa di radical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 carbonio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 e 2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6" descr=""/>
          <p:cNvPicPr/>
          <p:nvPr/>
        </p:nvPicPr>
        <p:blipFill>
          <a:blip r:embed="rId2"/>
          <a:stretch/>
        </p:blipFill>
        <p:spPr>
          <a:xfrm>
            <a:off x="380880" y="4952880"/>
            <a:ext cx="7804440" cy="16588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7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1448-C859-421A-A8EE-E221233A7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28600" y="1143000"/>
            <a:ext cx="8686800" cy="56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radicali si formano dalla rottura di legami covalenti per aggiunta di energia sotto forma di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lore (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uce (h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cune reazioni radicaliche avvengono in presenza di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iziatore radicalic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iniziatori radicalici contengono un legame particolarmente debole che serve come sorgente di radica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 perossid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composti con struttura generale RO—OR, sono gli iniziatori radicalici usati più comune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caldando un perossido si causa l’omolisi del debole legame O—O, che forma due radicali RO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radicali danno due principali tipi di reazione—reagiscono con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onds, e si addizionano a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e Reazioni Radicalich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3271-0D58-4FB5-A0DA-9248D3891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28600" y="1143000"/>
            <a:ext cx="86868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 radicale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trappa un atomo di idrogeno da un legame 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C—H per formare H—X e un carbonio radical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52280" y="65412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azione di un Radicale X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con un legame C-H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0003a"/>
          <p:cNvPicPr/>
          <p:nvPr/>
        </p:nvPicPr>
        <p:blipFill>
          <a:blip r:embed="rId1"/>
          <a:stretch/>
        </p:blipFill>
        <p:spPr>
          <a:xfrm>
            <a:off x="1690560" y="1905120"/>
            <a:ext cx="5624640" cy="15238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228600" y="4114800"/>
            <a:ext cx="86868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 radicale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i può anche addizionare al legam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di un doppio legame carbonio—carboni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0003b"/>
          <p:cNvPicPr/>
          <p:nvPr/>
        </p:nvPicPr>
        <p:blipFill>
          <a:blip r:embed="rId2"/>
          <a:stretch/>
        </p:blipFill>
        <p:spPr>
          <a:xfrm>
            <a:off x="2209680" y="4924440"/>
            <a:ext cx="4724640" cy="17049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152280" y="358128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azione di un Radicale X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con un legame C=C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8961-90EC-4B79-BFA6-F3599D6E7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28600" y="847800"/>
            <a:ext cx="868680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 radicale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, una volta formato, reagisce rapidamente con qualsiasi specie disponibile, di solito con un legam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o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stabil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Due radicali reagiscono per formare un legam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ue Radicali che reagiscono l’uno con l’altr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0003c"/>
          <p:cNvPicPr/>
          <p:nvPr/>
        </p:nvPicPr>
        <p:blipFill>
          <a:blip r:embed="rId1"/>
          <a:stretch/>
        </p:blipFill>
        <p:spPr>
          <a:xfrm>
            <a:off x="2343240" y="2287440"/>
            <a:ext cx="4743360" cy="12938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228600" y="358128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reazione di un radicale con ossigeno (che nella sua configurazione elettronica più stabile è un diradicale) è un altro esempio di due radicali che reagiscono l’uno con l’altr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0003d"/>
          <p:cNvPicPr/>
          <p:nvPr/>
        </p:nvPicPr>
        <p:blipFill>
          <a:blip r:embed="rId2"/>
          <a:stretch/>
        </p:blipFill>
        <p:spPr>
          <a:xfrm>
            <a:off x="990720" y="4648320"/>
            <a:ext cx="7010280" cy="788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"/>
          <p:cNvSpPr/>
          <p:nvPr/>
        </p:nvSpPr>
        <p:spPr>
          <a:xfrm>
            <a:off x="228600" y="5410080"/>
            <a:ext cx="868680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 composti che impediscono alle reazioni radicaliche di avvenire sono chiamati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inibitor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adicalic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sequestratori radicalic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Oltre a O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anche la vitamina E e altri composti correlati sono inibitori radica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2819520" y="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880A-BD69-411F-A4D7-F289FC94E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2895480" y="763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28600" y="1066680"/>
            <a:ext cx="8686800" cy="29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 presenza di calore o di luce, gli alcani reagiscono con gli alogeni per formare alogenuri alchi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logenazione è una reazione di sostituzione radicalic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logenazione degli alcani è utilizzabile solo con Cl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o Br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La reazione con F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troppo violenta, e la reazione con I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troppo lenta per essere di utilità pratic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 un alcano che possiede più di un tipo di atomi di idrogeno, la reazione può fornire una miscela di alogenuri alchi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0004b"/>
          <p:cNvPicPr/>
          <p:nvPr/>
        </p:nvPicPr>
        <p:blipFill>
          <a:blip r:embed="rId1"/>
          <a:stretch/>
        </p:blipFill>
        <p:spPr>
          <a:xfrm>
            <a:off x="304920" y="4038480"/>
            <a:ext cx="84582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29B8-0D10-4708-9485-80D006A0C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"/>
          <p:cNvPicPr/>
          <p:nvPr/>
        </p:nvPicPr>
        <p:blipFill>
          <a:blip r:embed="rId1"/>
          <a:stretch/>
        </p:blipFill>
        <p:spPr>
          <a:xfrm>
            <a:off x="1273320" y="5105520"/>
            <a:ext cx="7794360" cy="14731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"/>
          <p:cNvSpPr/>
          <p:nvPr/>
        </p:nvSpPr>
        <p:spPr>
          <a:xfrm>
            <a:off x="2895480" y="763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28600" y="1082520"/>
            <a:ext cx="8686800" cy="37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un singolo atomo di idrogeno, su un carbonio, viene sostituito da un atomo di alogeno si ha la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onoalogenazion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viene usato un eccesso di alogeno, è possibile sostituire più di un atomo di idrogeno, su un singolo carbonio, con atomi di aloge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monoalogenazione può essere ottenuta sperimentalmente aggiungendo alogeno 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 un eccesso di alca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disegnare i prodotti di alogenazione di un alcano, bisogna disegnare solo i prodotti di monoalogenazione, a meno che non sia indicato di fare altrimenti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2560" y="4724280"/>
            <a:ext cx="20858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13.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ogenazione completa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 C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usando u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cesso di C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20T09:06:37Z</dcterms:modified>
  <cp:revision>871</cp:revision>
  <dc:subject/>
  <dc:title>PowerPoint Presentation</dc:title>
</cp:coreProperties>
</file>