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7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602-EA91-4F1E-9207-CEB0111A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121-4684-4547-B4F8-96772101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C610-9491-4781-ACCC-31EB7B3A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3DC2-9168-4085-97E0-FED0BC81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3FB-BC29-4B55-BEA5-37332AB0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AB6-7595-4F9C-8B19-886ADA80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0C7-C19E-4BA4-8B1B-52D7754C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717-0956-4551-8001-C2025B70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A32-C1B6-490D-98DF-9E68CFF2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911D-36C9-4479-A08D-04070D5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A35-A084-480C-A4E0-3154875D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BC5-8238-4364-88A5-779D993E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94C-DE59-49F7-A3B5-1DC82B63B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4EF-5E9B-4F89-B4DD-8EA2AEEEA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52800" y="3809880"/>
            <a:ext cx="506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178-8B16-4E32-859F-409D24D30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28600" y="16765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e evidenze dell’alogenazione suggeriscono che il meccanismo coinvolge intermedi radicalici, e non ionic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0005"/>
          <p:cNvPicPr/>
          <p:nvPr/>
        </p:nvPicPr>
        <p:blipFill>
          <a:blip r:embed="rId1"/>
          <a:stretch/>
        </p:blipFill>
        <p:spPr>
          <a:xfrm>
            <a:off x="457200" y="2743200"/>
            <a:ext cx="830592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DB6B-BAAC-4046-B29A-C1124066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8954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28600" y="1143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logenazione radicalica ha tre passaggi distin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—Meccanismo di Re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28600" y="4572000"/>
            <a:ext cx="8686800" cy="21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 meccanismo (come l’alogenazione radicalica), che prevede due o più stadi che si ripetono,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eccanismo a caten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i stadi più importanti dell’alogenazione radicalica son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gli stadi di propagazione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 portano alla formazione dei prodott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C56-5C5A-4490-8AC3-EEA13BEA5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152388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—Meccanism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mechanism_151_c_la_764"/>
          <p:cNvPicPr/>
          <p:nvPr/>
        </p:nvPicPr>
        <p:blipFill>
          <a:blip r:embed="rId1"/>
          <a:stretch/>
        </p:blipFill>
        <p:spPr>
          <a:xfrm>
            <a:off x="838080" y="838080"/>
            <a:ext cx="72392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0DAD-1F21-420D-8B5D-B6061E30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7432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295280"/>
            <a:ext cx="86868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lgrado gli alcani subiscano reazioni radicaliche sia con Cl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he con Br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la clorurazione e la bromurazione mostrano due importanti differenz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è più veloce della bromur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clorurazione non è selettiva, e fornisce una miscela di prodotti, mentre la bromurazione è spesso selettiva, e fornisce un prodotto principa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ze fra Clorurazione e Bromur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0008a"/>
          <p:cNvPicPr/>
          <p:nvPr/>
        </p:nvPicPr>
        <p:blipFill>
          <a:blip r:embed="rId1"/>
          <a:stretch/>
        </p:blipFill>
        <p:spPr>
          <a:xfrm>
            <a:off x="457200" y="4095720"/>
            <a:ext cx="83818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2209-2FF1-4F3B-83E4-80FB183B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743200" y="166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2868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carboni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è un carbonio adiacente a un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omolisi del legame C—H allilico del propene genera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che ha un elettrone spaiato sul carbonio adiacente al doppio legam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13b"/>
          <p:cNvPicPr/>
          <p:nvPr/>
        </p:nvPicPr>
        <p:blipFill>
          <a:blip r:embed="rId1"/>
          <a:stretch/>
        </p:blipFill>
        <p:spPr>
          <a:xfrm>
            <a:off x="914400" y="2843280"/>
            <a:ext cx="7238880" cy="1042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228600" y="3987720"/>
            <a:ext cx="868680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energia di dissociazione di questo processo è inferiore anche a quella di un legame C—H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91 kcal/mol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o significa che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ll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più stabile del radicale 3</a:t>
            </a:r>
            <a:r>
              <a:rPr b="1" lang="en-US" sz="21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0013c"/>
          <p:cNvPicPr/>
          <p:nvPr/>
        </p:nvPicPr>
        <p:blipFill>
          <a:blip r:embed="rId2"/>
          <a:stretch/>
        </p:blipFill>
        <p:spPr>
          <a:xfrm>
            <a:off x="685800" y="5518080"/>
            <a:ext cx="8229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161D-8B45-44C4-BEA5-A1575961F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2895480" y="228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28600" y="1600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allilico è più stabile di altri radicali in quanto può essere descritto con due strutture di risonanz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Radicalica al Carbonio Allilic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"/>
          <p:cNvPicPr/>
          <p:nvPr/>
        </p:nvPicPr>
        <p:blipFill>
          <a:blip r:embed="rId1"/>
          <a:stretch/>
        </p:blipFill>
        <p:spPr>
          <a:xfrm>
            <a:off x="380880" y="2828880"/>
            <a:ext cx="84646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2DEC-AB55-472D-B188-966C1483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895480" y="763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HBr si lega agli alcheni per formare bromuri alchilici in presenza di luce, calore o perossid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gioselettività dell’addizione a un alchene asimmetrico è diversa dall’addizione di HBr in assenza di luce, calore o perossid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18c"/>
          <p:cNvPicPr/>
          <p:nvPr/>
        </p:nvPicPr>
        <p:blipFill>
          <a:blip r:embed="rId1"/>
          <a:stretch/>
        </p:blipFill>
        <p:spPr>
          <a:xfrm>
            <a:off x="685800" y="2878200"/>
            <a:ext cx="8077320" cy="298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228600" y="594360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ddizione di HBr ad alcheni in presenza di luce, calore o perossidi avviene con un meccanismo radical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409-77A0-48A0-8B56-8284EDD95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200400" y="76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 Rea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1768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mechanism_154_c_la_764"/>
          <p:cNvPicPr/>
          <p:nvPr/>
        </p:nvPicPr>
        <p:blipFill>
          <a:blip r:embed="rId1"/>
          <a:stretch/>
        </p:blipFill>
        <p:spPr>
          <a:xfrm>
            <a:off x="533520" y="1095480"/>
            <a:ext cx="78483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2418-4E85-4912-BA70-DA91647D7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2895480" y="76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136520"/>
            <a:ext cx="868680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nel primo stadio di propagazione (l’addizione di 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al doppio legame) ci sono due possibili percor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A] forma il radica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eno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308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ercorso [B] forma il radicale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39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radicale 2° più stabile si forma più velocemente, e quindi il percorso [B] è favori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0019"/>
          <p:cNvPicPr/>
          <p:nvPr/>
        </p:nvPicPr>
        <p:blipFill>
          <a:blip r:embed="rId1"/>
          <a:stretch/>
        </p:blipFill>
        <p:spPr>
          <a:xfrm>
            <a:off x="685800" y="4143240"/>
            <a:ext cx="77724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DE5F-211F-45C5-B34B-4690C11C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895480" y="16668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28600" y="1251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radicalico mostra anche perchè la regioselettività dell’addizione di HBr dipende dalle condizioni di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zione Radicalica ai Doppi Legami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30592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98A7-DB61-429B-A393-6CB445F56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295280"/>
            <a:ext cx="86868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significativo gruppo di reazioni prevede intermedi radical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dic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intermedio reattivo con un singolo elettrone spaiato, che si forma dall’omolisi di un legame coval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radicale contiene un atomo che non ha un ottetto di elettro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mostrare il movimento di singoli elettroni nei processi radicalici si us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recce a una sola punta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0001a"/>
          <p:cNvPicPr/>
          <p:nvPr/>
        </p:nvPicPr>
        <p:blipFill>
          <a:blip r:embed="rId1"/>
          <a:stretch/>
        </p:blipFill>
        <p:spPr>
          <a:xfrm>
            <a:off x="2971800" y="5372280"/>
            <a:ext cx="297180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AE91-3699-44B6-BD26-61F177F56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895480" y="2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53360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el carbonio sono classificati come primari (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econdari (2°) o terziari 3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carbonio radicalico è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 è trigonale planare, come i carbocationi ibridat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orbitale non ibrid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iene un elettrone spaiato e si estende al di sopra e al di sotto del carbonio trigonal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85800" y="4495680"/>
            <a:ext cx="784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CAC5-248A-433E-957F-92B995FA4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2280" y="882720"/>
            <a:ext cx="87631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228600" y="39625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7716960" cy="2332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147600" y="4038480"/>
            <a:ext cx="2297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bilità relativa di radical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arbonio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 e 2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7804440" cy="1658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1EB9-DF95-46C5-A469-EB9BD5646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28600" y="1143000"/>
            <a:ext cx="8686800" cy="56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si formano dalla rottura di legami covalenti per aggiunta di energia sotto for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lore (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(h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reazioni radicaliche avvengono in presenza di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iziatore radical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niziatori radicalici contengono un legame particolarmente debole che serve come sorgente di radic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perossi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posti con struttura generale RO—OR, sono gli iniziatori radicalici usati più comune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caldando un perossido si causa l’omolisi del debole legame O—O, che forma due radicali R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adicali danno due principali tipi di reazione—reagiscono con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onds, e si addizionano a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e Reazioni Radicalich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6660-5F1D-4D24-A8B8-65334504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1430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trappa un atomo di idrogeno da un legame 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—H per formare H—X e un carbonio radical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65412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-H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003a"/>
          <p:cNvPicPr/>
          <p:nvPr/>
        </p:nvPicPr>
        <p:blipFill>
          <a:blip r:embed="rId1"/>
          <a:stretch/>
        </p:blipFill>
        <p:spPr>
          <a:xfrm>
            <a:off x="1690560" y="1905120"/>
            <a:ext cx="5624640" cy="15238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28600" y="4114800"/>
            <a:ext cx="8686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i può anche addizionare al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i un doppio legame carbonio—carboni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0003b"/>
          <p:cNvPicPr/>
          <p:nvPr/>
        </p:nvPicPr>
        <p:blipFill>
          <a:blip r:embed="rId2"/>
          <a:stretch/>
        </p:blipFill>
        <p:spPr>
          <a:xfrm>
            <a:off x="2209680" y="4924440"/>
            <a:ext cx="472464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52280" y="35812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azione di un Radicale X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on un legame C=C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819520" y="152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71C3-7E6C-4084-B190-01CBCA4B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847800"/>
            <a:ext cx="868680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 radicale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, una volta formato, reagisce rapidamente con qualsiasi specie disponibile, di solito con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stab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ue radicali reagiscono per formare un legam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e Radicali che reagiscono l’uno con l’altr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0003c"/>
          <p:cNvPicPr/>
          <p:nvPr/>
        </p:nvPicPr>
        <p:blipFill>
          <a:blip r:embed="rId1"/>
          <a:stretch/>
        </p:blipFill>
        <p:spPr>
          <a:xfrm>
            <a:off x="2343240" y="2287440"/>
            <a:ext cx="4743360" cy="12938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28600" y="3581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reazione di un radicale con ossigeno (che nella sua configurazione elettronica più stabile è un diradicale) è un altro esempio di due radicali che reagiscono l’uno con l’altr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0003d"/>
          <p:cNvPicPr/>
          <p:nvPr/>
        </p:nvPicPr>
        <p:blipFill>
          <a:blip r:embed="rId2"/>
          <a:stretch/>
        </p:blipFill>
        <p:spPr>
          <a:xfrm>
            <a:off x="990720" y="4648320"/>
            <a:ext cx="7010280" cy="788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28600" y="541008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mposti che impediscono alle reazioni radicaliche di avvenire sono chiamati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nibito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equestratori radica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Oltre a O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anche la vitamina E e altri composti correlati sono inibitori radica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2819520" y="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E824-3AC1-4D6A-86D4-3932BAF96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2895480" y="763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1066680"/>
            <a:ext cx="8686800" cy="29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calore o di luce, gli alcani reagiscono con gli alogeni per formare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è una reazione di sostituzione radical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logenazione degli alcani è utilizzabile solo con Cl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La reazione con F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violenta, e la reazione con I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troppo lenta per essere di utilità pratic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 un alcano che possiede più di un tipo di atomi di idrogeno, la reazione può fornire una miscela di alogenuri alchi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0004b"/>
          <p:cNvPicPr/>
          <p:nvPr/>
        </p:nvPicPr>
        <p:blipFill>
          <a:blip r:embed="rId1"/>
          <a:stretch/>
        </p:blipFill>
        <p:spPr>
          <a:xfrm>
            <a:off x="304920" y="4038480"/>
            <a:ext cx="845820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A8FD-3249-46BA-93F1-0969B43E8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273320" y="5105520"/>
            <a:ext cx="7794360" cy="1473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"/>
          <p:cNvSpPr/>
          <p:nvPr/>
        </p:nvSpPr>
        <p:spPr>
          <a:xfrm>
            <a:off x="2895480" y="76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zioni Radicali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28600" y="1082520"/>
            <a:ext cx="8686800" cy="37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un singolo atomo di idrogeno, su un carbonio, viene sostituito da un atomo di alogeno si ha la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alogenazio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viene usato un eccesso di alogeno, è possibile sostituire più di un atomo di idrogeno, su un singolo carbonio, con atomi di aloge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monoalogenazione può essere ottenuta sperimentalmente aggiungendo alogeno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 un eccesso di alc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disegnare i prodotti di alogenazione di un alcano, bisogna disegnare solo i prodotti di monoalogenazione, a meno che non sia indicato di fare altrimenti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azione degli Alca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52560" y="4724280"/>
            <a:ext cx="20858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13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ogenazione complet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C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usando u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ccesso di C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06:37Z</dcterms:modified>
  <cp:revision>871</cp:revision>
  <dc:subject/>
  <dc:title>PowerPoint Presentation</dc:title>
</cp:coreProperties>
</file>