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7.wmf" ContentType="image/x-wmf"/>
  <Override PartName="/ppt/media/image56.wmf" ContentType="image/x-wmf"/>
  <Override PartName="/ppt/media/image55.wmf" ContentType="image/x-wmf"/>
  <Override PartName="/ppt/media/image98.png" ContentType="image/png"/>
  <Override PartName="/ppt/media/image54.wmf" ContentType="image/x-wmf"/>
  <Override PartName="/ppt/media/image97.png" ContentType="image/png"/>
  <Override PartName="/ppt/media/image53.wmf" ContentType="image/x-wmf"/>
  <Override PartName="/ppt/media/image50.png" ContentType="image/png"/>
  <Override PartName="/ppt/media/image48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19.png" ContentType="image/png"/>
  <Override PartName="/ppt/media/image40.wmf" ContentType="image/x-wmf"/>
  <Override PartName="/ppt/media/image6.png" ContentType="image/png"/>
  <Override PartName="/ppt/media/image18.png" ContentType="image/png"/>
  <Override PartName="/ppt/media/image83.png" ContentType="image/png"/>
  <Override PartName="/ppt/media/image47.jpeg" ContentType="image/jpeg"/>
  <Override PartName="/ppt/media/image90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2.wmf" ContentType="image/x-wmf"/>
  <Override PartName="/ppt/media/image31.wmf" ContentType="image/x-wmf"/>
  <Override PartName="/ppt/media/image74.png" ContentType="image/png"/>
  <Override PartName="/ppt/media/image30.wmf" ContentType="image/x-wmf"/>
  <Override PartName="/ppt/media/image73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52.png" ContentType="image/png"/>
  <Override PartName="/ppt/media/image13.wmf" ContentType="image/x-wmf"/>
  <Override PartName="/ppt/media/image5.png" ContentType="image/png"/>
  <Override PartName="/ppt/media/image82.png" ContentType="image/png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62.wmf" ContentType="image/x-wmf"/>
  <Override PartName="/ppt/media/image22.png" ContentType="image/png"/>
  <Override PartName="/ppt/media/image63.wmf" ContentType="image/x-wmf"/>
  <Override PartName="/ppt/media/image64.wmf" ContentType="image/x-wmf"/>
  <Override PartName="/ppt/media/image28.wmf" ContentType="image/x-wmf"/>
  <Override PartName="/ppt/media/image65.wmf" ContentType="image/x-wmf"/>
  <Override PartName="/ppt/media/image25.png" ContentType="image/png"/>
  <Override PartName="/ppt/media/image66.wmf" ContentType="image/x-wmf"/>
  <Override PartName="/ppt/media/image67.wmf" ContentType="image/x-wmf"/>
  <Override PartName="/ppt/media/image68.wmf" ContentType="image/x-wmf"/>
  <Override PartName="/ppt/media/image24.wmf" ContentType="image/x-wmf"/>
  <Override PartName="/ppt/media/image61.wmf" ContentType="image/x-wmf"/>
  <Override PartName="/ppt/media/image96.wmf" ContentType="image/x-wmf"/>
  <Override PartName="/ppt/media/image17.wmf" ContentType="image/x-wmf"/>
  <Override PartName="/ppt/media/image72.wmf" ContentType="image/x-wmf"/>
  <Override PartName="/ppt/media/image23.wmf" ContentType="image/x-wmf"/>
  <Override PartName="/ppt/media/image60.wmf" ContentType="image/x-wmf"/>
  <Override PartName="/ppt/media/image99.wmf" ContentType="image/x-wmf"/>
  <Override PartName="/ppt/media/image2.jpeg" ContentType="image/jpeg"/>
  <Override PartName="/ppt/media/image95.wmf" ContentType="image/x-wmf"/>
  <Override PartName="/ppt/media/image45.jpeg" ContentType="image/jpeg"/>
  <Override PartName="/ppt/media/image69.wmf" ContentType="image/x-wmf"/>
  <Override PartName="/ppt/media/image71.png" ContentType="image/png"/>
  <Override PartName="/ppt/media/image88.wmf" ContentType="image/x-wmf"/>
  <Override PartName="/ppt/media/image51.wmf" ContentType="image/x-wmf"/>
  <Override PartName="/ppt/media/image93.png" ContentType="image/png"/>
  <Override PartName="/ppt/media/image76.wmf" ContentType="image/x-wmf"/>
  <Override PartName="/ppt/media/image87.wmf" ContentType="image/x-wmf"/>
  <Override PartName="/ppt/media/image75.wmf" ContentType="image/x-wmf"/>
  <Override PartName="/ppt/media/image70.jpeg" ContentType="image/jpeg"/>
  <Override PartName="/ppt/media/image78.wmf" ContentType="image/x-wmf"/>
  <Override PartName="/ppt/media/image77.wmf" ContentType="image/x-wmf"/>
  <Override PartName="/ppt/media/image21.png" ContentType="image/png"/>
  <Override PartName="/ppt/media/image89.wmf" ContentType="image/x-wmf"/>
  <Override PartName="/ppt/media/image27.wmf" ContentType="image/x-wmf"/>
  <Override PartName="/ppt/media/image92.wmf" ContentType="image/x-wmf"/>
  <Override PartName="/ppt/media/image59.wmf" ContentType="image/x-wmf"/>
  <Override PartName="/ppt/media/image12.wmf" ContentType="image/x-wmf"/>
  <Override PartName="/ppt/media/image20.jpeg" ContentType="image/jpeg"/>
  <Override PartName="/ppt/media/image16.wmf" ContentType="image/x-wmf"/>
  <Override PartName="/ppt/media/image81.wmf" ContentType="image/x-wmf"/>
  <Override PartName="/ppt/media/image1.png" ContentType="image/png"/>
  <Override PartName="/ppt/media/image29.wmf" ContentType="image/x-wmf"/>
  <Override PartName="/ppt/media/image94.wmf" ContentType="image/x-wmf"/>
  <Override PartName="/ppt/media/image91.wmf" ContentType="image/x-wmf"/>
  <Override PartName="/ppt/media/image26.wmf" ContentType="image/x-wmf"/>
  <Override PartName="/ppt/media/image58.png" ContentType="image/png"/>
  <Override PartName="/ppt/media/image15.wmf" ContentType="image/x-wmf"/>
  <Override PartName="/ppt/media/image46.jpeg" ContentType="image/jpeg"/>
  <Override PartName="/ppt/media/image80.wmf" ContentType="image/x-wmf"/>
  <Override PartName="/ppt/media/image3.wmf" ContentType="image/x-wmf"/>
  <Override PartName="/ppt/media/image33.wmf" ContentType="image/x-wmf"/>
  <Override PartName="/ppt/media/image14.wmf" ContentType="image/x-wmf"/>
  <Override PartName="/ppt/media/image10.wmf" ContentType="image/x-wmf"/>
  <Override PartName="/ppt/media/image11.png" ContentType="image/png"/>
  <Override PartName="/ppt/media/image79.wmf" ContentType="image/x-wmf"/>
  <Override PartName="/ppt/media/image84.wmf" ContentType="image/x-wmf"/>
  <Override PartName="/ppt/media/image7.wmf" ContentType="image/x-wmf"/>
  <Override PartName="/ppt/media/image37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0140-AD2C-42B0-B81E-6DD4F26B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41F5-8E62-4849-9EFD-9322EEC5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6DB6-9422-46E4-B008-DA65F33D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D2A5-EA19-4A19-B594-21FCF356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3A11-0C73-4F4B-B947-1453E64E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0F03-1F23-4800-90AE-F9E7614B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71D7-07BD-4766-B153-49DF195A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3E6E-3716-4C39-80AD-DA164768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88FE-D119-489C-9131-720EDD8D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0ABA-6B92-4874-9E46-443DB57C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9DDB-3461-4481-8F0D-19E1BFD2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6BEF-EC99-4A9D-98F7-E2EEC93D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55DC-96E1-4DD4-894F-E78157E6A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png"/><Relationship Id="rId3" Type="http://schemas.openxmlformats.org/officeDocument/2006/relationships/image" Target="../media/image7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7.wmf"/><Relationship Id="rId3" Type="http://schemas.openxmlformats.org/officeDocument/2006/relationships/image" Target="../media/image78.wmf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3.png"/><Relationship Id="rId3" Type="http://schemas.openxmlformats.org/officeDocument/2006/relationships/image" Target="../media/image84.wmf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6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image" Target="../media/image92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6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061F-2E49-42F0-866D-CF92B0813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752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359080" y="3809880"/>
            <a:ext cx="463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828800" y="6172200"/>
            <a:ext cx="5943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9 The McGraw-Hill Companies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D739-6E26-41DD-99BA-E61942CA5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228600" y="1525680"/>
            <a:ext cx="8686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 idrogeno forma un legame coval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due atomi di idrogeno sono legati da un legame, ognuno presenta un livello di valenza con due elett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2280" y="990720"/>
            <a:ext cx="64008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l legame nell’idrogeno molecolare (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57400" y="3809880"/>
            <a:ext cx="488628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2E6B-DCC8-4B7E-AA7E-4C2805AC9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304920" y="838080"/>
            <a:ext cx="8534160" cy="58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elementi della seconda riga non possono avere più di otto elettroni intorno. Per le molecole neutre, questo ha due conseguenz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tomi con uno, due o tre  elettroni di valenza formano uno, due o tre legami rispettivamente, in molecole neutr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tomi con quattro o più elettroni di valenza formano legami sufficienti per formare l’ottetto. Questi concetti sono riassunti nella seguente equazione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Quando elementi della seconda riga formano meno di quattro legami i loro ottetti consistono di elettroni sia di legame (condivisi) che di non legame (non condivisi). Gli elettroni non condivisi sono anche chiamati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ppie solitari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52480" y="3962520"/>
            <a:ext cx="5607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6D76-2DC6-4B61-940D-7CEBB937C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2270160"/>
            <a:ext cx="914400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718A-67C3-4D28-B857-FB21BFEED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04920" y="89856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assunto delle strutture di Lew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04920" y="14032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strutture di Lewis sono rappresentazioni delle molecole in cui gli elettroni sono rappresentati con un punto. Ci sono tre regole generali per disegnare strutture di Lew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04920" y="2286000"/>
            <a:ext cx="86104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egnare solo gli elettroni di valenz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gnare ad ogni elemento della seconda riga un ottetto di elettroni, se possib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gnare ad ogni idrogeno due elettron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3581280"/>
            <a:ext cx="726264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AE3F-A579-4EE4-B51E-E33CDB564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52280" y="990720"/>
            <a:ext cx="5639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rica Forma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228600" y="1371600"/>
            <a:ext cx="868680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arica formale è la carica assegnata a singoli atomi in una struttura di Lewi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lcolando la carica formale determiniamo come il numero degli elettroni intorno ad un particolare atomo si confronti con il numero dei suoi elettroni di valenza. La carica formale è calcolata come segu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28600" y="4495680"/>
            <a:ext cx="868680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numero di elettroni “posseduti” da un atomo è determinato dal suo numero di legami e dalle coppie solita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 atomo “possiede”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utt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 suoi elettroni non condivisi 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la met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i quelli condivis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672300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D657-4C1D-4A21-B57E-A88C953D7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28600" y="100656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numero di elettroni “posseduti” da atomi diversi è  indicato negli esempi seguent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98320" y="2762280"/>
            <a:ext cx="79473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5186-D759-4BE7-BE80-F40F46E2C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76320" y="1341360"/>
            <a:ext cx="719136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ED67-0910-4B55-91C0-04D4FFF90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28600" y="685800"/>
            <a:ext cx="2057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somer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28600" y="1066680"/>
            <a:ext cx="8763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 disegnare una struttura di Lewis per una molecola con molti atomi, qualche volta per una data formula molecolare è possibile più di una disposizione degli atomi che la costituiscono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sempi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28600" y="4495680"/>
            <a:ext cx="876312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ambe sono strutture di Lewis valide ed entrambe le molecole esistono. Questi due composti sono chiamati isomer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Gli isomeri sono molecole diverse che hanno la stessa formula molecolare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’etanolo e l’etere dimetilico sono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someri costituzional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452736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8AFB-F77D-4147-9DC8-04CE193D4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152280" y="974880"/>
            <a:ext cx="6629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ccezioni alla regola dell’ottett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30 second row elements without an octet"/>
          <p:cNvPicPr/>
          <p:nvPr/>
        </p:nvPicPr>
        <p:blipFill>
          <a:blip r:embed="rId1"/>
          <a:stretch/>
        </p:blipFill>
        <p:spPr>
          <a:xfrm>
            <a:off x="2057400" y="2057400"/>
            <a:ext cx="5143680" cy="14367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304920" y="14479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nei Gruppi 2A e 3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28600" y="36576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nella terza rig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650052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94ED-00A0-4EF1-BA19-F8203F4D7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28600" y="533520"/>
            <a:ext cx="2781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28600" y="1066680"/>
            <a:ext cx="86868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cune molecole non possono essere adeguatamente rappresentate da una singola struttura di Lewis. Per esempio, due valide strutture di Lewis possono essere disegnate per l’anione (HCONH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Una struttura presenta l’atomo di azoto carico negativamente ed un doppio legame C-O; l’altra presenta un atomo di ossigeno carico negativamente ed un doppio legame C-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04920" y="4618080"/>
            <a:ext cx="861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ste strutture sono chiamate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trutture di risonanz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forme di risonanz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Una freccia a due punte viene usata per separare le strutture di risonanz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71600" y="5791320"/>
            <a:ext cx="6688080" cy="556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743200" y="3200400"/>
            <a:ext cx="373536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9021-4E15-479C-8333-9AEA01E6E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304920" y="4724280"/>
            <a:ext cx="8534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nucleo contiene protoni carichi positivamente e neutroni neutr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nuvola elettronica è composta da elettroni carichi negativ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808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63600" y="1828800"/>
            <a:ext cx="481500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4D10-A09A-4121-9355-017E2EB3B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228600" y="685800"/>
            <a:ext cx="693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roduzione alla Teoria della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90440" y="9144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66760" y="10666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66760" y="11430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lativamente alle due strutture di risonanza di (HCONH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qui mostrate, si deve notare ch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04920" y="3200400"/>
            <a:ext cx="853416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ssuna struttura di risonanza è un’accurata rappresentazione per (HCONH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La vera struttura è una struttura mista di entrambe le forme di risonanza ed è chiamat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brido di risonanz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’ibrido mostra caratteristiche di entrambe le struttu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risonanza fa sì che alcune coppie elettroniche risultino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localizz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 due o più atomi, e quest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localizazione aumenta la stabilit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a molecola con due o più forme di risonanza viene detta esser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tabilizzata per risonanz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373536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2BB6-789F-4C7A-BB7F-A3B0DFCE9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228600" y="746280"/>
            <a:ext cx="6705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roduzione alla Teoria della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66760" y="1263600"/>
            <a:ext cx="8610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icorda i seguenti principi di base della teoria della risonanza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28600" y="2209680"/>
            <a:ext cx="8610480" cy="39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437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e strutture di risonanza non sono real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Una singola struttura di risonanza non rappresenta in modo adeguato la struttura di una molecola o di uno ione. Ciò vale solo per l’ibrido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437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e strutture di risonanza non sono in equilibrio tra loro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Non c’è movimento di elettroni da una all’altra.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5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e strutture di risonanza non sono isomer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Due isomeri differiscono nella disposizione sia di atomi che di elettroni, mentre le strutture di risonanza differiscono solamente nella disposizione degli elettroni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DC61-0E95-43E5-B729-E622408F3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152280" y="685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strutture di risonan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52280" y="112716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ola [1]: Due strutture di risonanza differiscono nella posizione di legami multipli e di elettroni di non legame. La posizione degli atomi e dei legami singoli rimane sempre la stess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304920" y="470844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ola [2]: Due strutture di risonanza devono avere lo stesso numero di elettroni non accoppiat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470320" y="2317680"/>
            <a:ext cx="4203360" cy="2222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990720" y="5410080"/>
            <a:ext cx="715464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0375-DEB3-4879-ADFB-46B965A3B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04920" y="166068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ola [3]: le strutture di risonanza devono essere strutture di Lewis valide. L’idrogeno deve avere due elettroni e nessun elemento della seconda riga deve avere più di otto elettron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28600" y="9907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strutture di risonan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00400" y="3429000"/>
            <a:ext cx="279864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FFCE-5598-4D74-8B79-A846DBC33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228600" y="457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strutture di risonan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04920" y="838080"/>
            <a:ext cx="85341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9280" algn="just"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17928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 notazione della freccia curv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è una convenzione che viene usata per mostrare come la posizione degli elettroni differisca fra le due forme di risonanz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17928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 notazione della freccia curva mostra il movimento di una coppia di elettroni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coda della freccia inizia sempre da una coppia di elettroni, sia di un legame che di una coppia solitaria. La testa è rivolta dove la coppia di elettroni si “muove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457200" y="32004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empio 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457560" y="501336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empio 2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666880" y="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362320" y="4900680"/>
            <a:ext cx="5029200" cy="1744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666880" y="3200400"/>
            <a:ext cx="49024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1159-BB7A-490C-BC3A-53C8F0829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228600" y="898560"/>
            <a:ext cx="556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empi di strutture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04920" y="53341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i due esempi precedenti, una coppia solitaria è posizionata su un atomo direttamente legato ad un doppio legam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677960" y="2050920"/>
            <a:ext cx="57866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D192-C462-4F8B-AFAF-A6D82C484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304920" y="1066680"/>
            <a:ext cx="556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empi di strutture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304920" y="4876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gli esempi precedenti, un atomo che porta una carica (+) è legato sia ad un doppio legame sia ad un atomo con una coppia solitari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839960" y="2592360"/>
            <a:ext cx="54626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4CF5-72D9-45B2-A29D-405420EE9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304920" y="91440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bridi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80880" y="1371600"/>
            <a:ext cx="83822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 ibrido di risonanza è la struttura composta di tutte le possibili strutture di risonanz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Nell’ibrido di risonanza le coppie di elettroni, disegnate nelle differenti posizioni delle strutture di risonanza individuali, sono delocalizza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due strutture di risonanza sono differenti, l’ibrido assomiglia di più alla struttura di risonanza “migliore”. La struttura di risonanza “migliore” è chiamata i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aggior contribuen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l’ibrido, e tutte le altre so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tribuenti mino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ibrido è la media pesata delle strutture di risonanza contribuen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78C6-BCB7-47A3-8D78-B10899193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304920" y="1371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 struttura di risonanza “migliore” è quella che presenta più legami e meno carich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228600" y="91440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bridi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163600" y="2352600"/>
            <a:ext cx="481500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63AB-F4D8-40C4-AFC6-23ED76463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33520" y="1523880"/>
            <a:ext cx="5257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gli ibridi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2666880" y="6541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52480" y="3200400"/>
            <a:ext cx="582300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9899-B880-4EF4-86B0-D9020B0DA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04920" y="53341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della stessa riga hanno dimensioni sim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della stessa colonna hanno proprietà elettroniche e chimiche sim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808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15960" y="1839960"/>
            <a:ext cx="6110280" cy="3176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400800" y="1371600"/>
            <a:ext cx="24033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2FB0-CB1F-427A-B3FA-0FA216756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228600" y="525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52280" y="609480"/>
            <a:ext cx="6019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28600" y="1143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e variabili definiscono la struttura di una molecola: lunghezza di legame e angolo di lega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304920" y="21337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34128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lunghezza di legame diminuisce lungo una riga della tavola periodica con la diminuzione della dimensione dell’atom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228600" y="42670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34128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lunghezza di legame aumenta scendendo lungo una colonna della tavola periodica con l’aumento della dimensione dell’atom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724280" y="3048120"/>
            <a:ext cx="3735360" cy="1241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495680" y="5486400"/>
            <a:ext cx="3591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E304-1FA3-4DFB-BD1A-57C637063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61960" y="2308320"/>
            <a:ext cx="801864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6BE7-F039-4157-9C2C-B6A3200DC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228600" y="1143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angolo di legame determina la forma intorno ad ogni atomo legato ad altri due atom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52280" y="609480"/>
            <a:ext cx="7239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-L’angolo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380880" y="1905120"/>
            <a:ext cx="84582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numero di gruppi che circonda un  particolare atomo determina la sua geometria. Un gruppo è sia un atomo sia una coppia solitaria di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disposizione più stabile tiene questi gruppi il più possibile distanti uno dall’altro. Questo è esemplificato nella teoria della Repulsione tra le coppie Elettroniche nel Livello di Valenza - Valence Shell Electron Pair Repulsion (VSEPR) theo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905120" y="4952880"/>
            <a:ext cx="542772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F9F8-8F54-4795-91F8-E35D76EDE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76320" y="1203480"/>
            <a:ext cx="7315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—L’angolo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76320" y="17524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circondato da due gruppi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2666880" y="5778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71546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495C-747F-4B7E-97E8-1192981C4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228600" y="1203480"/>
            <a:ext cx="723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—L’angolo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04920" y="182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circondato da tre gruppi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2666880" y="4255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7731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96AF-D3C9-4FC6-BC46-1D99D538C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304920" y="1371600"/>
            <a:ext cx="601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457200" y="1981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circondato da quattro gruppi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666880" y="5778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6686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6F1E-FD98-4C16-8EAC-8CEB8A8EC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04920" y="762120"/>
            <a:ext cx="769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strutture tridimensional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457200" y="1371600"/>
            <a:ext cx="807732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legame nel piano è indicato con una linea piena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legame davanti al piano è indicato con un cune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legame dietro al piano è indicato con una linea tratteggi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7731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8B8C-93FD-4BCF-8F13-668B55355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152280" y="1219320"/>
            <a:ext cx="7696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strutture tridimensional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28600" y="175248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molecole possono essere ruotate nei modi più diversi, generando molte rappresentazioni equivalenti. Tutte queste sono accettabili rapprestazioni del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2666880" y="457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219320" y="3505320"/>
            <a:ext cx="6939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3986-92E3-4C46-950F-F6CF06324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304920" y="1050840"/>
            <a:ext cx="769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strutture tridimensional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457200" y="160020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nei  e tratteggi  sono usati per rappresentare gruppi che stanno in realtà allineati uno dietro l’altro. Nelle due rappresentazioni seguenti, non importa se il tratteggio o il cuneo siano a destra o a sinistra, in quanto i due H sono in realtà allinea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09480" y="3809880"/>
            <a:ext cx="79837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6675-86D9-4D86-B946-CEDF5D531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28600" y="806400"/>
            <a:ext cx="815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na coppia elettronica solitaria viene considerata un “Gruppo”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04920" y="1679400"/>
            <a:ext cx="85341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l’ammoniaca (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uno dei quattro gruppi legati all’N centrale è una coppia solitaria. I tre H e la coppia solitaria sono direzionati secondo i vertici di un tetraedro. L’angolo H-N-H di 10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prossimo all’angolo di legame teorico tetraedrico di 109.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a forma di riferimento è un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iramide trigon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219320" y="3962520"/>
            <a:ext cx="68310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758F-1FC6-4F1B-8F28-5C65AEC89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808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38188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F57E-2B89-4AA8-933A-A845E00A1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304920" y="685800"/>
            <a:ext cx="8534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na coppia elettronica solitaria viene considerata un “Gruppo”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380880" y="1523880"/>
            <a:ext cx="80773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l’acqua 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), due dei quattro gruppi legati all’ O centrale sono coppie solitarie. I due H e le due oppie libere sono direzionati secondo i vertici di un tetraedro. L’angolo H-O-H di 10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prossimo all’angolo di legame teorico tetraedrico di 109.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’acqua ha una forma ad angolo, perchè due dei gruppi che circondano l’ossigeno sono coppie solitarie di elettro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990720" y="4419720"/>
            <a:ext cx="711828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7BF5-F9E5-4F17-A7AC-9750A4AFC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2666880" y="5014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54 water"/>
          <p:cNvPicPr/>
          <p:nvPr/>
        </p:nvPicPr>
        <p:blipFill>
          <a:blip r:embed="rId1"/>
          <a:srcRect l="86608" t="0" r="0" b="0"/>
          <a:stretch/>
        </p:blipFill>
        <p:spPr>
          <a:xfrm>
            <a:off x="990720" y="4267080"/>
            <a:ext cx="990360" cy="17971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53 ammonia"/>
          <p:cNvPicPr/>
          <p:nvPr/>
        </p:nvPicPr>
        <p:blipFill>
          <a:blip r:embed="rId2"/>
          <a:srcRect l="84449" t="0" r="0" b="0"/>
          <a:stretch/>
        </p:blipFill>
        <p:spPr>
          <a:xfrm>
            <a:off x="914400" y="2514600"/>
            <a:ext cx="1066680" cy="1870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50 drawing 3d structures on paper"/>
          <p:cNvPicPr/>
          <p:nvPr/>
        </p:nvPicPr>
        <p:blipFill>
          <a:blip r:embed="rId3"/>
          <a:srcRect l="78503" t="25449" r="8602" b="19445"/>
          <a:stretch/>
        </p:blipFill>
        <p:spPr>
          <a:xfrm>
            <a:off x="838080" y="1219320"/>
            <a:ext cx="1055880" cy="11430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8"/>
          <p:cNvSpPr/>
          <p:nvPr/>
        </p:nvSpPr>
        <p:spPr>
          <a:xfrm>
            <a:off x="2151720" y="1752480"/>
            <a:ext cx="207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no 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2103480" y="3352680"/>
            <a:ext cx="27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moniaca (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2166840" y="5181480"/>
            <a:ext cx="195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qua 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4876920" y="1295280"/>
            <a:ext cx="358128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ntrambe le molecole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, l’angolo di legame è di poco inferiore all’angolo teorico tetraedrico a causa della repulsione delle coppie solitarie di elettroni. Gli atomi legati sono quindi compressi in uno spazio minore con un angolo di legame più piccol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4BF1-0758-4AEB-8992-EEC8DCDAD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304920" y="1432080"/>
            <a:ext cx="815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edire la geometria sulla base del numero dei gruppi attorno all’atomo centra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2666880" y="6541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2630520"/>
            <a:ext cx="914400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6DC4-6A32-4179-9CC7-AE82287DD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152280" y="6094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le molecole organiche—Strutture condens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28600" y="1022400"/>
            <a:ext cx="868680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tti gli atomi vengono disegnati, ma le linee dei legami a due elettroni vengono generalmente omes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i atomi vengono solitamente disegnati  vicini agli atomi ai quali sono legat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 parentesi sono usate intorno a gruppi uguali legati allo stesso atom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 coppie elettroniche solitarie vengono omes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6327720" cy="12952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914400" y="4876920"/>
            <a:ext cx="330372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BCAE-6B39-44CD-92EB-C4F15563B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762120" y="15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strutture condens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80076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DE08-9B05-490F-8047-1E29F6CF1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52280" y="76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strutture condensate contenenti un doppio legame C-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576756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AC19-8FD8-423F-BAA6-1900FD9AA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152280" y="669960"/>
            <a:ext cx="3505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trutture segmentat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228600" y="1117440"/>
            <a:ext cx="86868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mere che ci sia un atomo di carbonio in corrispondenza di ogni giunzione di due segmenti o all’estremità di ogni segment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mere che intorno ad ogni atomo di carbonio ci siano abbastanza idrogeni per renderlo tetravalen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serire tutti gli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eteroatomi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gli H ad essi direttamente legat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143000" y="3581280"/>
            <a:ext cx="683100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B8F5-6233-40BB-8C08-CC53DCD80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152280" y="685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strutture segment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415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2710-6EA9-40C5-B596-CCAF2361B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152280" y="625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ordare quanto segue sull’interpretazione delle strutture segmentate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76320" y="1366920"/>
            <a:ext cx="868680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carica su un atomo di carbonio prende il posto di un atomo di idroge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arica determina il numero di coppie solitarie. Atomi di carbonio con una carica negativa hanno una coppia solitaria e atomi con una carica positiva non ne hanno alcun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697716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CDE4-F2CB-41FF-A09F-59712E778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28600" y="76212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L’idroge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04920" y="129528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un orbitale 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 un atomo di idrogeno si sovrappone all’orbitale 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altro atomo di idrogeno, si forma tra i due nuclei un legame sigma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che concentra la densità elettronica tra i due nucle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o legame ha simmetria cilindrica perchè gli elettroni che formano il legame sono distribuiti simmetricamente attorno ad una linea immaginaria che congiunge i due nucle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219320" y="4495680"/>
            <a:ext cx="65437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08C9-F32A-4A76-A072-35B9B3E9B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52280" y="1295280"/>
            <a:ext cx="8763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 una densità elettonica sferica e una energia più bassa di altri orbitali nello stesso livell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senta una forma a due lobi e contiene un nodo di densità elettronica presso il nucleo. Presenta una energia più alta di 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522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611028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A039-960B-4E67-90DF-63D5D28E0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"/>
          <p:cNvSpPr/>
          <p:nvPr/>
        </p:nvSpPr>
        <p:spPr>
          <a:xfrm>
            <a:off x="228600" y="60948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304920" y="1066680"/>
            <a:ext cx="853416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rendere conto dei tipi di legame osservati in molecole più complesse, dobbiamo esaminare più da vicino gli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gli atomi della seconda rig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carbonio ha due elettroni interni più quattro elettroni di valenza. Per riempire gli orbitali atomici nella configurazione più stabile, gli elettroni sono disposti negli orbitali a più bassa energia. Per questo nel carbonio abbiamo due elettroni nell’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d un elettrone ciascuno nei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304920" y="60642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Nota: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La disposizione a più bassa energia degli elettroni per un atomo prende il nome di stato fondamenta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133720" y="3962520"/>
            <a:ext cx="488628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DE8B-3756-45D0-9DF8-F963B1741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228600" y="99072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04920" y="1523880"/>
            <a:ext cx="853416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questa descrizione, il carbonio dovrebbe formare solo due legami poichè ha solo due elettroni di valenza spaiati, e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vrebbe essere una molecola stabile. In realtà,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a specie altamente reattiva che non può essere isolata nelle normali condizioni di laboratorio. Nel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l carbonio non avrebbe un ottetto di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590920" y="3962520"/>
            <a:ext cx="39510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8843-3CFA-4706-88C8-0A12957B5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"/>
          <p:cNvSpPr/>
          <p:nvPr/>
        </p:nvSpPr>
        <p:spPr>
          <a:xfrm>
            <a:off x="228600" y="68580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304920" y="1219320"/>
            <a:ext cx="8534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’è una seconda possibilità. L’avanzamento di un elettrone da un 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 un 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libero darebbe origine a quattro elettroni spaiati per formare legami. Questo processo richiede energia perchè sposta un elettrone su un orbitale ad energia più elevata. Questa nuova disposizione di elettroni su orbitali a più alta energia è chiamata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stato eccitat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380880" y="51973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sta descrizione però non è ancora adeguata. Il carbonio formerebbe due tipi di legame: tre con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uno con l’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Tuttavia prove sperimentali evidenziano che nel metano il carbonio forma quattro legami identic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066680" y="3352680"/>
            <a:ext cx="75153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D494-E080-4BA1-BBBD-CC89AEF4A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228600" y="74628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04920" y="1204920"/>
            <a:ext cx="853416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risolvere questa incongruenza, i chimici hanno postulato che atomi come il carbonio non usino orbitali pur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er formare i legami, bensì un insieme di nuovi orbitali chiamati orbitali ibrid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Arial"/>
              </a:rPr>
              <a:t>L’ ibridazione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è la combinazione di due o più orbitali atomici per formare lo stesso numero di orbitali ibridi, ognuno dei quali ha la stessa forma ed energi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838080" y="3733920"/>
            <a:ext cx="75866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2E77-3627-4AC8-818E-190EF7855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228600" y="685800"/>
            <a:ext cx="7924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ma ed orientamento di orbitali ibridi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5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04920" y="1112760"/>
            <a:ext cx="853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binando insieme un 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ferico e tre orbitali a forma bilobata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i ottengono quattro orbitali formati da un lobo grande ed un lobo piccol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304920" y="37339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quattro orbitali ibridi sono orientati secondo i vertici di un tetraedro, e formano quattro legami equivalent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6110280" cy="1368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1752480" y="4379760"/>
            <a:ext cx="6664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DA00-484C-4E6B-9366-6A3F1B98E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228600" y="974880"/>
            <a:ext cx="6858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l legame attaverso gli orbitali ibridi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5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304920" y="1494000"/>
            <a:ext cx="85341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legame nel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formato dalla sovrapposizione di un orbitale ibrid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l carbonio con un orbitale 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idrogeno. Questi quattro legami puntano verso i vertici di un tetraed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324480" y="2819520"/>
            <a:ext cx="2546640" cy="6476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733428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1E02-CBE4-4798-AE18-19AA1FF10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"/>
          <p:cNvSpPr/>
          <p:nvPr/>
        </p:nvSpPr>
        <p:spPr>
          <a:xfrm>
            <a:off x="228600" y="685800"/>
            <a:ext cx="4800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ltri modelli di ibridazion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304920" y="1165320"/>
            <a:ext cx="85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tre orbitali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ano quattro orbitali ibrid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due orbitali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ano tre orbitali ibrid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ano due orbitali ibrid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14528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ACEE-0D4B-473E-941D-7F6098304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"/>
          <p:cNvSpPr/>
          <p:nvPr/>
        </p:nvSpPr>
        <p:spPr>
          <a:xfrm>
            <a:off x="228600" y="838080"/>
            <a:ext cx="5181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ltri modelli di ibridazion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304920" y="128268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eterminare l’ibridazione di un atomo in una molecola contare i gruppi intorno all’atomo. Il numero dei gruppi (atomi e coppie elettroniche di non legame) corrisponde al numero degli orbitali atomici che devono essere ibridati per formare gli orbitali ibrid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990720" y="3657600"/>
            <a:ext cx="7118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2595-5440-4AB5-B954-96AC4B940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152280" y="609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ibridaz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7"/>
          <p:cNvSpPr/>
          <p:nvPr/>
        </p:nvSpPr>
        <p:spPr>
          <a:xfrm>
            <a:off x="76320" y="4724280"/>
            <a:ext cx="8915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739360" cy="34732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2514600" y="4800600"/>
            <a:ext cx="5570640" cy="17096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228600" y="5715000"/>
            <a:ext cx="2619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CFC6-76BE-450D-AE7C-A1569AAEA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1371600" y="2971800"/>
            <a:ext cx="5638680" cy="327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2"/>
          <p:cNvSpPr/>
          <p:nvPr/>
        </p:nvSpPr>
        <p:spPr>
          <a:xfrm>
            <a:off x="228600" y="609480"/>
            <a:ext cx="1828800" cy="1752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3505320" y="838080"/>
            <a:ext cx="518148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"/>
          <p:cNvSpPr/>
          <p:nvPr/>
        </p:nvSpPr>
        <p:spPr>
          <a:xfrm>
            <a:off x="952560" y="76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3" descr="75 simple organic molecules"/>
          <p:cNvPicPr/>
          <p:nvPr/>
        </p:nvPicPr>
        <p:blipFill>
          <a:blip r:embed="rId1"/>
          <a:srcRect l="0" t="0" r="82360" b="0"/>
          <a:stretch/>
        </p:blipFill>
        <p:spPr>
          <a:xfrm>
            <a:off x="457200" y="762120"/>
            <a:ext cx="1351080" cy="14889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4191120" y="1066680"/>
            <a:ext cx="3698640" cy="15112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1752480" y="3048120"/>
            <a:ext cx="51390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4E2A-E17C-4926-8E48-338CBE8A3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28600" y="76212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l momento che è presente un solo orbitale nel primo livello, ed ogni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rbita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uò contenere al massimo due elettroni, ci sono due elementi nella prima riga, H ed H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28600" y="296244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gni elemento della seconda riga della tavola periodica presenta quattro orbitali disponibili ad accettare ulteriori elettroni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 orbitale 2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e orbitali 2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362640" cy="1224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79600" y="3876840"/>
            <a:ext cx="79833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DC59-09D5-4F18-87B1-D171D53F4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228600" y="1523880"/>
            <a:ext cx="1828800" cy="1752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1371600" y="3352680"/>
            <a:ext cx="7238880" cy="2971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4" descr="75 simple organic molecules"/>
          <p:cNvPicPr/>
          <p:nvPr/>
        </p:nvPicPr>
        <p:blipFill>
          <a:blip r:embed="rId1"/>
          <a:srcRect l="0" t="0" r="82360" b="0"/>
          <a:stretch/>
        </p:blipFill>
        <p:spPr>
          <a:xfrm>
            <a:off x="457200" y="1711440"/>
            <a:ext cx="1351080" cy="148896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6"/>
          <p:cNvSpPr/>
          <p:nvPr/>
        </p:nvSpPr>
        <p:spPr>
          <a:xfrm>
            <a:off x="304920" y="8985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362320" y="1647720"/>
            <a:ext cx="632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ealizzazione di un modello dell’etano illustra un’ulteriore caratteristica circa la sua struttura. Attorno al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—C esiste libera rot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981080" y="3505320"/>
            <a:ext cx="60022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8CE6-1D92-4344-96AA-659D345C9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228600" y="685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4419720" y="1401840"/>
            <a:ext cx="44956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ni carbonio è trigonale e planare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ni carbonio è ibrida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7"/>
          <p:cNvSpPr/>
          <p:nvPr/>
        </p:nvSpPr>
        <p:spPr>
          <a:xfrm>
            <a:off x="152280" y="2895480"/>
            <a:ext cx="883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195720" cy="133164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726300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9E84-68A3-4343-AEA7-412B9E896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3429000" y="4648320"/>
            <a:ext cx="533412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1219320" y="2362320"/>
            <a:ext cx="7086600" cy="2209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28600" y="838080"/>
            <a:ext cx="3429000" cy="1447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"/>
          <p:cNvSpPr/>
          <p:nvPr/>
        </p:nvSpPr>
        <p:spPr>
          <a:xfrm>
            <a:off x="952560" y="2286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230280" cy="12780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1393920" y="2455920"/>
            <a:ext cx="6759360" cy="19447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3505320" y="4724280"/>
            <a:ext cx="51750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38F3-342B-4C38-9577-B2B6F9778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228600" y="838080"/>
            <a:ext cx="3429000" cy="1447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304920" y="166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1"/>
          <p:cNvSpPr/>
          <p:nvPr/>
        </p:nvSpPr>
        <p:spPr>
          <a:xfrm>
            <a:off x="228600" y="251460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versamente dal legame singolo C—C nell’ etano, la rotazione attorno al doppio legame C—C nell’etilene è limitata. Può verificarsi solo se il legam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rima si rompe e poi si riforma, un processo che richiede un apporto considerevole di energi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3122640" cy="13320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2133720" y="4038480"/>
            <a:ext cx="4778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F4D3-C625-46E7-A001-3D12CB9F4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152280" y="6094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5"/>
          <p:cNvSpPr/>
          <p:nvPr/>
        </p:nvSpPr>
        <p:spPr>
          <a:xfrm>
            <a:off x="152280" y="297180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2666880" y="763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2971800" y="1523880"/>
            <a:ext cx="2979720" cy="11876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7586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8719-4822-45E6-B98E-A205D7920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9"/>
          <p:cNvSpPr/>
          <p:nvPr/>
        </p:nvSpPr>
        <p:spPr>
          <a:xfrm>
            <a:off x="2286000" y="4876920"/>
            <a:ext cx="5638680" cy="1752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1676520" y="2209680"/>
            <a:ext cx="678168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76320" y="457200"/>
            <a:ext cx="358128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1143000" y="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1"/>
          <p:cNvSpPr/>
          <p:nvPr/>
        </p:nvSpPr>
        <p:spPr>
          <a:xfrm>
            <a:off x="5410080" y="15238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4343400" y="1157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lla Figura  1.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2979720" cy="11876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6362640" cy="24577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3371760" y="4910040"/>
            <a:ext cx="340992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0B4E-F3D4-4896-BF2A-6D841361D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4343400" y="2895480"/>
            <a:ext cx="3657600" cy="1981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76320" y="838080"/>
            <a:ext cx="358128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143000" y="24300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152280" y="2593800"/>
            <a:ext cx="4114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ni atomo di carbonio ha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non ibridi che sono perpendicolari fra loro e agli orbitali ibri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La sovrapposizione laterale dei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u un carbonio con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ull’altro carbonio dà origine al secondo e terzo legame del triplo legame. Tutti i tripli legami sono formati da un legam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due legami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2979720" cy="11872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4648320" y="3124080"/>
            <a:ext cx="29066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9F61-2A47-469F-AD20-D0506620C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76320" y="2819520"/>
            <a:ext cx="8915400" cy="380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2781360" y="1066680"/>
            <a:ext cx="358128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76320" y="517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905120" y="2819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iassunto dei legami nell’ acetile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2666880" y="763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0"/>
          <p:cNvSpPr/>
          <p:nvPr/>
        </p:nvSpPr>
        <p:spPr>
          <a:xfrm>
            <a:off x="1295280" y="22860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228600" y="19191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lla Figura 1.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2979720" cy="11872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1371600" y="3352680"/>
            <a:ext cx="654372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256A-B2C2-4A49-AD47-FD1C36DEF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152280" y="44136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mario dei legami covalenti osservati nei composti del carbonio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2666880" y="763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342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5004-4B5C-4E92-92F9-37A592846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304920" y="898560"/>
            <a:ext cx="6324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419040" y="1447920"/>
            <a:ext cx="8458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’aumentare del numero di elettroni tra due nuclei, i legami diventano più corti e più for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Quindi, i legami tripli sono più corti e più forti dei legami doppi, che a loro volta sono più corti e più forti dei legami singo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066680" y="3886200"/>
            <a:ext cx="701064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0C67-019A-4502-8D81-0A0FC4DE0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28600" y="822240"/>
            <a:ext cx="4648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ementi della Seconda Rig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04920" y="1295280"/>
            <a:ext cx="84582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l momento che ognuno dei quattro orbitali disponibili nel secondo livello può ospitare due elettroni, gli elementi della seconda riga presentano una capacità massima di otto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seconda riga della tavola perodica consiste di otto elementi, ottenuti per aggiunta di elettroni agli orbitali  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68310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EF28-2F9F-46D2-9F5F-ABC210589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26"/>
          <p:cNvSpPr/>
          <p:nvPr/>
        </p:nvSpPr>
        <p:spPr>
          <a:xfrm>
            <a:off x="228600" y="1279440"/>
            <a:ext cx="62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027"/>
          <p:cNvSpPr/>
          <p:nvPr/>
        </p:nvSpPr>
        <p:spPr>
          <a:xfrm>
            <a:off x="419040" y="1905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lunghezza e la forza dei legami C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 varia dipendentemente dall’ibridazione dell’atomo di carboni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030"/>
          <p:cNvSpPr/>
          <p:nvPr/>
        </p:nvSpPr>
        <p:spPr>
          <a:xfrm>
            <a:off x="2666880" y="4255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2438280" y="3809880"/>
            <a:ext cx="445464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EE92-E349-42BC-8E73-E64E25B7F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598320" y="723960"/>
            <a:ext cx="794736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EF03-457A-415D-81FC-700ACAA18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152280" y="974880"/>
            <a:ext cx="62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2092320" y="2379600"/>
            <a:ext cx="4959360" cy="20970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737064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4602-D412-4C53-B4B6-0D4E2E195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026"/>
          <p:cNvSpPr/>
          <p:nvPr/>
        </p:nvSpPr>
        <p:spPr>
          <a:xfrm>
            <a:off x="2666880" y="457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028"/>
          <p:cNvSpPr/>
          <p:nvPr/>
        </p:nvSpPr>
        <p:spPr>
          <a:xfrm>
            <a:off x="304920" y="1523880"/>
            <a:ext cx="85341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ta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’aumentare della percentuale di caratter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un orbitale ibrido mantiene i suoi elettroni più vicini al nucleo e il legame diventa più corto e più for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bbene orbitali ibri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iano simili nella forma, sono tuttavia differenti nelle dimension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29"/>
          <p:cNvSpPr/>
          <p:nvPr/>
        </p:nvSpPr>
        <p:spPr>
          <a:xfrm>
            <a:off x="228600" y="1066680"/>
            <a:ext cx="6172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030" descr=""/>
          <p:cNvPicPr/>
          <p:nvPr/>
        </p:nvPicPr>
        <p:blipFill>
          <a:blip r:embed="rId1"/>
          <a:stretch/>
        </p:blipFill>
        <p:spPr>
          <a:xfrm>
            <a:off x="2819520" y="3962520"/>
            <a:ext cx="29718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3EE2-287C-4813-A5C6-C619B2FD9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762120" y="2590920"/>
            <a:ext cx="7391160" cy="3733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52280" y="746280"/>
            <a:ext cx="6324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ettronegatività e polarità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266760" y="121932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 elettronegatività è una misura dell’attrazione di un atomo per gli elettroni in un lega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7"/>
          <p:cNvSpPr/>
          <p:nvPr/>
        </p:nvSpPr>
        <p:spPr>
          <a:xfrm>
            <a:off x="685800" y="21178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ori di elettronegatività per alcuni elementi comun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2666880" y="1206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2001960" y="2703600"/>
            <a:ext cx="513864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EEFE-0D22-4154-94E6-73F461433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1600200" y="2666880"/>
            <a:ext cx="6095880" cy="2210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"/>
          <p:cNvSpPr/>
          <p:nvPr/>
        </p:nvSpPr>
        <p:spPr>
          <a:xfrm>
            <a:off x="1828800" y="2286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ttronegatività e polarità di leg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152280" y="274320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6"/>
          <p:cNvSpPr/>
          <p:nvPr/>
        </p:nvSpPr>
        <p:spPr>
          <a:xfrm>
            <a:off x="228600" y="68580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valori di elettronegatività sono usati come riferimento per indicare se gli elettroni sono ugualmente condivisi o non ugualmente condivisi tra due atomi. Quando gli elettroni sono ugualmente condivisi il legame è detto non polare. Quando le differenze di elettronegatività producono una diseguale condivisione degli elettroni, il legame è polare, e si dice che ha una “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parazione di car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 o un “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pol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228600" y="4952880"/>
            <a:ext cx="8686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Un legame carbonio—carbonio è nonpol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Lo stesso è vero ogniqualvolta sono legati insieme due atomi diversi che hanno elettronegatività sim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3333cc"/>
              </a:buClr>
              <a:buFont typeface="Arial"/>
              <a:buChar char="•"/>
              <a:tabLst>
                <a:tab algn="l" pos="28116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 legami C—H sono considerati non pola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chè la differenza di elettronegatività tra C e H è piccol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1749600" y="2654280"/>
            <a:ext cx="564336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A43A-82E1-42D6-BBC7-C7E3D9904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"/>
          <p:cNvSpPr/>
          <p:nvPr/>
        </p:nvSpPr>
        <p:spPr>
          <a:xfrm>
            <a:off x="1828800" y="9036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ttronegatività e polarità di leg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3048120" y="2819520"/>
            <a:ext cx="5715000" cy="198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228600" y="685800"/>
            <a:ext cx="8686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 legame tra atomi di differente elettronegatività produce una diversa diseguale condivisione degli elettroni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sempio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el legame C—O, gli elettroni sono spinti lontano dal C (2.5) verso l’ O (3.4), l’elemento a maggior elettronegatività. Il legame è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ola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covalente pola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Si dice che il legame presenta un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pol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cioè un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parazione di car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152280" y="495288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direzione della polarità in un legame è indicata da una freccia con la punta della freccia rivolta verso l’elemento più elettronegativo. La coda della freccia, che ha una linea tracciata perpendicolarmente, è rivolta verso l’elemento meno elettronegativo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7"/>
          <p:cNvSpPr/>
          <p:nvPr/>
        </p:nvSpPr>
        <p:spPr>
          <a:xfrm>
            <a:off x="304920" y="2803680"/>
            <a:ext cx="259056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 baseline="30000">
                <a:solidFill>
                  <a:srgbClr val="00cc99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significa che l’atomo indicato è elettron deficien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 baseline="30000">
                <a:solidFill>
                  <a:srgbClr val="00cc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significa che l’atomo indicato è elettron ricc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3657600" y="3124080"/>
            <a:ext cx="4994280" cy="14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6410-FA29-4209-A440-18A73F710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609480" y="3886200"/>
            <a:ext cx="8001000" cy="2819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152280" y="593640"/>
            <a:ext cx="449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olarità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228600" y="10825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are la seguente procedura a due fasi per determinare se una molecola ha un dipolo net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304920" y="1893960"/>
            <a:ext cx="85341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sare le differenze di elettronegatività per identificare tutti i legami polari </a:t>
            </a:r>
            <a:r>
              <a:rPr b="1" lang="it-IT" sz="2300" spc="-1" strike="noStrike">
                <a:solidFill>
                  <a:srgbClr val="000000"/>
                </a:solidFill>
                <a:latin typeface="Arial"/>
              </a:rPr>
              <a:t>e le direzioni dei dipoli di legame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terminare la geometria intorno ai singoli atomi contando i gruppi, e stabilire se i dipoli individuali si elidono o si rafforzano a vicenda nello spazio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6"/>
          <p:cNvSpPr/>
          <p:nvPr/>
        </p:nvSpPr>
        <p:spPr>
          <a:xfrm>
            <a:off x="532080" y="3886200"/>
            <a:ext cx="5481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a del potenziale elettrostatico di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8"/>
          <p:cNvSpPr/>
          <p:nvPr/>
        </p:nvSpPr>
        <p:spPr>
          <a:xfrm>
            <a:off x="2666880" y="763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838080" y="4495680"/>
            <a:ext cx="7586640" cy="21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30E1-F6BB-429B-B773-741D800E0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52280" y="669960"/>
            <a:ext cx="384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olarità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228600" y="1066680"/>
            <a:ext cx="8534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molecola polare ha o un legame polare o due o più dipoli di legame che si sommano vettorialmente. Un esempio è l’acqua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228600" y="4419720"/>
            <a:ext cx="8534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molecola non polare o non ha legami polari, o ha due o più dipoli di legame che si elidono. Un esempio è il biossido di carbonio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065240" y="2303640"/>
            <a:ext cx="7012080" cy="224928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1665360" y="5257800"/>
            <a:ext cx="747864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D3D1-7FDF-479F-AC12-98CB34166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228600" y="1203480"/>
            <a:ext cx="3886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iassunto sul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80880" y="1774800"/>
            <a:ext cx="83822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legame è l’unione di due atomi in un arrangiamento stabi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raverso il legame, gli atomi completano il livello esterno di elettroni di valenz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raverso il legame, gli atomi raggiungono la configurazione stabile dei gas nob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legami ionici si originano dal trasferimento di elettroni da un elemento ad un alt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legami covalenti si originano dalla compartecipazione di elettroni tra due nucle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A7DF-2384-40C0-8C19-F82967594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04920" y="76212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legame ionico è generalmente presente quando elementi situati sul lato sinistro della tavola periodica si combinano con elementi situati sul lato destro, fatta esclusione per i gas nob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catione carico positivamente formato da un elemento situato sul lato sinistro attrae un anione carico negativamente formato da un elemento situato sulla parte destra. Un esempio è cloruro di sodio,  NaC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895480" y="3962520"/>
            <a:ext cx="340992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20T09:04:56Z</dcterms:modified>
  <cp:revision>318</cp:revision>
  <dc:subject/>
  <dc:title>PowerPoint Presentation</dc:title>
</cp:coreProperties>
</file>