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7.wmf" ContentType="image/x-wmf"/>
  <Override PartName="/ppt/media/image56.wmf" ContentType="image/x-wmf"/>
  <Override PartName="/ppt/media/image55.wmf" ContentType="image/x-wmf"/>
  <Override PartName="/ppt/media/image98.png" ContentType="image/png"/>
  <Override PartName="/ppt/media/image54.wmf" ContentType="image/x-wmf"/>
  <Override PartName="/ppt/media/image97.png" ContentType="image/png"/>
  <Override PartName="/ppt/media/image53.wmf" ContentType="image/x-wmf"/>
  <Override PartName="/ppt/media/image50.png" ContentType="image/png"/>
  <Override PartName="/ppt/media/image48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47.jpeg" ContentType="image/jpeg"/>
  <Override PartName="/ppt/media/image90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64.wmf" ContentType="image/x-wmf"/>
  <Override PartName="/ppt/media/image28.wmf" ContentType="image/x-wmf"/>
  <Override PartName="/ppt/media/image65.wmf" ContentType="image/x-wmf"/>
  <Override PartName="/ppt/media/image25.png" ContentType="image/png"/>
  <Override PartName="/ppt/media/image66.wmf" ContentType="image/x-wmf"/>
  <Override PartName="/ppt/media/image67.wmf" ContentType="image/x-wmf"/>
  <Override PartName="/ppt/media/image68.wmf" ContentType="image/x-wmf"/>
  <Override PartName="/ppt/media/image24.wmf" ContentType="image/x-wmf"/>
  <Override PartName="/ppt/media/image61.wmf" ContentType="image/x-wmf"/>
  <Override PartName="/ppt/media/image96.wmf" ContentType="image/x-wmf"/>
  <Override PartName="/ppt/media/image17.wmf" ContentType="image/x-wmf"/>
  <Override PartName="/ppt/media/image72.wmf" ContentType="image/x-wmf"/>
  <Override PartName="/ppt/media/image23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95.wmf" ContentType="image/x-wmf"/>
  <Override PartName="/ppt/media/image45.jpeg" ContentType="image/jpeg"/>
  <Override PartName="/ppt/media/image69.wmf" ContentType="image/x-wmf"/>
  <Override PartName="/ppt/media/image71.png" ContentType="image/png"/>
  <Override PartName="/ppt/media/image88.wmf" ContentType="image/x-wmf"/>
  <Override PartName="/ppt/media/image51.wmf" ContentType="image/x-wmf"/>
  <Override PartName="/ppt/media/image93.png" ContentType="image/png"/>
  <Override PartName="/ppt/media/image76.wmf" ContentType="image/x-wmf"/>
  <Override PartName="/ppt/media/image87.wmf" ContentType="image/x-wmf"/>
  <Override PartName="/ppt/media/image75.wmf" ContentType="image/x-wmf"/>
  <Override PartName="/ppt/media/image70.jpeg" ContentType="image/jpeg"/>
  <Override PartName="/ppt/media/image78.wmf" ContentType="image/x-wmf"/>
  <Override PartName="/ppt/media/image77.wmf" ContentType="image/x-wmf"/>
  <Override PartName="/ppt/media/image21.png" ContentType="image/png"/>
  <Override PartName="/ppt/media/image89.wmf" ContentType="image/x-wmf"/>
  <Override PartName="/ppt/media/image27.wmf" ContentType="image/x-wmf"/>
  <Override PartName="/ppt/media/image92.wmf" ContentType="image/x-wmf"/>
  <Override PartName="/ppt/media/image59.wmf" ContentType="image/x-wmf"/>
  <Override PartName="/ppt/media/image12.wmf" ContentType="image/x-wmf"/>
  <Override PartName="/ppt/media/image20.jpeg" ContentType="image/jpeg"/>
  <Override PartName="/ppt/media/image16.wmf" ContentType="image/x-wmf"/>
  <Override PartName="/ppt/media/image81.wmf" ContentType="image/x-wmf"/>
  <Override PartName="/ppt/media/image1.png" ContentType="image/png"/>
  <Override PartName="/ppt/media/image29.wmf" ContentType="image/x-wmf"/>
  <Override PartName="/ppt/media/image94.wmf" ContentType="image/x-wmf"/>
  <Override PartName="/ppt/media/image91.wmf" ContentType="image/x-wmf"/>
  <Override PartName="/ppt/media/image26.wmf" ContentType="image/x-wmf"/>
  <Override PartName="/ppt/media/image58.png" ContentType="image/png"/>
  <Override PartName="/ppt/media/image15.wmf" ContentType="image/x-wmf"/>
  <Override PartName="/ppt/media/image46.jpeg" ContentType="image/jpeg"/>
  <Override PartName="/ppt/media/image80.wmf" ContentType="image/x-wmf"/>
  <Override PartName="/ppt/media/image3.wmf" ContentType="image/x-wmf"/>
  <Override PartName="/ppt/media/image33.wmf" ContentType="image/x-wmf"/>
  <Override PartName="/ppt/media/image14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A57-C2CC-4E8C-9761-6AC73620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B0E-2300-4262-8317-D77AEE34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28C-9B03-4A91-A4C3-92755881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A23-FB95-4AAA-8EF1-2BA8BC2F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45D-3D8B-47B1-947A-46CDF2BE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550-F874-406D-8CF9-F769FE50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586-0F97-4D1B-8E1F-0C377AB9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894-74FD-4A74-B495-CA7714EB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5B7-D4A7-4345-A12A-D36157CE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601-A220-42B8-B4D2-D4C2D48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610-C795-4007-AB04-90708851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811-FECA-4016-AE5F-39D26F6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10BC-275F-48D8-AEE5-D62583370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image" Target="../media/image7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D420-0BFC-49DD-A56A-D064C544F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59080" y="3809880"/>
            <a:ext cx="463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28800" y="6172200"/>
            <a:ext cx="5943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09 The McGraw-Hill Companies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45CA-E5D8-40B0-BE82-AFCB2E901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52568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 idrogeno forma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atomi di idrogeno sono legati da un legame, ognuno presenta un livello di valenza con due elett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990720"/>
            <a:ext cx="6400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nell’idrogeno molecolare 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8862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2897-BF6C-4610-83F1-CA7988DFF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304920" y="838080"/>
            <a:ext cx="853416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elementi della seconda riga non possono avere più di otto elettroni intorno. Per le molecole neutre, questo ha due conseguenz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uno, due o tre  elettroni di valenza formano uno, due o tre legami rispettivamente, in molecole neutr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tomi con quattro o più elettroni di valenza formano legami sufficienti per formare l’ottetto. Questi concetti sono riassunti nella seguente equazione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 algn="just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ando elementi della seconda riga formano meno di quattro legami i loro ottetti consistono di elettroni sia di legame (condivisi) che di non legame (non condivisi). Gli elettroni non condivisi sono anche chiamat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ppie solitari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3962520"/>
            <a:ext cx="5607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E27-C83D-4331-9890-31D61493C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2270160"/>
            <a:ext cx="914400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40FB-D4FA-4FF5-99D8-BF8F8D044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4920" y="89856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assunto delle strutture di Lew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04920" y="1403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strutture di Lewis sono rappresentazioni delle molecole in cui gli elettroni sono rappresentati con un punto. Ci sono tre regole generali per disegnare strutture di Lew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286000"/>
            <a:ext cx="86104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egnare solo gli elettroni di valenz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elemento della seconda riga un ottetto di elettroni, se possib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gnare ad ogni idrogeno due elettron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726264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CAEE-3E75-4210-8157-52A812BA9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52280" y="990720"/>
            <a:ext cx="563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ica Form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371600"/>
            <a:ext cx="86868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formale è la carica assegnata a singoli atomi in una struttura di Lew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olando la carica formale determiniamo come il numero degli elettroni intorno ad un particolare atomo si confronti con il numero dei suoi elettroni di valenza. La carica formale è calcolata come segu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4495680"/>
            <a:ext cx="86868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numero di elettroni “posseduti” da un atomo è determinato dal suo numero di legami e dalle coppie solitari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atomo “possiede”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utt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 suoi elettroni non condivisi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la met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 quelli condivis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2300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0C66-DD45-4C19-91C7-69F0B2E1E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28600" y="10065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elettroni “posseduti” da atomi diversi è  indicato negli esempi seguen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8320" y="2762280"/>
            <a:ext cx="79473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D9A1-3F25-4F12-B3E3-D3DA97467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6320" y="1341360"/>
            <a:ext cx="7191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3BBB-093A-4ADB-B72A-4091EE9C8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8600" y="685800"/>
            <a:ext cx="2057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somer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10666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disegnare una struttura di Lewis per una molecola con molti atomi, qualche volta per una data formula molecolare è possibile più di una disposizione degli atomi che la costituisco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semp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4495680"/>
            <a:ext cx="876312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mbe sono strutture di Lewis valide ed entrambe le molecole esistono. Questi due composti sono chiamati isomer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li isomeri sono molecole diverse che hanno la stessa formula molecolar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tanolo e l’etere dimetilico sono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someri costituzion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5273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46B8-8ED8-4977-9452-0224666C3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2280" y="97488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ccezioni alla regola dell’ottett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30 second row elements without an octet"/>
          <p:cNvPicPr/>
          <p:nvPr/>
        </p:nvPicPr>
        <p:blipFill>
          <a:blip r:embed="rId1"/>
          <a:stretch/>
        </p:blipFill>
        <p:spPr>
          <a:xfrm>
            <a:off x="2057400" y="2057400"/>
            <a:ext cx="5143680" cy="1436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304920" y="14479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i Gruppi 2A e 3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28600" y="36576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nella terza ri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650052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8A12-7924-4483-8F7E-58087491F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533520"/>
            <a:ext cx="278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1066680"/>
            <a:ext cx="8686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cune molecole non possono essere adeguatamente rappresentate da una singola struttura di Lewis. Per esempio, due valide strutture di Lewis possono essere disegnate per l’anione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struttura presenta l’atomo di azoto carico negativamente ed un doppio legame C-O; l’altra presenta un atomo di ossigeno carico negativamente ed un doppio legame C-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920" y="46180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e strutture sono chiamate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rutture di risonanz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forme di risonanz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Una freccia a due punte viene usata per separare le strutture di risonanz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5791320"/>
            <a:ext cx="6688080" cy="556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200400"/>
            <a:ext cx="3735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3FFE-96A1-418A-B76C-DBFDD7959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4724280"/>
            <a:ext cx="8534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cleo contiene protoni carichi positivamente e neutroni neut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vola elettronica è composta da elettroni carichi negativ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63600" y="1828800"/>
            <a:ext cx="4815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358-2047-47B7-B55D-76AA2A4C4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228600" y="685800"/>
            <a:ext cx="69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90440" y="9144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66760" y="1066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66760" y="1143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lativamente alle due strutture di risonanza di (HCONH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qui mostrate, si deve notare ch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3200400"/>
            <a:ext cx="853416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suna struttura di risonanza è un’accurata rappresentazione per (HCON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a vera struttura è una struttura mista di entrambe le forme di risonanza ed è chiama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brido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ibrido mostra caratteristiche di entrambe le strut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isonanza fa sì che alcune coppie elettroniche risultino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z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 due o più atomi, e quest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localizazione aumenta la stabilit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molecola con due o più forme di risonanza viene detta esser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abilizzata per risonanz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73536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1E2D-AD97-4357-9FEF-29F6EDF8B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28600" y="746280"/>
            <a:ext cx="6705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oduzione alla Teoria della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66760" y="1263600"/>
            <a:ext cx="8610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icorda i seguenti principi di base della teoria della risonanza: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2209680"/>
            <a:ext cx="86104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real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singola struttura di risonanza non rappresenta in modo adeguato la struttura di una molecola o di uno ione. Ciò vale solo per l’ibrid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437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n equilibrio tra lor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Non c’è movimento di elettroni da una all’altra.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e strutture di risonanza non sono isomeri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Due isomeri differiscono nella disposizione sia di atomi che di elettroni, mentre le strutture di risonanza differiscono solamente nella disposizione degli elettron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D82D-0CEF-423D-8E86-8AF64436B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52280" y="685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2280" y="112716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1]: Due strutture di risonanza differiscono nella posizione di legami multipli e di elettroni di non legame. La posizione degli atomi e dei legami singoli rimane sempre la ste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304920" y="470844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2]: Due strutture di risonanza devono avere lo stesso numero di elettroni non accoppi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70320" y="2317680"/>
            <a:ext cx="4203360" cy="222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990720" y="5410080"/>
            <a:ext cx="715464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944F-0D9D-4551-8E45-9650E79BD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66068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 [3]: le strutture di risonanza devono essere strutture di Lewis valide. L’idrogeno deve avere due elettroni e nessun elemento della seconda riga deve avere più di otto elettron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28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2798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9EF3-CB57-4F0F-859D-B5F6E67DE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457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strutture di risonan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838080"/>
            <a:ext cx="85341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è una convenzione che viene usata per mostrare come la posizione degli elettroni differisca fra le due forme di risonanz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9280" algn="just">
              <a:spcBef>
                <a:spcPts val="1250"/>
              </a:spcBef>
              <a:buClr>
                <a:srgbClr val="3333cc"/>
              </a:buClr>
              <a:buFont typeface="Arial"/>
              <a:buChar char="•"/>
              <a:tabLst>
                <a:tab algn="l" pos="17928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 notazione della freccia curva mostra il movimento di una coppia di elettron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oda della freccia inizia sempre da una coppia di elettroni, sia di un legame che di una coppia solitaria. La testa è rivolta dove la coppia di elettroni si “muove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57200" y="3200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560" y="5013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o 2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666880" y="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62320" y="4900680"/>
            <a:ext cx="5029200" cy="174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49024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CB23-FA52-4487-B2A5-4DC680F7F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898560"/>
            <a:ext cx="556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i due esempi precedenti, una coppia solitaria è posizionata su un atomo direttamente legato ad un doppio lega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77960" y="2050920"/>
            <a:ext cx="5786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5043-0D1E-4A53-B25E-6B7FADEAE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1066680"/>
            <a:ext cx="556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empi di strutture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04920" y="4876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li esempi precedenti, un atomo che porta una carica (+) è legato sia ad un doppio legame sia ad un atomo con una coppia solitar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839960" y="2592360"/>
            <a:ext cx="5462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B91F-11D6-4AA4-8EB7-7B0DEBBF9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92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80880" y="1371600"/>
            <a:ext cx="83822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 ibrido di risonanza è la struttura composta di tutte le possibili strutture di risonanz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Nell’ibrido di risonanza le coppie di elettroni, disegnate nelle differenti posizioni delle strutture di risonanza individuali, sono delocalizz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due strutture di risonanza sono differenti, l’ibrido assomiglia di più alla struttura di risonanza “migliore”. La struttura di risonanza “migliore” è chiamata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ggior contribu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l’ibrido, e tutte le altr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tribuenti mino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brido è la media pesata delle strutture di risonanza contrib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DD8A-C567-4C03-8B76-B9758F4A5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304920" y="137160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 struttura di risonanza “migliore” è quella che presenta più legami e meno carich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8600" y="914400"/>
            <a:ext cx="403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63600" y="2352600"/>
            <a:ext cx="48150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78CA-8362-4A33-B684-DADDE3B98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33520" y="1523880"/>
            <a:ext cx="525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gli ibridi di risonanz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823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9992-272C-4F13-8FD7-600BFA13B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53341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riga hanno dimensioni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i della stessa colonna hanno proprietà elettroniche e chimiche sim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5960" y="1839960"/>
            <a:ext cx="6110280" cy="31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403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5114-DB81-4F52-B16F-C3930FC5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228600" y="525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280" y="609480"/>
            <a:ext cx="6019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variabili definiscono la struttura di una molecola: lunghezza di legame e angolo di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304920" y="2133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diminuisce lungo una riga della tavola periodica con la diminuzione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228600" y="4267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34128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nghezza di legame aumenta scendendo lungo una colonna della tavola periodica con l’aumento della dimensione dell’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735360" cy="1241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5486400"/>
            <a:ext cx="359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F24E-4578-426F-BCF2-E5767147B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61960" y="2308320"/>
            <a:ext cx="8018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A9FA-17E4-4C8F-9679-EC1BC5C72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1143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golo di legame determina la forma intorno ad ogni atomo legato ad altri due atom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52280" y="609480"/>
            <a:ext cx="7239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-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80880" y="1905120"/>
            <a:ext cx="84582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numero di gruppi che circonda un  particolare atomo determina la sua geometria. Un gruppo è sia un atomo sia una coppia solitaria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disposizione più stabile tiene questi gruppi il più possibile distanti uno dall’altro. Questo è esemplificato nella teoria della Repulsione tra le coppie Elettroniche nel Livello di Valenza - Valence Shell Electron Pair Repulsion (VSEPR)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5120" y="4952880"/>
            <a:ext cx="54277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1492-5BAD-4F41-B27D-26DE724D4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6320" y="1203480"/>
            <a:ext cx="7315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76320" y="1752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du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154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9709-D335-435F-AFA5-3DBD3C44C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8600" y="1203480"/>
            <a:ext cx="723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—L’angolo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18288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tre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7731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D38B-B839-4F0B-9BA8-830B9BAAC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1371600"/>
            <a:ext cx="601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 forma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572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circondato da quattro gruppi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666880" y="5778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6686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68F1-0689-4F42-990C-4E2C4115A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04920" y="76212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457200" y="1371600"/>
            <a:ext cx="807732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nel piano è indicato con una linea pien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avanti al piano è indicato con un cun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legame dietro al piano è indicato con una linea tratteggi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7731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A7C7-7C0A-44E7-A0C8-A830D5E87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152280" y="1219320"/>
            <a:ext cx="7696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7524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possono essere ruotate nei modi più diversi, generando molte rappresentazioni equivalenti. Tutte queste sono accettabili rapprestazioni d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939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E0CA-FBCA-4297-995D-62A3556C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04920" y="1050840"/>
            <a:ext cx="769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segnare strutture tridimensionali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457200" y="1600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nei  e tratteggi  sono usati per rappresentare gruppi che stanno in realtà allineati uno dietro l’altro. Nelle due rappresentazioni seguenti, non importa se il tratteggio o il cuneo siano a destra o a sinistra, in quanto i due H sono in realtà alline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7983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E64A-36E4-4A42-A458-08D63E17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28600" y="80640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04920" y="1679400"/>
            <a:ext cx="8534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uno dei quattro gruppi legati all’N centrale è una coppia solitaria. I tre H e la coppia solitaria sono direzionati secondo i vertici di un tetraedro. L’angolo H-N-H di 10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forma di riferimento è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iramide trigo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6831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ED6D-18A6-4924-9905-21AD91BF0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808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ADE9-D755-4B44-9D39-BD1B254CB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04920" y="685800"/>
            <a:ext cx="8534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a coppia elettronica solitaria viene considerata un “Gruppo”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80880" y="1523880"/>
            <a:ext cx="80773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’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, due dei quattro gruppi legati all’ O centrale sono coppie solitarie. I due H e le due oppie libere sono direzionati secondo i vertici di un tetraedro. L’angolo H-O-H di 10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prossimo all’angolo di legame teorico tetraedrico di 109.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’acqua ha una forma ad angolo, perchè due dei gruppi che circondano l’ossigeno sono coppie solitarie di elettro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8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148C-B183-4202-82CC-87CE85F99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2666880" y="5014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54 water"/>
          <p:cNvPicPr/>
          <p:nvPr/>
        </p:nvPicPr>
        <p:blipFill>
          <a:blip r:embed="rId1"/>
          <a:srcRect l="86608" t="0" r="0" b="0"/>
          <a:stretch/>
        </p:blipFill>
        <p:spPr>
          <a:xfrm>
            <a:off x="990720" y="4267080"/>
            <a:ext cx="990360" cy="179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53 ammonia"/>
          <p:cNvPicPr/>
          <p:nvPr/>
        </p:nvPicPr>
        <p:blipFill>
          <a:blip r:embed="rId2"/>
          <a:srcRect l="84449" t="0" r="0" b="0"/>
          <a:stretch/>
        </p:blipFill>
        <p:spPr>
          <a:xfrm>
            <a:off x="914400" y="2514600"/>
            <a:ext cx="1066680" cy="187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50 drawing 3d structures on paper"/>
          <p:cNvPicPr/>
          <p:nvPr/>
        </p:nvPicPr>
        <p:blipFill>
          <a:blip r:embed="rId3"/>
          <a:srcRect l="78503" t="25449" r="8602" b="19445"/>
          <a:stretch/>
        </p:blipFill>
        <p:spPr>
          <a:xfrm>
            <a:off x="838080" y="1219320"/>
            <a:ext cx="105588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8"/>
          <p:cNvSpPr/>
          <p:nvPr/>
        </p:nvSpPr>
        <p:spPr>
          <a:xfrm>
            <a:off x="2151720" y="1752480"/>
            <a:ext cx="207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no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2103480" y="3352680"/>
            <a:ext cx="27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moniaca (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166840" y="5181480"/>
            <a:ext cx="195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qua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876920" y="1295280"/>
            <a:ext cx="358128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trambe le molecole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l’angolo di legame è di poco inferiore all’angolo teorico tetraedrico a causa della repulsione delle coppie solitarie di elettroni. Gli atomi legati sono quindi compressi in uno spazio minore con un angolo di legame più picco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1551-B3F8-43E6-94BA-291EA0352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04920" y="1432080"/>
            <a:ext cx="815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dire la geometria sulla base del numero dei gruppi attorno all’atomo centra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666880" y="6541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2630520"/>
            <a:ext cx="9144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A552-1DEE-482B-90A5-696F6350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52280" y="6094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le molecole organiche—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28600" y="1022400"/>
            <a:ext cx="86868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tti gli atomi vengono disegnati, ma le linee dei legami a due elettroni vengono generalmente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i atomi vengono solitamente disegnati  vicini agli atomi ai quali sono legat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parentesi sono usate intorno a gruppi uguali legati allo stesso ato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coppie elettroniche solitarie vengono omes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6327720" cy="1295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914400" y="4876920"/>
            <a:ext cx="33037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8917-7228-473C-816A-CD6F6CA43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76212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800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4533-A0F1-495B-AE92-7FAE8FD74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52280" y="76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condensate contenenti un doppio legame C-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57675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5603-3B8A-4FD5-8174-BF8556EE7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52280" y="66996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trutture segmentat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28600" y="1117440"/>
            <a:ext cx="8686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ci sia un atomo di carbonio in corrispondenza di ogni giunzione di due segmenti o all’estremità di ogni segmen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re che intorno ad ogni atomo di carbonio ci siano abbastanza idrogeni per renderlo tetraval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ire tutti gli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eteroatomi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gli H ad essi direttamente lega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6831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587A-F26C-47C7-9C21-51E400426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152280" y="685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strutture segmen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15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4817-CE4D-407D-B408-83D14A03D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152280" y="62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quanto segue sull’interpretazione delle strutture segmentate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76320" y="1366920"/>
            <a:ext cx="868680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carica su un atomo di carbonio prende il posto di un atomo di idr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arica determina il numero di coppie solitarie. Atomi di carbonio con una carica negativa hanno una coppia solitaria e atomi con una carica positiva non ne hanno alcun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6977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C7B8-53FE-436F-90F2-020964FC9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28600" y="7621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L’idroge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un atomo di idrogeno si sovrappone all’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tro atomo di idrogeno, si forma tra i due nuclei un legame sigma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che concentra la densità elettronica tra i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o legame ha simmetria cilindrica perchè gli elettroni che formano il legame sono distribuiti simmetricamente attorno ad una linea immaginaria che congiunge i due nucle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65437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44B4-6B9A-4B56-9215-B24097E4D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2280" y="129528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 una densità elettonica sferica e una energia più bassa di altri orbitali nello stesso liv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a una forma a due lobi e contiene un nodo di densità elettronica presso il nucleo. Presenta una energia più alta di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522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avola Period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61102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2F13-8EAD-49E3-B1C2-CFE56CD27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228600" y="6094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04920" y="1066680"/>
            <a:ext cx="853416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endere conto dei tipi di legame osservati in molecole più complesse, dobbiamo esaminare più da vicino gli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gli atomi della seconda rig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carbonio ha due elettroni interni più quattro elettroni di valenza. Per riempire gli orbitali atomici nella configurazione più stabile, gli elettroni sono disposti negli orbitali a più bassa energia. Per questo nel carbonio abbiamo due elettroni nel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d un elettrone ciascuno n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04920" y="60642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Nota: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La disposizione a più bassa energia degli elettroni per un atomo prende il nome di stato fondament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33720" y="3962520"/>
            <a:ext cx="4886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3CA3-9289-4D4F-BFE5-1B126C5B8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228600" y="99072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04920" y="1523880"/>
            <a:ext cx="85341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questa descrizione, il carbonio dovrebbe formare solo due legami poichè ha solo due elettroni di valenza spaiati,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vrebbe essere una molecola stabile. In realtà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specie altamente reattiva che non può essere isolata nelle normali condizioni di laboratorio.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arbonio non avrebbe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951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5287-DC0C-4EBF-9135-3EA7566CA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228600" y="68580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04920" y="12193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a seconda possibilità. L’avanzamento di un elettrone d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ibero darebbe origine a quattro elettroni spaiati per formare legami. Questo processo richiede energia perchè sposta un elettrone su un orbitale ad energia più elevata. Questa nuova disposizione di elettroni su orbitali a più alta energia è chiamat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stato eccita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80880" y="5197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a descrizione però non è ancora adeguata. Il carbonio formerebbe due tipi di legame: tre con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uno con l’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Tuttavia prove sperimentali evidenziano che nel metano il carbonio forma quattro legami identic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75153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3B70-58D6-4418-9070-8F38B14A1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228600" y="746280"/>
            <a:ext cx="655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bitali e legame: il metan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204920"/>
            <a:ext cx="85341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risolvere questa incongruenza, i chimici hanno postulato che atomi come il carbonio non usino orbitali pur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formare i legami, bensì un insieme di nuovi orbitali chiamati orbitali ibrid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Arial"/>
              </a:rPr>
              <a:t>L’ ibridazione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è la combinazione di due o più orbitali atomici per formare lo stesso numero di orbitali ibridi, ognuno dei quali ha la stessa forma ed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7586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5C5D-1F56-4996-A518-F9F120D69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228600" y="685800"/>
            <a:ext cx="7924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rma ed orientamento d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04920" y="1112760"/>
            <a:ext cx="853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ndo insieme un orbitale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ferico e tre orbitali a forma bilobata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ottengono quattro orbitali formati da un lobo grande ed un lobo piccol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304920" y="37339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quattro orbitali ibridi sono orientati secondo i vertici di un tetraedro, e formano quattro legami equivalen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10280" cy="1368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1752480" y="4379760"/>
            <a:ext cx="6664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D928-BA5C-4034-A558-DB591C8C2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228600" y="974880"/>
            <a:ext cx="685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l legame attaverso gli orbitali ibridi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494000"/>
            <a:ext cx="85341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legame nel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formato dalla sovrapposizione di un orbitale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arbonio con un orbitale 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idrogeno. Questi quattro legami puntano verso i vertici di un tetraed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324480" y="2819520"/>
            <a:ext cx="254664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914400" y="3962520"/>
            <a:ext cx="73342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CE19-C12A-42A9-88AA-9FBFCD344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228600" y="685800"/>
            <a:ext cx="4800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6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tr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quattro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due orbitali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tr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 un orbital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ano due orbitali ibridi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1452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A05D-C53F-4A00-A235-417E867D7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228600" y="838080"/>
            <a:ext cx="518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ltri modelli di ibridazion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304920" y="128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terminare l’ibridazione di un atomo in una molecola contare i gruppi intorno all’atomo. Il numero dei gruppi (atomi e coppie elettroniche di non legame) corrisponde al numero degli orbitali atomici che devono essere ibridati per formare gli orbitali ibr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118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83E1-3666-4556-A458-60063EF80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empi di ibrid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76320" y="4724280"/>
            <a:ext cx="8915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39360" cy="34732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14600" y="4800600"/>
            <a:ext cx="5570640" cy="17096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228600" y="5715000"/>
            <a:ext cx="2619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04C-43B4-4ADE-8111-703022F36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371600" y="2971800"/>
            <a:ext cx="5638680" cy="327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228600" y="6094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505320" y="838080"/>
            <a:ext cx="51814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952560" y="76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762120"/>
            <a:ext cx="1351080" cy="14889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191120" y="1066680"/>
            <a:ext cx="3698640" cy="1511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752480" y="3048120"/>
            <a:ext cx="513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4681-CB21-4A78-A9B7-6CADF4CA1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28600" y="762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l momento che è presente un solo orbitale nel primo livello, ed ogni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bit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uò contenere al massimo due elettroni, ci sono due elementi nella prima riga, H ed 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28600" y="296244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ni elemento della seconda riga della tavola periodica presenta quattro orbitali disponibili ad accettare ulteriori elettroni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 orbitale 2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 orbitali 2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62640" cy="122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" y="3876840"/>
            <a:ext cx="7983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A016-C685-4DE9-988E-3999C9F03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228600" y="1523880"/>
            <a:ext cx="1828800" cy="1752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371600" y="3352680"/>
            <a:ext cx="7238880" cy="2971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75 simple organic molecules"/>
          <p:cNvPicPr/>
          <p:nvPr/>
        </p:nvPicPr>
        <p:blipFill>
          <a:blip r:embed="rId1"/>
          <a:srcRect l="0" t="0" r="82360" b="0"/>
          <a:stretch/>
        </p:blipFill>
        <p:spPr>
          <a:xfrm>
            <a:off x="457200" y="1711440"/>
            <a:ext cx="1351080" cy="14889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6"/>
          <p:cNvSpPr/>
          <p:nvPr/>
        </p:nvSpPr>
        <p:spPr>
          <a:xfrm>
            <a:off x="304920" y="8985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362320" y="164772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lizzazione di un modello dell’etano illustra un’ulteriore caratteristica circa la sua struttura. Attorno al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—C esiste libera rot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60022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603D-44DF-46F4-8EB4-80D65DF61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228600" y="6858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419720" y="1401840"/>
            <a:ext cx="44956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trigonale e planar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carbonio è ibrida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7"/>
          <p:cNvSpPr/>
          <p:nvPr/>
        </p:nvSpPr>
        <p:spPr>
          <a:xfrm>
            <a:off x="152280" y="289548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195720" cy="1331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7263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DE1C-E956-4479-844D-AD6D6605C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3429000" y="4648320"/>
            <a:ext cx="533412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1219320" y="2362320"/>
            <a:ext cx="70866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952560" y="228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230280" cy="1278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393920" y="2455920"/>
            <a:ext cx="6759360" cy="1944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51750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67DC-0726-4F16-BED0-7FF72CDCF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28600" y="838080"/>
            <a:ext cx="3429000" cy="1447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304920" y="1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228600" y="2514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ersamente dal legame singolo C—C nell’ etano, la rotazione attorno al doppio legame C—C nell’etilene è limitata. Può verificarsi solo s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ima si rompe e poi si riforma, un processo che richiede un apporto considerevole di energi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122640" cy="1332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778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4037-C1D6-4863-B76D-6327107BF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152280" y="609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"/>
          <p:cNvSpPr/>
          <p:nvPr/>
        </p:nvSpPr>
        <p:spPr>
          <a:xfrm>
            <a:off x="152280" y="2971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58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9D07-3D0A-4CA9-98DE-D100132B1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2286000" y="4876920"/>
            <a:ext cx="563868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676520" y="2209680"/>
            <a:ext cx="67816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76320" y="45720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1143000" y="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5410080" y="15238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4343400" y="11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 1.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2979720" cy="1187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6362640" cy="2457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3371760" y="4910040"/>
            <a:ext cx="3409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48FD-551F-43CB-8CD3-89C698BBD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4343400" y="2895480"/>
            <a:ext cx="3657600" cy="1981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76320" y="8380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143000" y="243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2593800"/>
            <a:ext cx="4114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gni atomo di carbonio ha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ibridi che sono perpendicolari fra loro e agli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La sovrapposizione laterale dei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 un carbonio con due orbitali 2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ull’altro carbonio dà origine al secondo e terzo legame del triplo legame. Tutti i tripli legami sono formati da un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du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906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3FA6-1EF7-41DF-85E7-72C5CC68A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76320" y="2819520"/>
            <a:ext cx="8915400" cy="380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2781360" y="1066680"/>
            <a:ext cx="358128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76320" y="517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ridazione e legame nelle molecole organ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90512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assunto dei legami nell’ acetile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1295280" y="22860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228600" y="19191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lla Figura 1.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9720" cy="1187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371600" y="3352680"/>
            <a:ext cx="65437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81A-362B-4E36-B150-8FB677B3A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52280" y="441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mario dei legami covalenti osservati nei composti del carbonio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2666880" y="76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34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7CA8-E00B-465D-A8CE-CBAF1F467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304920" y="898560"/>
            <a:ext cx="632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19040" y="1447920"/>
            <a:ext cx="8458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’aumentare del numero di elettroni tra due nuclei, i legami diventano più corti e più for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ndi, i legami tripli sono più corti e più forti dei legami doppi, che a loro volta sono più corti e più forti dei legami singo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666880" y="2728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70106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7B98-87F1-498C-9EDC-10EF7ACB3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82224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menti della Seconda Rig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129528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ognuno dei quattro orbitali disponibili nel secondo livello può ospitare due elettroni, gli elementi della seconda riga presentano una capacità massima di otto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conda riga della tavola perodica consiste di otto elementi, ottenuti per aggiunta di elettroni agli orbitali 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66880" y="1969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6831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73B2-ABD0-4BA9-A0CF-882C39506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26"/>
          <p:cNvSpPr/>
          <p:nvPr/>
        </p:nvSpPr>
        <p:spPr>
          <a:xfrm>
            <a:off x="228600" y="127944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27"/>
          <p:cNvSpPr/>
          <p:nvPr/>
        </p:nvSpPr>
        <p:spPr>
          <a:xfrm>
            <a:off x="419040" y="1905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lunghezza e la forza dei legami 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varia dipendentemente dall’ibridazione dell’atomo di carbon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2666880" y="4255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4546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0FE2-DA4E-40A4-A071-1ABDF24C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98320" y="723960"/>
            <a:ext cx="794736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F4C5-0759-4BD7-829A-8994A1756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152280" y="974880"/>
            <a:ext cx="624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666880" y="349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2092320" y="2379600"/>
            <a:ext cx="4959360" cy="2097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73706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722D-CB82-487C-B36E-00A461929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26"/>
          <p:cNvSpPr/>
          <p:nvPr/>
        </p:nvSpPr>
        <p:spPr>
          <a:xfrm>
            <a:off x="2666880" y="4572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28"/>
          <p:cNvSpPr/>
          <p:nvPr/>
        </p:nvSpPr>
        <p:spPr>
          <a:xfrm>
            <a:off x="304920" y="152388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a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’aumentare del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un orbitale ibrido mantiene i suoi elettroni più vicini al nucleo e il legame diventa più corto e più for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bbene orbital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ano simili nella forma, sono tuttavia differenti nelle dimens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29"/>
          <p:cNvSpPr/>
          <p:nvPr/>
        </p:nvSpPr>
        <p:spPr>
          <a:xfrm>
            <a:off x="228600" y="1066680"/>
            <a:ext cx="6172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unghezza di legame e forza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030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2971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D403-BD7F-4675-92EA-D0090A142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762120" y="2590920"/>
            <a:ext cx="7391160" cy="3733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52280" y="746280"/>
            <a:ext cx="632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266760" y="12193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 elettronegatività è una misura dell’attrazione di un atomo per gli elettroni in un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85800" y="2117880"/>
            <a:ext cx="67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ori di elettronegatività per alcuni elementi comu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2666880" y="12060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01960" y="2703600"/>
            <a:ext cx="513864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2E11-266A-49E8-B68F-C9C0515CB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1600200" y="2666880"/>
            <a:ext cx="6095880" cy="221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5228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8600" y="68580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valori di elettronegatività sono usati come riferimento per indicare se gli elettroni sono ugualmente condivisi o non ugualmente condivisi tra due atomi. Quando gli elettroni sono ugualmente condivisi il legame è detto non polare. Quando le differenze di elettronegatività producono una diseguale condivisione degli elettroni, il legame è polare, e si dice che ha una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o un “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28600" y="4952880"/>
            <a:ext cx="8686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legame carbonio—carbonio è nonpo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Lo stesso è vero ogniqualvolta sono legati insieme due atomi diversi che hanno elettronegatività sim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3333cc"/>
              </a:buClr>
              <a:buFont typeface="Arial"/>
              <a:buChar char="•"/>
              <a:tabLst>
                <a:tab algn="l" pos="281160"/>
                <a:tab algn="l" pos="40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 legami C—H sono considerati non pola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chè la differenza di elettronegatività tra C e H è picco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1749600" y="2654280"/>
            <a:ext cx="564336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A4D5-EBC8-44DD-AAC0-0D32B7B2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1828800" y="903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ttronegatività e polarità di leg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3048120" y="2819520"/>
            <a:ext cx="5715000" cy="1981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8600" y="685800"/>
            <a:ext cx="8686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legame tra atomi di differente elettronegatività produce una diversa diseguale condivisione degli elettroni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sempi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l legame C—O, gli elettroni sono spinti lontano dal C (2.5) verso l’ O (3.4), l’elemento a maggior elettronegatività. Il legame è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ovalente pola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i dice che il legame present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pol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cioè un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parazione di cari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2280" y="49528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direzione della polarità in un legame è indicata da una freccia con la punta della freccia rivolta verso l’elemento più elettronegativo. La coda della freccia, che ha una linea tracciata perpendicolarmente, è rivolta verso l’elemento meno elettronegativo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304920" y="2803680"/>
            <a:ext cx="259056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 baseline="30000">
                <a:solidFill>
                  <a:srgbClr val="00cc99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deficien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30000">
                <a:solidFill>
                  <a:srgbClr val="00cc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significa che l’atomo indicato è elettron ric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4994280" cy="14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60C6-17E7-4BB8-B5A4-FE26BD919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609480" y="3886200"/>
            <a:ext cx="8001000" cy="281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152280" y="593640"/>
            <a:ext cx="449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28600" y="1082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re la seguente procedura a due fasi per determinare se una molecola ha un dipolo net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304920" y="1893960"/>
            <a:ext cx="85341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sare le differenze di elettronegatività per identificare tutti i legami polari </a:t>
            </a: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e le direzioni dei dipoli di legam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terminare la geometria intorno ai singoli atomi contando i gruppi, e stabilire se i dipoli individuali si elidono o si rafforzano a vicenda nello spazio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32080" y="3886200"/>
            <a:ext cx="5481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a del potenziale elettrostatico di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7632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758664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EC27-46D3-4313-A79B-7BFA3928C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52280" y="669960"/>
            <a:ext cx="3848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olarità delle moleco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228600" y="106668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polare ha o un legame polare o due o più dipoli di legame che si sommano vettorialmente. Un esempio è l’acqu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28600" y="4419720"/>
            <a:ext cx="8534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molecola non polare o non ha legami polari, o ha due o più dipoli di legame che si elidono. Un esempio è il biossido di carboni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065240" y="2303640"/>
            <a:ext cx="7012080" cy="22492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665360" y="5257800"/>
            <a:ext cx="7478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E5B2-DA1D-425D-A57E-144F541DC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228600" y="120348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iassunto sul legam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80880" y="1774800"/>
            <a:ext cx="8382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legame è l’unione di due atomi in un arrangiamen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completano il livello esterno di elettroni di val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raverso il legame, gli atomi raggiungono la configurazione stabile de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ionici si originano dal trasferimento di elettroni da un elemento ad un al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egami covalenti si originano dalla compartecipazione di elettroni tra due nucle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A618-DAB4-45FF-A788-9B57C7C74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920" y="76212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legame ionico è generalmente presente quando elementi situati sul lato sinistro della tavola periodica si combinano con elementi situati sul lato destro, fatta esclusione per i gas no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tione carico positivamente formato da un elemento situato sul lato sinistro attrae un anione carico negativamente formato da un elemento situato sulla parte destra. Un esempio è cloruro di sodio,  NaC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666880" y="152280"/>
            <a:ext cx="381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uttura e Lega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4099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4:56Z</dcterms:modified>
  <cp:revision>318</cp:revision>
  <dc:subject/>
  <dc:title>PowerPoint Presentation</dc:title>
</cp:coreProperties>
</file>