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55.wmf" ContentType="image/x-wmf"/>
  <Override PartName="/ppt/media/image98.png" ContentType="image/png"/>
  <Override PartName="/ppt/media/image54.wmf" ContentType="image/x-wmf"/>
  <Override PartName="/ppt/media/image97.png" ContentType="image/png"/>
  <Override PartName="/ppt/media/image53.wmf" ContentType="image/x-wmf"/>
  <Override PartName="/ppt/media/image50.png" ContentType="image/png"/>
  <Override PartName="/ppt/media/image48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47.jpeg" ContentType="image/jpeg"/>
  <Override PartName="/ppt/media/image90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2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4.wmf" ContentType="image/x-wmf"/>
  <Override PartName="/ppt/media/image28.wmf" ContentType="image/x-wmf"/>
  <Override PartName="/ppt/media/image65.wmf" ContentType="image/x-wmf"/>
  <Override PartName="/ppt/media/image25.png" ContentType="image/png"/>
  <Override PartName="/ppt/media/image66.wmf" ContentType="image/x-wmf"/>
  <Override PartName="/ppt/media/image67.wmf" ContentType="image/x-wmf"/>
  <Override PartName="/ppt/media/image68.wmf" ContentType="image/x-wmf"/>
  <Override PartName="/ppt/media/image24.wmf" ContentType="image/x-wmf"/>
  <Override PartName="/ppt/media/image61.wmf" ContentType="image/x-wmf"/>
  <Override PartName="/ppt/media/image96.wmf" ContentType="image/x-wmf"/>
  <Override PartName="/ppt/media/image17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95.wmf" ContentType="image/x-wmf"/>
  <Override PartName="/ppt/media/image45.jpeg" ContentType="image/jpeg"/>
  <Override PartName="/ppt/media/image69.wmf" ContentType="image/x-wmf"/>
  <Override PartName="/ppt/media/image71.png" ContentType="image/png"/>
  <Override PartName="/ppt/media/image88.wmf" ContentType="image/x-wmf"/>
  <Override PartName="/ppt/media/image51.wmf" ContentType="image/x-wmf"/>
  <Override PartName="/ppt/media/image93.png" ContentType="image/png"/>
  <Override PartName="/ppt/media/image76.wmf" ContentType="image/x-wmf"/>
  <Override PartName="/ppt/media/image87.wmf" ContentType="image/x-wmf"/>
  <Override PartName="/ppt/media/image75.wmf" ContentType="image/x-wmf"/>
  <Override PartName="/ppt/media/image70.jpeg" ContentType="image/jpeg"/>
  <Override PartName="/ppt/media/image78.wmf" ContentType="image/x-wmf"/>
  <Override PartName="/ppt/media/image77.wmf" ContentType="image/x-wmf"/>
  <Override PartName="/ppt/media/image21.png" ContentType="image/png"/>
  <Override PartName="/ppt/media/image89.wmf" ContentType="image/x-wmf"/>
  <Override PartName="/ppt/media/image27.wmf" ContentType="image/x-wmf"/>
  <Override PartName="/ppt/media/image92.wmf" ContentType="image/x-wmf"/>
  <Override PartName="/ppt/media/image59.wmf" ContentType="image/x-wmf"/>
  <Override PartName="/ppt/media/image12.wmf" ContentType="image/x-wmf"/>
  <Override PartName="/ppt/media/image20.jpeg" ContentType="image/jpeg"/>
  <Override PartName="/ppt/media/image16.wmf" ContentType="image/x-wmf"/>
  <Override PartName="/ppt/media/image81.wmf" ContentType="image/x-wmf"/>
  <Override PartName="/ppt/media/image1.png" ContentType="image/png"/>
  <Override PartName="/ppt/media/image29.wmf" ContentType="image/x-wmf"/>
  <Override PartName="/ppt/media/image94.wmf" ContentType="image/x-wmf"/>
  <Override PartName="/ppt/media/image91.wmf" ContentType="image/x-wmf"/>
  <Override PartName="/ppt/media/image26.wmf" ContentType="image/x-wmf"/>
  <Override PartName="/ppt/media/image58.png" ContentType="image/png"/>
  <Override PartName="/ppt/media/image15.wmf" ContentType="image/x-wmf"/>
  <Override PartName="/ppt/media/image46.jpeg" ContentType="image/jpeg"/>
  <Override PartName="/ppt/media/image80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11.png" ContentType="image/png"/>
  <Override PartName="/ppt/media/image7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59E-3E83-4D08-ADC0-BB9944F2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DA6-C029-4ECC-A783-500E638E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A48-A54E-4FC0-A6FE-8CE04940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213-0F94-4073-A260-018CB963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035-FBF1-4597-940E-4A7A2CC6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621-B3AA-46CF-9AB7-422073A5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746-DBA3-4E5F-8E27-0A399EB3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E43-8313-41A2-ADB1-C38E4571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6B7-C397-4450-B4C9-215A658B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E23-380D-458A-AF07-C9E5D8A2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38C-E5B5-49C1-A761-F02002BC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8AC-8DF0-4CEA-B1C8-40C67511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B0A1-BED4-492C-9299-9499C7F8C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3.png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145B-D853-43D9-85AC-F8661EAE8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359080" y="3809880"/>
            <a:ext cx="463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828800" y="6172200"/>
            <a:ext cx="5943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 The McGraw-Hill Companies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814A-74CD-4194-ADAD-F59571AE5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28600" y="152568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 idrogeno forma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atomi di idrogeno sono legati da un legame, ognuno presenta un livello di valenza con due elett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990720"/>
            <a:ext cx="64008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nell’idrogeno molecolare (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862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E2B6-495F-4F75-87D6-3D9C2DB64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04920" y="838080"/>
            <a:ext cx="853416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elementi della seconda riga non possono avere più di otto elettroni intorno. Per le molecole neutre, questo ha due conseguenz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uno, due o tre  elettroni di valenza formano uno, due o tre legami rispettivamente, in molecole neutr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quattro o più elettroni di valenza formano legami sufficienti per formare l’ottetto. Questi concetti sono riassunti nella seguente equazione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ando elementi della seconda riga formano meno di quattro legami i loro ottetti consistono di elettroni sia di legame (condivisi) che di non legame (non condivisi). Gli elettroni non condivisi sono anche chiamat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ppie solitari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560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516A-D46F-4247-9006-FC01C1B85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270160"/>
            <a:ext cx="9144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9DCA-A2AC-4BEB-B693-2734CB266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8985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assunto delle strutture di Lew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1403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strutture di Lewis sono rappresentazioni delle molecole in cui gli elettroni sono rappresentati con un punto. Ci sono tre regole generali per disegnare strutture di Lew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04920" y="2286000"/>
            <a:ext cx="86104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gnare solo gli elettroni di valenz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elemento della seconda riga un ottetto di elettroni, se possib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idrogeno due elettron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7262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D109-DE90-463A-8B2D-5E21BCDEF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52280" y="990720"/>
            <a:ext cx="563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ica Form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371600"/>
            <a:ext cx="86868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formale è la carica assegnata a singoli atomi in una struttura di Lew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colando la carica formale determiniamo come il numero degli elettroni intorno ad un particolare atomo si confronti con il numero dei suoi elettroni di valenza. La carica formale è calcolata come segu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4495680"/>
            <a:ext cx="8686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numero di elettroni “posseduti” da un atomo è determinato dal suo numero di legami e dalle coppie solita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atomo “possiede”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utt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 suoi elettroni non condivisi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 met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 quelli condivis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23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F9BC-BD09-4679-B122-82DED0210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28600" y="10065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elettroni “posseduti” da atomi diversi è  indicato negli esempi seguen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8320" y="2762280"/>
            <a:ext cx="7947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F165-7BF2-4A39-9676-84861389C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6320" y="1341360"/>
            <a:ext cx="7191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DA09-76CA-483F-8183-572C67A37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8600" y="68580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omer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10666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disegnare una struttura di Lewis per una molecola con molti atomi, qualche volta per una data formula molecolare è possibile più di una disposizione degli atomi che la costituisco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emp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4495680"/>
            <a:ext cx="87631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mbe sono strutture di Lewis valide ed entrambe le molecole esistono. Questi due composti sono chiamati isomer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li isomeri sono molecole diverse che hanno la stessa formula molecolar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nolo e l’etere dimetilico son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someri costituziona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5273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CD92-8E0A-4053-9511-40E03F288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2280" y="9748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ccezioni alla regola dell’ottett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30 second row elements without an octet"/>
          <p:cNvPicPr/>
          <p:nvPr/>
        </p:nvPicPr>
        <p:blipFill>
          <a:blip r:embed="rId1"/>
          <a:stretch/>
        </p:blipFill>
        <p:spPr>
          <a:xfrm>
            <a:off x="2057400" y="2057400"/>
            <a:ext cx="5143680" cy="1436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04920" y="1447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i Gruppi 2A e 3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600" y="3657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lla terza ri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65005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4ACE-1D0E-49E9-BE70-7C1B061A6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533520"/>
            <a:ext cx="278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1066680"/>
            <a:ext cx="8686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cune molecole non possono essere adeguatamente rappresentate da una singola struttura di Lewis. Per esempio, due valide strutture di Lewis possono essere disegnate per l’anione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struttura presenta l’atomo di azoto carico negativamente ed un doppio legame C-O; l’altra presenta un atomo di ossigeno carico negativamente ed un doppio legame C-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920" y="46180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e strutture sono chiamate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rutture di risonanz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forme di risonanz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freccia a due punte viene usata per separare le strutture di risonanz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5791320"/>
            <a:ext cx="6688080" cy="55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373536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95F1-D6C3-4AF8-98F0-E20631D08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04920" y="472428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cleo contiene protoni carichi positivamente e neutroni neut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uvola elettronica è composta da elettroni carichi negativ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3600" y="1828800"/>
            <a:ext cx="4815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D82D-3248-4AED-BB9C-963E1143B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28600" y="685800"/>
            <a:ext cx="693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9044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66760" y="10666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760" y="1143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vamente alle due strutture di risonanza di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qui mostrate, si deve notare ch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04920" y="3200400"/>
            <a:ext cx="853416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suna struttura di risonanza è un’accurata rappresentazione per (HCON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a vera struttura è una struttura mista di entrambe le forme di risonanza ed è chiama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rido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ibrido mostra caratteristiche di entrambe le strut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isonanza fa sì che alcune coppie elettroniche risultin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z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 due o più atomi, e ques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azione aumenta la stabilit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molecola con due o più forme di risonanza viene detta esser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abilizzata per risonan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73536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E420-9DA0-4621-8DBE-E33E968D9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28600" y="7462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6760" y="1263600"/>
            <a:ext cx="861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icorda i seguenti principi di base della teoria della risonanza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2209680"/>
            <a:ext cx="861048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real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singola struttura di risonanza non rappresenta in modo adeguato la struttura di una molecola o di uno ione. Ciò vale solo per l’ibrid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n equilibrio tra lor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Non c’è movimento di elettroni da una all’altra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somer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Due isomeri differiscono nella disposizione sia di atomi che di elettroni, mentre le strutture di risonanza differiscono solamente nella disposizione degli elettron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3128-2543-4250-BBB1-28946E64B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52280" y="685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2280" y="112716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1]: Due strutture di risonanza differiscono nella posizione di legami multipli e di elettroni di non legame. La posizione degli atomi e dei legami singoli rimane sempre la ste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04920" y="470844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2]: Due strutture di risonanza devono avere lo stesso numero di elettroni non accoppi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70320" y="2317680"/>
            <a:ext cx="4203360" cy="2222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5410080"/>
            <a:ext cx="71546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9B62-15DF-430E-A96E-BEA970835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6606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3]: le strutture di risonanza devono essere strutture di Lewis valide. L’idrogeno deve avere due elettroni e nessun elemento della seconda riga deve avere più di otto elettron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990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7986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CFFE-213B-4E2A-A90A-C663C17F6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838080"/>
            <a:ext cx="8534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è una convenzione che viene usata per mostrare come la posizione degli elettroni differisca fra le due forme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mostra il movimento di una coppia di elettron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oda della freccia inizia sempre da una coppia di elettroni, sia di un legame che di una coppia solitaria. La testa è rivolta dove la coppia di elettroni si “muov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57200" y="3200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560" y="501336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2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666880" y="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2320" y="4900680"/>
            <a:ext cx="5029200" cy="174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4902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9C01-4FEE-4227-ADCB-F9BBC5FC4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898560"/>
            <a:ext cx="556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 due esempi precedenti, una coppia solitaria è posizionata su un atomo direttamente legato ad un doppio lega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7960" y="2050920"/>
            <a:ext cx="5786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252E-8770-4F6C-AA5B-564FF6B24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920" y="1066680"/>
            <a:ext cx="556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li esempi precedenti, un atomo che porta una carica (+) è legato sia ad un doppio legame sia ad un atomo con una coppia solita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39960" y="2592360"/>
            <a:ext cx="5462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5714-85E6-4AE6-AFEB-F89D70B42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92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1371600"/>
            <a:ext cx="83822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 ibrido di risonanza è la struttura composta di tutte le possibili strutture di risonanz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Nell’ibrido di risonanza le coppie di elettroni, disegnate nelle differenti posizioni delle strutture di risonanza individuali, sono delocalizza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strutture di risonanza sono differenti, l’ibrido assomiglia di più alla struttura di risonanza “migliore”. La struttura di risonanza “migliore” è chiamata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ggior contribu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’ibrido, e tutte le altr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tribuenti mino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brido è la media pesata delle strutture di risonanza contrib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57BB-7016-494E-8E76-70980AADA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04920" y="1371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 struttura di risonanza “migliore” è quella che presenta più legami e meno carich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860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63600" y="2352600"/>
            <a:ext cx="4815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8A25-A6DD-4FE2-A4E1-68A6F05A8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520" y="1523880"/>
            <a:ext cx="525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gli 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823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553E-2756-40B0-94EA-570441C7E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5334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riga hanno dimensioni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colonna hanno proprietà elettroniche e chimiche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15960" y="1839960"/>
            <a:ext cx="6110280" cy="317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403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2ED3-66DF-42E7-AB27-791ECB89E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525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280" y="609480"/>
            <a:ext cx="60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variabili definiscono la struttura di una molecola: lunghezza di legame e angolo di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04920" y="21337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diminuisce lungo una riga della tavola periodica con la diminuzione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28600" y="4267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aumenta scendendo lungo una colonna della tavola periodica con l’aumento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735360" cy="124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95680" y="5486400"/>
            <a:ext cx="359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756B-2DC5-4B4C-A780-B12E72B21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1960" y="2308320"/>
            <a:ext cx="8018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2B96-AE59-4D74-ABE0-A8CBD1BA2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1143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golo di legame determina la forma intorno ad ogni atomo legato ad altri due atom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52280" y="609480"/>
            <a:ext cx="7239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-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80880" y="1905120"/>
            <a:ext cx="84582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gruppi che circonda un  particolare atomo determina la sua geometria. Un gruppo è sia un atomo sia una coppia solitaria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isposizione più stabile tiene questi gruppi il più possibile distanti uno dall’altro. Questo è esemplificato nella teoria della Repulsione tra le coppie Elettroniche nel Livello di Valenza - Valence Shell Electron Pair Repulsion (VSEPR)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54277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2BAD-A1FF-4B6C-BC33-74D883825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6320" y="1203480"/>
            <a:ext cx="73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6320" y="1752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du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154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0774-9EA8-4DC9-9600-57014FE9C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8600" y="12034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182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tr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731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BCDA-5EA7-41EA-BF98-F435E2ADE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4920" y="1371600"/>
            <a:ext cx="601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572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quattro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686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5F38-38B1-4A9F-B9B1-E356DC6C1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04920" y="76212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57200" y="1371600"/>
            <a:ext cx="80773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nel piano è indicato con una linea pien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avanti al piano è indicato con un cun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ietro al piano è indicato con una linea tratteggi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731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42F4-DB9E-40E0-B16B-F31B71F64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52280" y="1219320"/>
            <a:ext cx="769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7524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possono essere ruotate nei modi più diversi, generando molte rappresentazioni equivalenti. Tutte queste sono accettabili rapprestazioni d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939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15D6-31DD-4EA4-8AFD-57A9A2DB4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04920" y="105084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57200" y="1600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nei  e tratteggi  sono usati per rappresentare gruppi che stanno in realtà allineati uno dietro l’altro. Nelle due rappresentazioni seguenti, non importa se il tratteggio o il cuneo siano a destra o a sinistra, in quanto i due H sono in realtà alline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983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4B5B-FB62-4B96-A674-E42DFD47B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28600" y="80640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920" y="1679400"/>
            <a:ext cx="8534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uno dei quattro gruppi legati all’N centrale è una coppia solitaria. I tre H e la coppia solitaria sono direzionati secondo i vertici di un tetraedro. L’angolo H-N-H di 10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forma di riferimento è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iramide trigo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6831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ED48-9AD8-45CE-939B-CC14AA946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818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4D67-5045-4283-862B-79B74067C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4920" y="68580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80880" y="1523880"/>
            <a:ext cx="8077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, due dei quattro gruppi legati all’ O centrale sono coppie solitarie. I due H e le due oppie libere sono direzionati secondo i vertici di un tetraedro. L’angolo H-O-H di 10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’acqua ha una forma ad angolo, perchè due dei gruppi che circondano l’ossigeno sono coppie solitarie di elettr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8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951A-D53D-423E-876A-D31D8B0E0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2666880" y="5014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54 water"/>
          <p:cNvPicPr/>
          <p:nvPr/>
        </p:nvPicPr>
        <p:blipFill>
          <a:blip r:embed="rId1"/>
          <a:srcRect l="86608" t="0" r="0" b="0"/>
          <a:stretch/>
        </p:blipFill>
        <p:spPr>
          <a:xfrm>
            <a:off x="990720" y="4267080"/>
            <a:ext cx="990360" cy="179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53 ammonia"/>
          <p:cNvPicPr/>
          <p:nvPr/>
        </p:nvPicPr>
        <p:blipFill>
          <a:blip r:embed="rId2"/>
          <a:srcRect l="84449" t="0" r="0" b="0"/>
          <a:stretch/>
        </p:blipFill>
        <p:spPr>
          <a:xfrm>
            <a:off x="914400" y="2514600"/>
            <a:ext cx="1066680" cy="187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50 drawing 3d structures on paper"/>
          <p:cNvPicPr/>
          <p:nvPr/>
        </p:nvPicPr>
        <p:blipFill>
          <a:blip r:embed="rId3"/>
          <a:srcRect l="78503" t="25449" r="8602" b="19445"/>
          <a:stretch/>
        </p:blipFill>
        <p:spPr>
          <a:xfrm>
            <a:off x="838080" y="1219320"/>
            <a:ext cx="1055880" cy="1143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2151720" y="1752480"/>
            <a:ext cx="207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no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103480" y="3352680"/>
            <a:ext cx="27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166840" y="5181480"/>
            <a:ext cx="195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876920" y="1295280"/>
            <a:ext cx="358128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trambe le molecole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l’angolo di legame è di poco inferiore all’angolo teorico tetraedrico a causa della repulsione delle coppie solitarie di elettroni. Gli atomi legati sono quindi compressi in uno spazio minore con un angolo di legame più picco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CDEA-EFDE-4804-B3B3-571C8137F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04920" y="143208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dire la geometria sulla base del numero dei gruppi attorno all’atomo centr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630520"/>
            <a:ext cx="9144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6833-13C5-4633-9236-A109D92C2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52280" y="609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le molecole organiche—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1022400"/>
            <a:ext cx="86868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tti gli atomi vengono disegnati, ma le linee dei legami a due elettroni vengono generalmente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i atomi vengono solitamente disegnati  vicini agli atomi ai quali sono leg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entesi sono usate intorno a gruppi uguali legati allo stesso ato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coppie elettroniche solitarie vengono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6327720" cy="1295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33037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8224-94A4-4941-99B4-6337453E4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76212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007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951C-2353-46BB-9314-AE58D215F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52280" y="76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 contenenti un doppio legame C-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7675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CB4E-E3B6-4713-A894-4632A3CED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2280" y="66996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utture segmentat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111744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ci sia un atomo di carbonio in corrispondenza di ogni giunzione di due segmenti o all’estremità di ogni segmen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intorno ad ogni atomo di carbonio ci siano abbastanza idrogeni per renderlo tetraval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ire tutti gli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eteroatom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gli H ad essi direttamente lega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6831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2C7C-2CA5-4627-99F0-1F64E487B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52280" y="685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segmen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15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F7E2-1DF1-4B8A-9F24-32BC05EA2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52280" y="62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quanto segue sull’interpretazione delle strutture segmentat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6320" y="1366920"/>
            <a:ext cx="86868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carica su un atomo di carbonio prende il posto di un atomo di idr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determina il numero di coppie solitarie. Atomi di carbonio con una carica negativa hanno una coppia solitaria e atomi con una carica positiva non ne hanno alcun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6977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EEE2-4C36-48E3-B679-5DF7BF341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28600" y="7621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L’idroge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04920" y="1295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un atomo di idrogeno si sovrappone all’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tro atomo di idrogeno, si forma tra i due nuclei un legame sigma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che concentra la densità elettronica tra i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o legame ha simmetria cilindrica perchè gli elettroni che formano il legame sono distribuiti simmetricamente attorno ad una linea immaginaria che congiunge i due nucle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543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5666-A125-49FB-AE70-93204095F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2280" y="12952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 una densità elettonica sferica e una energia più bassa di altri orbitali nello stesso liv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a una forma a due lobi e contiene un nodo di densità elettronica presso il nucleo. Presenta una energia più alta di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1102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B189-2756-40A2-8272-FD8F5730A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228600" y="6094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04920" y="1066680"/>
            <a:ext cx="853416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endere conto dei tipi di legame osservati in molecole più complesse, dobbiamo esaminare più da vicino gli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gli atomi della seconda rig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carbonio ha due elettroni interni più quattro elettroni di valenza. Per riempire gli orbitali atomici nella configurazione più stabile, gli elettroni sono disposti negli orbitali a più bassa energia. Per questo nel carbonio abbiamo due elettroni nel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d un elettrone ciascuno n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04920" y="606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Nota: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La disposizione a più bassa energia degli elettroni per un atomo prende il nome di stato fondament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33720" y="3962520"/>
            <a:ext cx="4886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CD7D-A74D-420C-B522-12A1EA774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228600" y="9907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04920" y="15238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questa descrizione, il carbonio dovrebbe formare solo due legami poichè ha solo due elettroni di valenza spaiati,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vrebbe essere una molecola stabile. In realtà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specie altamente reattiva che non può essere isolata nelle normali condizioni di laboratorio.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arbonio non avrebbe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951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0F5E-6065-4951-BC34-D27CB309D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228600" y="68580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04920" y="12193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a seconda possibilità. L’avanzamento di un elettrone d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ibero darebbe origine a quattro elettroni spaiati per formare legami. Questo processo richiede energia perchè sposta un elettrone su un orbitale ad energia più elevata. Questa nuova disposizione di elettroni su orbitali a più alta energia è chiamat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stato eccita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5197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a descrizione però non è ancora adeguata. Il carbonio formerebbe due tipi di legame: tre con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uno con 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Tuttavia prove sperimentali evidenziano che nel metano il carbonio forma quattro legami identic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75153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3969-733F-442A-A151-E098DAEBE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228600" y="7462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04920" y="1204920"/>
            <a:ext cx="853416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isolvere questa incongruenza, i chimici hanno postulato che atomi come il carbonio non usino orbitali pur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formare i legami, bensì un insieme di nuovi orbitali chiamati orbitali ibrid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Arial"/>
              </a:rPr>
              <a:t>L’ ibridazione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è la combinazione di due o più orbitali atomici per formare lo stesso numero di orbitali ibridi, ognuno dei quali ha la stessa forma ed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7586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CBD9-B5E1-4B48-A521-13806D39B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228600" y="685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ma ed orientamento d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11276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ndo insieme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ferico e tre orbitali a forma bilobata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ottengono quattro orbitali formati da un lobo grande ed un lobo piccol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304920" y="3733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quattro orbitali ibridi sono orientati secondo i vertici di un tetraedro, e formano quattro legami equivalen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10280" cy="1368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752480" y="4379760"/>
            <a:ext cx="666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0765-2B83-429A-9F0F-9B249C978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228600" y="9748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attaverso gl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1494000"/>
            <a:ext cx="8534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legame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formato dalla sovrapposizione di un orbitale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arbonio con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idrogeno. Questi quattro legami puntano verso i vertici di un tetraed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324480" y="2819520"/>
            <a:ext cx="254664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73342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BA92-4D82-4D45-9C5A-A823F342F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228600" y="685800"/>
            <a:ext cx="48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4920" y="116532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tr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quattro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du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tr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du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1452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6462-A1AC-4B2B-83D4-1EDFB209D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28600" y="83808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04920" y="128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terminare l’ibridazione di un atomo in una molecola contare i gruppi intorno all’atomo. Il numero dei gruppi (atomi e coppie elettroniche di non legame) corrisponde al numero degli orbitali atomici che devono essere ibridati per formare gli orbitali ibr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118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BEA7-3E61-4DF3-9534-F580F9461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522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ibrid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76320" y="4724280"/>
            <a:ext cx="891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39360" cy="3473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514600" y="4800600"/>
            <a:ext cx="5570640" cy="1709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2619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897B-45B6-43E1-92B4-939163994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1371600" y="2971800"/>
            <a:ext cx="563868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228600" y="6094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05320" y="838080"/>
            <a:ext cx="51814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952560" y="76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762120"/>
            <a:ext cx="1351080" cy="1488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3698640" cy="1511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5139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37A7-39D7-40F4-80A1-33E00DA4D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28600" y="762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 momento che è presente un solo orbitale nel primo livello, ed ogn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bit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uò contenere al massimo due elettroni, ci sono due elementi nella prima riga, H ed 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28600" y="296244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ni elemento della seconda riga della tavola periodica presenta quattro orbitali disponibili ad accettare ulteriori elettroni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 orbitale 2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 orbitali 2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6264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600" y="3876840"/>
            <a:ext cx="79833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0145-BC53-4B95-9F86-3FA336239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28600" y="15238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371600" y="3352680"/>
            <a:ext cx="7238880" cy="297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1711440"/>
            <a:ext cx="1351080" cy="14889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304920" y="898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362320" y="16477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lizzazione di un modello dell’etano illustra un’ulteriore caratteristica circa la sua struttura. Attorno al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—C esiste libera rot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6002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8830-4BC1-40BD-9316-534E6770A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22860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419720" y="1401840"/>
            <a:ext cx="4495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trigonale e planar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ibrida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7"/>
          <p:cNvSpPr/>
          <p:nvPr/>
        </p:nvSpPr>
        <p:spPr>
          <a:xfrm>
            <a:off x="152280" y="289548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195720" cy="1331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263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0E28-5556-41DE-B37B-33C882BF2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429000" y="4648320"/>
            <a:ext cx="533412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219320" y="2362320"/>
            <a:ext cx="70866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95256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230280" cy="1278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393920" y="2455920"/>
            <a:ext cx="6759360" cy="1944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5175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E343-1859-44D6-9A8F-EAAB67149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04920" y="1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28600" y="25146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ersamente dal legame singolo C—C nell’ etano, la rotazione attorno al doppio legame C—C nell’etilene è limitata. Può verificarsi solo s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ima si rompe e poi si riforma, un processo che richiede un apporto considerevole di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122640" cy="1332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778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CAB5-B9AA-47A8-AA94-F5CE6B86D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152280" y="609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8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B131-5E7C-4C92-835C-AD60BC03B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286000" y="4876920"/>
            <a:ext cx="563868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676520" y="2209680"/>
            <a:ext cx="678168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76320" y="45720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1143000" y="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54100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11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 1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6362640" cy="2457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371760" y="4910040"/>
            <a:ext cx="34099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4C64-D725-4704-A90A-A0AA428DA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4343400" y="2895480"/>
            <a:ext cx="3657600" cy="198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76320" y="8380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143000" y="243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2593800"/>
            <a:ext cx="4114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atomo di carbonio ha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ibridi che sono perpendicolari fra loro e agli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La sovrapposizione laterale d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 un carbonio con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ll’altro carbonio dà origine al secondo e terzo legame del triplo legame. Tutti i tripli legami sono formati da un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u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906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5116-46EC-49F0-8D6C-372171A96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6320" y="2819520"/>
            <a:ext cx="8915400" cy="380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2781360" y="10666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76320" y="517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90512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assunto dei legami nell’ acetil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1295280" y="22860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28600" y="1919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1.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65437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785E-AAD3-412C-9D1C-24C75A1A6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52280" y="441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rio dei legami covalenti osservati nei composti del carbonio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666880" y="76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34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DF9D-E3A0-4EB0-A5AF-D059AE80B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4920" y="898560"/>
            <a:ext cx="632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19040" y="14479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’aumentare del numero di elettroni tra due nuclei, i legami diventano più corti e più for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ndi, i legami tripli sono più corti e più forti dei legami doppi, che a loro volta sono più corti e più forti dei legami singo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70106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8B2A-4BDB-4B8C-A8AF-28DA563BA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822240"/>
            <a:ext cx="464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menti della Seconda Rig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1295280"/>
            <a:ext cx="8458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ognuno dei quattro orbitali disponibili nel secondo livello può ospitare due elettroni, gli elementi della seconda riga presentano una capacità massima di otto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conda riga della tavola perodica consiste di otto elementi, ottenuti per aggiunta di elettroni agli orbitali 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831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0BA6-5A5D-42B4-B4E9-D71877259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26"/>
          <p:cNvSpPr/>
          <p:nvPr/>
        </p:nvSpPr>
        <p:spPr>
          <a:xfrm>
            <a:off x="228600" y="127944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27"/>
          <p:cNvSpPr/>
          <p:nvPr/>
        </p:nvSpPr>
        <p:spPr>
          <a:xfrm>
            <a:off x="419040" y="1905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unghezza e la forza dei legami 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varia dipendentemente dall’ibridazione dell’atomo di carbon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30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45464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DB13-AFD6-4844-B8ED-49F81C295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98320" y="723960"/>
            <a:ext cx="794736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A877-A592-4AD5-91B8-C31F2E92C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52280" y="97488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092320" y="2379600"/>
            <a:ext cx="4959360" cy="2097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370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8098-A59C-43CE-A15D-C2F32F5BC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26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28"/>
          <p:cNvSpPr/>
          <p:nvPr/>
        </p:nvSpPr>
        <p:spPr>
          <a:xfrm>
            <a:off x="304920" y="1523880"/>
            <a:ext cx="8534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’aumentare del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un orbitale ibrido mantiene i suoi elettroni più vicini al nucleo e il legame diventa più corto e più for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bbene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ano simili nella forma, sono tuttavia differenti nelle dimens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29"/>
          <p:cNvSpPr/>
          <p:nvPr/>
        </p:nvSpPr>
        <p:spPr>
          <a:xfrm>
            <a:off x="228600" y="1066680"/>
            <a:ext cx="617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30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2971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969F-B65E-4BBD-85E3-7B294E7C0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762120" y="2590920"/>
            <a:ext cx="7391160" cy="373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52280" y="746280"/>
            <a:ext cx="632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26676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 elettronegatività è una misura dell’attrazione di un atomo per gli elettroni in un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85800" y="2117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i di elettronegatività per alcuni elementi comun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666880" y="1206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001960" y="2703600"/>
            <a:ext cx="51386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CDB2-5CD4-42EE-86AE-920739FB8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600200" y="2666880"/>
            <a:ext cx="609588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1828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52280" y="27432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228600" y="68580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valori di elettronegatività sono usati come riferimento per indicare se gli elettroni sono ugualmente condivisi o non ugualmente condivisi tra due atomi. Quando gli elettroni sono ugualmente condivisi il legame è detto non polare. Quando le differenze di elettronegatività producono una diseguale condivisione degli elettroni, il legame è polare, e si dice che ha una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o un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28600" y="4952880"/>
            <a:ext cx="8686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 legame carbonio—carbonio è nonpol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Lo stesso è vero ogniqualvolta sono legati insieme due atomi diversi che hanno elettronegatività sim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 legami C—H sono considerati non pola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chè la differenza di elettronegatività tra C e H è picco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49600" y="2654280"/>
            <a:ext cx="56433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9C8E-4451-48DD-862D-65A493467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828800" y="903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048120" y="2819520"/>
            <a:ext cx="5715000" cy="19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228600" y="685800"/>
            <a:ext cx="8686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legame tra atomi di differente elettronegatività produce una diversa diseguale condivisione degli elettron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empi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l legame C—O, gli elettroni sono spinti lontano dal C (2.5) verso l’ O (3.4), l’elemento a maggior elettronegatività. Il legame è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valente 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Si dice che il legame presenta u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cioè un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2280" y="4952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irezione della polarità in un legame è indicata da una freccia con la punta della freccia rivolta verso l’elemento più elettronegativo. La coda della freccia, che ha una linea tracciata perpendicolarmente, è rivolta verso l’elemento meno elettronegativ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304920" y="2803680"/>
            <a:ext cx="2590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defic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30000">
                <a:solidFill>
                  <a:srgbClr val="00cc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ric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99428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C7F9-5D1D-445B-B220-98598FB2E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09480" y="3886200"/>
            <a:ext cx="80010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152280" y="593640"/>
            <a:ext cx="449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28600" y="1082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re la seguente procedura a due fasi per determinare se una molecola ha un dipolo net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304920" y="189396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are le differenze di elettronegatività per identificare tutti i legami polari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e le direzioni dei dipoli di legam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terminare la geometria intorno ai singoli atomi contando i gruppi, e stabilire se i dipoli individuali si elidono o si rafforzano a vicenda nello spazi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532080" y="3886200"/>
            <a:ext cx="548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a del potenziale elettrostatico di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75866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FAB9-1C89-443F-9A2B-3BB0D1E42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52280" y="669960"/>
            <a:ext cx="384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28600" y="10666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polare ha o un legame polare o due o più dipoli di legame che si sommano vettorialmente. Un esempio è l’acqu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28600" y="441972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non polare o non ha legami polari, o ha due o più dipoli di legame che si elidono. Un esempio è il biossido di carboni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065240" y="2303640"/>
            <a:ext cx="7012080" cy="2249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665360" y="5257800"/>
            <a:ext cx="7478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88D6-732B-4546-9F87-E0699FC77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1203480"/>
            <a:ext cx="38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assunto sul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0880" y="177480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legame è l’unione di due atomi in un arrangiamen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completano il livello esterno di elettroni di val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raggiungono la configurazione stabile de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ionici si originano dal trasferimento di elettroni da un elemento ad un al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covalenti si originano dalla compartecipazione di elettroni tra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18D9-1FCE-4088-A7A0-F0036DE30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920" y="76212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legame ionico è generalmente presente quando elementi situati sul lato sinistro della tavola periodica si combinano con elementi situati sul lato destro, fatta esclusione per 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tione carico positivamente formato da un elemento situato sul lato sinistro attrae un anione carico negativamente formato da un elemento situato sulla parte destra. Un esempio è cloruro di sodio,  NaC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4099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4:56Z</dcterms:modified>
  <cp:revision>318</cp:revision>
  <dc:subject/>
  <dc:title>PowerPoint Presentation</dc:title>
</cp:coreProperties>
</file>