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42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3.jpeg" ContentType="image/jpeg"/>
  <Override PartName="/ppt/media/image40.jpeg" ContentType="image/jpeg"/>
  <Override PartName="/ppt/media/image44.jpeg" ContentType="image/jpeg"/>
  <Override PartName="/ppt/media/image43.png" ContentType="image/png"/>
  <Override PartName="/ppt/media/image53.jpeg" ContentType="image/jpeg"/>
  <Override PartName="/ppt/media/image34.jpeg" ContentType="image/jpeg"/>
  <Override PartName="/ppt/media/image46.png" ContentType="image/png"/>
  <Override PartName="/ppt/media/image11.png" ContentType="image/png"/>
  <Override PartName="/ppt/media/image55.png" ContentType="image/png"/>
  <Override PartName="/ppt/media/image45.jpeg" ContentType="image/jpeg"/>
  <Override PartName="/ppt/media/image37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51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54.jpeg" ContentType="image/jpeg"/>
  <Override PartName="/ppt/media/image56.png" ContentType="image/png"/>
  <Override PartName="/ppt/media/image41.png" ContentType="image/png"/>
  <Override PartName="/ppt/media/image47.png" ContentType="image/png"/>
  <Override PartName="/ppt/media/image35.jpeg" ContentType="image/jpeg"/>
  <Override PartName="/ppt/media/image10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2.png" ContentType="image/png"/>
  <Override PartName="/ppt/media/image8.jpeg" ContentType="image/jpeg"/>
  <Override PartName="/ppt/media/image38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83B9-A69A-4D23-AE05-B4B468CF27D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46F9-C1FE-4BDF-9926-AA31D9C3950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01EF-5B00-421E-899A-600D4DA10E5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B1EC-66CF-4E46-AAF0-8F90D0F3EB8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4C75-738E-4F5A-B197-FD57B4324CD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91D4-D8D5-4A02-8610-B5AF70599E9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FBFC-5661-47F6-B977-D36E72FDEA3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B627-DEE2-4DD7-9728-D6EC433C6BF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CA81-EC81-40C6-BE8A-830027DD573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CA93-F897-4CC2-8343-6ACF53F7263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9307-8E7F-4660-848C-22F7CABE6F4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8EBC-3C12-4BBF-B23B-913E1EFAE4B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50E4-5C24-47B5-899C-B579F64590D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C2CC-AE9D-4954-87B1-3F1F97073C2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EE4B-24C5-4367-9F03-4F97FBA882C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4572-9DF7-4795-8671-CC675811E7B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E9F3-75C3-44F7-A5A9-0C3FB8B2F5D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D158-8557-44B2-B2EE-9BB0D671242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DAE7-AE93-4BB5-AC72-4B16698E858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CBA0-D578-48FA-918A-E3240CF7775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C0E6-CD20-4196-A33A-106F9241675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9282-AF8E-411B-93D6-3F78F989B95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B3FD-FCCD-4667-A55B-C10527188A8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7358-B2D8-4C92-B1B6-9110C3AF8E2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7AA2-3367-44CC-AF5C-1AACAABE189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A582-6999-43B6-A3CD-BECD1E3D365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7C98-56B6-4DEB-89D6-99A58722CC4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B994-EB90-4137-B29D-6043A716323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1B4E-D6DA-421C-86D3-82B96A4DC65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F515-AF92-466D-B8A7-2E12E01F11B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984D-EDB5-4134-8389-189310B1C5C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F3B8-A794-4F66-98AA-5E1A69BBFD6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E2FE-ED81-4517-A849-76DAB15D67F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343D-3520-48B9-92EF-188487DA7F1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B588-5994-43B6-A3D3-C36C4154440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EAE1-9199-446E-A996-9A11BB398F4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65D6-2E16-4CC7-B245-650734CA943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C195-DE6B-4877-8F33-CE93A71EBE1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EE96-4B05-4881-8F72-8AE0599F0DC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FB8E-DBE2-4492-A56F-276ABF06A33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0E98-AB19-416D-B892-AF24F37B507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BFA9-434F-482E-8E2C-C104D4F9B89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86DA-006D-4B75-916A-CA820000BE1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F6D5-6CE6-4CCF-9F39-5CE89B0FC73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30B2-1731-409C-8A97-A4C5C09BB52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D5AC-E13E-400F-ACD0-7A2EF20F127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0833-CBA1-4FB9-9A6D-B28BCAB76DE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5A0C-6C0A-4C7D-A227-A54916E5D5A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A508-019B-4568-AEAD-30AEF2E41BD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E2F6-6B6E-4173-AFB8-9AE962B4A8C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9EBC-3892-4392-BC84-E9251BF4F3F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A20D-91EA-4098-8E46-328DF301E13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3B49-9FAB-477A-82E5-3DD64809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C741-B772-412F-B6B7-97D3E516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AB8A-E5F3-4404-99EA-68EE7322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6D5-516D-48E1-9BD7-79028CB6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CE38-6827-41CF-A52C-718865FC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F9E5-970B-44F0-8534-5E66AC5C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6CBE-842F-454B-831E-1883FCFF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80F-92E1-49DF-A5C7-CE9AB38C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F37C-9B95-4D29-8150-1617175D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2B0-DA64-48D6-B819-A4724031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C531-21F3-4B8D-82D4-680FA17C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5642-DBEF-4A5E-9377-D9B52975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2B4A-46F6-4A30-83C7-9F1791DB0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DC93-9510-49F6-9C4E-2C2D41657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10752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856600" y="3809880"/>
            <a:ext cx="364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2BE4-8A52-431D-A400-9028444FA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048120" y="6238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52280" y="14158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0008"/>
          <p:cNvPicPr/>
          <p:nvPr/>
        </p:nvPicPr>
        <p:blipFill>
          <a:blip r:embed="rId1"/>
          <a:stretch/>
        </p:blipFill>
        <p:spPr>
          <a:xfrm>
            <a:off x="762120" y="2286000"/>
            <a:ext cx="76197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39D2-C014-49E0-B249-DF47D791B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3048120" y="6238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52280" y="12952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iassunto dei Principi Basilari della Chiralità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8600" y="2125800"/>
            <a:ext cx="8686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oggetto ha la propria immagine speculare. La domanda fondamentale è se una molecola e la sua immagine speculare sono sovrappon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una molecola e la sua immagine speculare non sono sovrapponbili, la molecola e la sua immagine speculare sono chir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termini centro stereogenico e molecola chirale sono correlati ma distinti. In generale, una molecola chirale deve avere uno o più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presenza di un piano di simmetria indica che la molecola   è  a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7E59-F9B3-49BF-AFFB-5ED26F92A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300320"/>
            <a:ext cx="8686800" cy="28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individuare un centro stereogenico, considerare ogni carbonio tetraedrico di una  molecola e guardare i quattro gruppi — non i quattro atomi — a esso lega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includere mai tutti gli atomi di C che non possono essere centri stereogenici tetraedrici. Tra quest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gruppi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C ibrida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3"/>
          <a:stretch/>
        </p:blipFill>
        <p:spPr>
          <a:xfrm>
            <a:off x="230040" y="4368960"/>
            <a:ext cx="83804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D333-FCD3-4444-B087-1B9349182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048120" y="5475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8600" y="2073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organiche più grandi possono avere due, tre o anche cento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2280" y="1339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228600" y="3303720"/>
            <a:ext cx="85345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A448-A5DA-4CE3-8F52-29C7A1811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28600" y="914400"/>
            <a:ext cx="86868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crivere entrambi gli enantiomeri di un composto chirale, come il 2-butanolo, usare la tipica convenzione per rappresentare il tetraedro: scrivere due legami nel piano, poi uno sopra al piano (a cuneo) ed uno sotto al piano (a tratteggio). Quindi, per formare il primo enantiomero, sistemare i gruppi H, OH,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rbitrariamente, su ciascun legame del centro stereogenico. Quindi scrivere l’immagine specul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4572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13"/>
          <p:cNvPicPr/>
          <p:nvPr/>
        </p:nvPicPr>
        <p:blipFill>
          <a:blip r:embed="rId1"/>
          <a:stretch/>
        </p:blipFill>
        <p:spPr>
          <a:xfrm>
            <a:off x="1066680" y="4038480"/>
            <a:ext cx="70866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068D-3873-43D7-B81A-9E5160251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28600" y="914400"/>
            <a:ext cx="86868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atomi di carbonio che fanno parte di un anello possono essere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trovare i centri stereogenici sui carboni dell’anello, disegnare sempre il ciclo come un poligono piatto, e cercare i carboni tetraedrici che sono legati a  quattro gruppi divers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52280" y="3808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0015a"/>
          <p:cNvPicPr/>
          <p:nvPr/>
        </p:nvPicPr>
        <p:blipFill>
          <a:blip r:embed="rId1"/>
          <a:stretch/>
        </p:blipFill>
        <p:spPr>
          <a:xfrm>
            <a:off x="1143000" y="3195720"/>
            <a:ext cx="7086600" cy="1985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0015b"/>
          <p:cNvPicPr/>
          <p:nvPr/>
        </p:nvPicPr>
        <p:blipFill>
          <a:blip r:embed="rId2"/>
          <a:stretch/>
        </p:blipFill>
        <p:spPr>
          <a:xfrm>
            <a:off x="838080" y="5375160"/>
            <a:ext cx="7391520" cy="1406520"/>
          </a:xfrm>
          <a:prstGeom prst="rect">
            <a:avLst/>
          </a:prstGeom>
          <a:ln w="0">
            <a:noFill/>
          </a:ln>
        </p:spPr>
      </p:pic>
      <p:sp>
        <p:nvSpPr>
          <p:cNvPr id="123" name="Line 8"/>
          <p:cNvSpPr/>
          <p:nvPr/>
        </p:nvSpPr>
        <p:spPr>
          <a:xfrm>
            <a:off x="457200" y="51814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01A8-4893-4594-88E9-85800359B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28600" y="163188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3-metilcicloesene, i sostituenti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H, che sono sopra e sotto al piano dell’anello, sono disegnati con cunei e linee tratteggiat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0017a"/>
          <p:cNvPicPr/>
          <p:nvPr/>
        </p:nvPicPr>
        <p:blipFill>
          <a:blip r:embed="rId1"/>
          <a:stretch/>
        </p:blipFill>
        <p:spPr>
          <a:xfrm>
            <a:off x="1371600" y="3595680"/>
            <a:ext cx="67057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0AA5-5F3F-4679-8A08-DD5F4C222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1295280"/>
            <a:ext cx="2895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ti composti biologicamente attivi contengono uno o più centri stereogenici sui carboni d’anell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0017b"/>
          <p:cNvPicPr/>
          <p:nvPr/>
        </p:nvPicPr>
        <p:blipFill>
          <a:blip r:embed="rId1"/>
          <a:stretch/>
        </p:blipFill>
        <p:spPr>
          <a:xfrm>
            <a:off x="3048120" y="1295280"/>
            <a:ext cx="5410080" cy="2278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0017c"/>
          <p:cNvPicPr/>
          <p:nvPr/>
        </p:nvPicPr>
        <p:blipFill>
          <a:blip r:embed="rId2"/>
          <a:stretch/>
        </p:blipFill>
        <p:spPr>
          <a:xfrm>
            <a:off x="2209680" y="4010040"/>
            <a:ext cx="67057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4FC7-5DD7-45A7-98D3-BFCF82B7A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28600" y="1098720"/>
            <a:ext cx="86868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 momento che gli enantiomeri sono due composti diversi, dobbiamo essere in grado di distinguerli con un nome. Questo viene fatto aggiungendo il prefiss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 nome IUPAC dell’enantiome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nomenclatura degli enantiomeri con i prefiss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chiamato il sistema d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hn-Ingold-Prel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isegnare un enantiomero com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rima bisogna assegnare la priorità a ciascun gruppo legato al centro stereogenico, in base al numero atomico descrescente. L’atomo con il più alto numero atomico ha la priorità maggiore (1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0019a"/>
          <p:cNvPicPr/>
          <p:nvPr/>
        </p:nvPicPr>
        <p:blipFill>
          <a:blip r:embed="rId1"/>
          <a:stretch/>
        </p:blipFill>
        <p:spPr>
          <a:xfrm>
            <a:off x="3276720" y="5611680"/>
            <a:ext cx="236196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2724-2E3C-4BD4-B10A-65CB59EEE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048120" y="471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16477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due atomi su un centro stereogenico sono uguali, assegnare la priorità in base al numero atomico legato a questi atomi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a numero atomico maggiore determina priorità maggio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0019b"/>
          <p:cNvPicPr/>
          <p:nvPr/>
        </p:nvPicPr>
        <p:blipFill>
          <a:blip r:embed="rId1"/>
          <a:srcRect l="0" t="1373" r="0" b="0"/>
          <a:stretch/>
        </p:blipFill>
        <p:spPr>
          <a:xfrm>
            <a:off x="152280" y="3597120"/>
            <a:ext cx="88394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D0C5-8197-493A-BDA6-37F04F0B6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3124080" y="763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28600" y="457200"/>
            <a:ext cx="86868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la stereochimica indaga la struttura tridimensionale delle molecole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e conseguenza della stereochimica, si ha che differenze apparentemente insignificanti nella struttura 3-D possono causare proprietà molto differenti. Si può osservare questo considerando amido e cellulosa, due polimeri composti dalla stessa unità, che si ripe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"/>
          <p:cNvPicPr/>
          <p:nvPr/>
        </p:nvPicPr>
        <p:blipFill>
          <a:blip r:embed="rId1"/>
          <a:stretch/>
        </p:blipFill>
        <p:spPr>
          <a:xfrm>
            <a:off x="533520" y="2979720"/>
            <a:ext cx="853416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8E62-E0CE-4D02-82C2-D98B478C0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3048120" y="471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8600" y="20289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due isotopi sono legati al centro stereogenico, assegnare le priorità secondo il numero di massa decrescente. Confrontando i tre isotopi dell’idrogeno, l’ordine di priorità è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52280" y="1339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0019c"/>
          <p:cNvPicPr/>
          <p:nvPr/>
        </p:nvPicPr>
        <p:blipFill>
          <a:blip r:embed="rId1"/>
          <a:stretch/>
        </p:blipFill>
        <p:spPr>
          <a:xfrm>
            <a:off x="533520" y="4105440"/>
            <a:ext cx="77724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A317-0095-4B68-BE03-17C134D05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28600" y="100656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assegnare la priorità ad un atomo che fa parte di legami multipli, considerare come se fosse legato con un equivalente numero di legami singoli. Per esempio, il C di un gruppo C=O è considerato essere legato con un legame singolo a due atomi di 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0019d"/>
          <p:cNvPicPr/>
          <p:nvPr/>
        </p:nvPicPr>
        <p:blipFill>
          <a:blip r:embed="rId1"/>
          <a:stretch/>
        </p:blipFill>
        <p:spPr>
          <a:xfrm>
            <a:off x="2971800" y="2590920"/>
            <a:ext cx="4800600" cy="15271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228600" y="42210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ri tipi di legami multipli ricorrenti sono riportati di seguit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0019e"/>
          <p:cNvPicPr/>
          <p:nvPr/>
        </p:nvPicPr>
        <p:blipFill>
          <a:blip r:embed="rId2"/>
          <a:stretch/>
        </p:blipFill>
        <p:spPr>
          <a:xfrm>
            <a:off x="152280" y="4859280"/>
            <a:ext cx="876312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2D33-B144-466F-89F3-066D48ECD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65960" y="1828800"/>
            <a:ext cx="2565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empi di assegnazio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priorità a centri stereogeni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2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61048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D2EB-454D-4D52-B6E8-B2DFEF05D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195120" y="1676520"/>
            <a:ext cx="87202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1865-EB0E-4279-A28A-CA13DA2CE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320" y="8827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isegnare i Centri Stereogenici con R o 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1"/>
          <a:stretch/>
        </p:blipFill>
        <p:spPr>
          <a:xfrm>
            <a:off x="228600" y="1468440"/>
            <a:ext cx="88390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F093-C6FD-4221-BB9A-136510D4D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76320" y="8827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isegnare i Centri Stereogenici con R o 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1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73288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2401-E532-474F-A8CF-100F1C25E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3048120" y="24300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76320" y="7621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183240" y="1447920"/>
            <a:ext cx="2949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orientare correttament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gruppo a priorità minore: Esemp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"/>
          <p:cNvPicPr/>
          <p:nvPr/>
        </p:nvPicPr>
        <p:blipFill>
          <a:blip r:embed="rId1"/>
          <a:stretch/>
        </p:blipFill>
        <p:spPr>
          <a:xfrm>
            <a:off x="501480" y="2286000"/>
            <a:ext cx="78044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1E82-A456-4E9A-AB50-40E03943A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048120" y="4255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76320" y="14637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una molecola co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entri stereogenici, il numero massimo di stereoisomeri è 2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Consideriamo un procedura a stadi per trovare tutti i possibili stereoisomeri del 2,3-dibromopent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6320" y="9907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1"/>
          <a:stretch/>
        </p:blipFill>
        <p:spPr>
          <a:xfrm>
            <a:off x="380880" y="3205080"/>
            <a:ext cx="815832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8233-E280-4277-8FE8-8FF955B64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048120" y="3049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6320" y="129528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 è stato scritto correttamente il composto e la sua immagine speculare, si devono fare solo due cose per vedere se gli atomi si allineano: sistemare B direttamente su A, quindi ruotare B a 18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er vedere se gli atomi si allineano con 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76320" y="83808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ht05_02a"/>
          <p:cNvPicPr/>
          <p:nvPr/>
        </p:nvPicPr>
        <p:blipFill>
          <a:blip r:embed="rId1"/>
          <a:srcRect l="27563" t="64546" r="15022" b="6999"/>
          <a:stretch/>
        </p:blipFill>
        <p:spPr>
          <a:xfrm>
            <a:off x="1828800" y="2849400"/>
            <a:ext cx="5715000" cy="21034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76320" y="51213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questo caso gli atomi di A e B non si allineano, e pertanto A e B non sono immagini speculari sovrapponibili—cioè sono enantiomeri. A e B sono perciò due dei quattro possibili stereoisomeri del 2,3-dibromopent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0DF1-1F7A-4DDB-A4B9-FEDE6290E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6320" y="911160"/>
            <a:ext cx="8686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cambiando la posizione di H e Br (o di altri due gruppi) sul centro stereogenico di A (oppure di B) si forma un nuovo stereoisomero (indicato con C), che è differente sia da A che da B. L’immagine speculare di C è indicata con D. C e D sono enantiome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76320" y="45720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76320" y="586728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li stereoisomeri che non sono immagini speculari l’uno dell’altro son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diastereoisomer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Per esempio, A e C sono diastereoisome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1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53452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EEB0-D8A5-45EA-BC34-80DA87AD1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52280" y="1066680"/>
            <a:ext cx="86868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isomeri sono composti diversi aventi la stessa formula molecol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due principali classi di isomeri sono gli isomer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stituziona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gli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ereo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stituzionali (o strutturali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no nomi IUPAC differenti, gruppi funzionali uguali o diversi,  diverse proprietà fisiche e diverse proprietà chim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stereo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fferiscono solo per il modo in cui gli atomi sono disposti nello spazio. Hanno identici nomi IUPAC (eccetto per il prefiss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Hanno sempre gli stessi gruppi funzion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particolare disposizione tridimensionale è chiamat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figuraz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stereoisomeri hanno differenti configurazion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due Principali Classi di Isomer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587A-FCA4-42B8-9AA2-C71338D0E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0" descr=""/>
          <p:cNvPicPr/>
          <p:nvPr/>
        </p:nvPicPr>
        <p:blipFill>
          <a:blip r:embed="rId1"/>
          <a:stretch/>
        </p:blipFill>
        <p:spPr>
          <a:xfrm>
            <a:off x="762120" y="2519280"/>
            <a:ext cx="7804080" cy="30434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"/>
          <p:cNvSpPr/>
          <p:nvPr/>
        </p:nvSpPr>
        <p:spPr>
          <a:xfrm>
            <a:off x="3048120" y="27288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76320" y="83808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304920" y="48006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9920" y="1523880"/>
            <a:ext cx="189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epilogo: i quattro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reoisomeri del 2,3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bromopentan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9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364968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C7E9-FB1C-4A39-84E7-0AB74DB9C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76320" y="91116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ideriamo gli stereoisomeri del 2,3-dibromobutano. Poichè questa molecola ha due centri stereogenici, il numero massimo di stereoisomeri è 4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76320" y="5335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ti Mes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76320" y="327672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ovare tutti gli stereoisomeri del 2,3-dibromobutano, aggiungere arbitrariamente i gruppi H, Br e CH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i centri stereogenici, formando così lo stereoisomero A, e quindi disegnare la sua immagine speculare B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0026"/>
          <p:cNvPicPr/>
          <p:nvPr/>
        </p:nvPicPr>
        <p:blipFill>
          <a:blip r:embed="rId1"/>
          <a:stretch/>
        </p:blipFill>
        <p:spPr>
          <a:xfrm>
            <a:off x="3733920" y="1905120"/>
            <a:ext cx="1981080" cy="1306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0010"/>
          <p:cNvPicPr/>
          <p:nvPr/>
        </p:nvPicPr>
        <p:blipFill>
          <a:blip r:embed="rId2"/>
          <a:stretch/>
        </p:blipFill>
        <p:spPr>
          <a:xfrm>
            <a:off x="1066680" y="4800600"/>
            <a:ext cx="693432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9F25-A98F-4F77-983A-306FA9256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76320" y="911160"/>
            <a:ext cx="8686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ovare gli altri due stereoisomeri (se esistono), scambiare le posizioni dei due gruppi sullo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stess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entro stereogenico di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un sol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nantiomero. In questo caso, scambiando la posizione di H e Br su un centro stereogenico di A, si forma C, che è differente sia da A che da B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76320" y="45720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76320" y="6019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compost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mes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un composto achirale che contiene centri stereogenici tetraedrici. C è un composto mes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0029"/>
          <p:cNvPicPr/>
          <p:nvPr/>
        </p:nvPicPr>
        <p:blipFill>
          <a:blip r:embed="rId1"/>
          <a:stretch/>
        </p:blipFill>
        <p:spPr>
          <a:xfrm>
            <a:off x="1066680" y="2540160"/>
            <a:ext cx="69343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3F4F-0587-40C4-B2AC-006D83B2F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600" y="1066680"/>
            <a:ext cx="86868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composto C contiene un piano si simmetria, e quindi è achira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 composti meso contengono un piano di simmet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perciò sono caratterizzati da due metà ident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0030"/>
          <p:cNvPicPr/>
          <p:nvPr/>
        </p:nvPicPr>
        <p:blipFill>
          <a:blip r:embed="rId1"/>
          <a:stretch/>
        </p:blipFill>
        <p:spPr>
          <a:xfrm>
            <a:off x="3505320" y="2749680"/>
            <a:ext cx="2100240" cy="2889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228600" y="5594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uno stereoisomero del 2,3-dibromobutano è sovrapponibile alla sua immagine speculare, ci sono solo tre stereoisomeri, non quatt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63AE-EB17-422B-9A82-B1B20D3A0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3" descr=""/>
          <p:cNvPicPr/>
          <p:nvPr/>
        </p:nvPicPr>
        <p:blipFill>
          <a:blip r:embed="rId1"/>
          <a:stretch/>
        </p:blipFill>
        <p:spPr>
          <a:xfrm>
            <a:off x="669960" y="2451240"/>
            <a:ext cx="7804080" cy="34923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"/>
          <p:cNvSpPr/>
          <p:nvPr/>
        </p:nvSpPr>
        <p:spPr>
          <a:xfrm>
            <a:off x="3048120" y="1666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429840" y="1371600"/>
            <a:ext cx="16772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epilogo: i t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reoisomeri d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,3-dibromobutan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4" descr=""/>
          <p:cNvPicPr/>
          <p:nvPr/>
        </p:nvPicPr>
        <p:blipFill>
          <a:blip r:embed="rId2"/>
          <a:stretch/>
        </p:blipFill>
        <p:spPr>
          <a:xfrm>
            <a:off x="76320" y="5638680"/>
            <a:ext cx="251460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8866-9CC6-40C2-A9F2-279E94726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3048120" y="1666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un composto ha più di un centro stereogenico, la configurazio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 essere assegnata a ciascuno di ess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52280" y="71424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segnazione di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n composti con due o più Centri Stereogenici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0031"/>
          <p:cNvPicPr/>
          <p:nvPr/>
        </p:nvPicPr>
        <p:blipFill>
          <a:blip r:embed="rId1"/>
          <a:stretch/>
        </p:blipFill>
        <p:spPr>
          <a:xfrm>
            <a:off x="2362320" y="2792520"/>
            <a:ext cx="4952880" cy="14745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0"/>
          <p:cNvSpPr/>
          <p:nvPr/>
        </p:nvSpPr>
        <p:spPr>
          <a:xfrm>
            <a:off x="2743200" y="423540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o stereoisomero del 2,3-dibromopenta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2666880" y="46162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Nome completo: (2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,3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)-2,3-dibromopenta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4" descr=""/>
          <p:cNvPicPr/>
          <p:nvPr/>
        </p:nvPicPr>
        <p:blipFill>
          <a:blip r:embed="rId2"/>
          <a:stretch/>
        </p:blipFill>
        <p:spPr>
          <a:xfrm>
            <a:off x="152280" y="5102280"/>
            <a:ext cx="87631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4628-2F85-4798-A775-F6B05BC1E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28600" y="83808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deriamo l’1,3-dibromociclopentano. Dal momento che ha due centri stereogenici, questa molecola ha un numero massimo di quattro stereoisomer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9" descr="0033a"/>
          <p:cNvPicPr/>
          <p:nvPr/>
        </p:nvPicPr>
        <p:blipFill>
          <a:blip r:embed="rId1"/>
          <a:stretch/>
        </p:blipFill>
        <p:spPr>
          <a:xfrm>
            <a:off x="3352680" y="2101680"/>
            <a:ext cx="2438640" cy="11750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0"/>
          <p:cNvSpPr/>
          <p:nvPr/>
        </p:nvSpPr>
        <p:spPr>
          <a:xfrm>
            <a:off x="228600" y="329256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un cicloalcano disostituito può avere i due sostituenti dalla stessa parte dell’anello (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indicato con A) o da parti opposte (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indicato con B). Questi composti sono stereoisomeri, ma non reciproca immagine specular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3" descr=""/>
          <p:cNvPicPr/>
          <p:nvPr/>
        </p:nvPicPr>
        <p:blipFill>
          <a:blip r:embed="rId2"/>
          <a:stretch/>
        </p:blipFill>
        <p:spPr>
          <a:xfrm>
            <a:off x="3192480" y="4921200"/>
            <a:ext cx="427500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8B67-5F27-48CC-B31F-EB33BA74B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228600" y="15699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Per trovare gli altri due stereoisomeri (se esistono)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egnare l’immagine speculare di ciascun composto e determinare se il composto e la propria immagine speculare sono sovrapponibi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228600" y="533412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è sovrapponibile alla sua immagine speculare, e perciò le due molecole sono identiche. Quindi A è un composto achirale mes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0033c"/>
          <p:cNvPicPr/>
          <p:nvPr/>
        </p:nvPicPr>
        <p:blipFill>
          <a:blip r:embed="rId1"/>
          <a:stretch/>
        </p:blipFill>
        <p:spPr>
          <a:xfrm>
            <a:off x="533520" y="2949480"/>
            <a:ext cx="822960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4077-B3B1-4E39-B40E-EE9E3FA71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28600" y="156996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on è sovrapponibile alla sua immagine speculare, indicata con C, e perciò B e C sono composti differenti. B e  C sono enantiomer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28600" y="533412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ichè uno stereoisomero dell’1,3-dibromociclopentano è sovrapponibile alla sua immagine speculare, ci sono solo tre stereoisomeri, non quattr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0033d"/>
          <p:cNvPicPr/>
          <p:nvPr/>
        </p:nvPicPr>
        <p:blipFill>
          <a:blip r:embed="rId1"/>
          <a:stretch/>
        </p:blipFill>
        <p:spPr>
          <a:xfrm>
            <a:off x="762120" y="2743200"/>
            <a:ext cx="7696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43AA-68F7-4051-B084-9D9EF9D60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203760" y="1143000"/>
            <a:ext cx="2413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mari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 I tipi di 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3" descr=""/>
          <p:cNvPicPr/>
          <p:nvPr/>
        </p:nvPicPr>
        <p:blipFill>
          <a:blip r:embed="rId1"/>
          <a:stretch/>
        </p:blipFill>
        <p:spPr>
          <a:xfrm>
            <a:off x="380880" y="1771560"/>
            <a:ext cx="78044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A02E-2F84-4E49-8C7B-246DFBF62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3124080" y="380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21040" y="1371600"/>
            <a:ext cx="2475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ronto tra 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stituzionali e stereo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78044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473E-724B-4CAF-B113-0651706B5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26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33"/>
          <p:cNvSpPr/>
          <p:nvPr/>
        </p:nvSpPr>
        <p:spPr>
          <a:xfrm>
            <a:off x="44280" y="625320"/>
            <a:ext cx="23248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determinare l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zione tra due molecol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 identich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035" descr=""/>
          <p:cNvPicPr/>
          <p:nvPr/>
        </p:nvPicPr>
        <p:blipFill>
          <a:blip r:embed="rId1"/>
          <a:stretch/>
        </p:blipFill>
        <p:spPr>
          <a:xfrm>
            <a:off x="762120" y="1690560"/>
            <a:ext cx="727056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5A47-8145-47F7-B39E-186A69870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28600" y="1143000"/>
            <a:ext cx="86868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proprietà chimiche e fisiche di due enantiomeri sono identiche eccetto che nella loro interazione con altre sostenze chirali. Hanno identiche proprietà fisiche, eccetto che per il modo con cui interagiscono con l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uce piano-polarizz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ce piano-polarizzat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 luce polarizzata)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la luce che possiede un vettore elettrico oscillante in un solo piano. La luce piano-polarizzata deriva dal passaggio della luce ordinaria attraverso un polarizzator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larimetr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uno strumento che consente alla luce polarizzata di attraversare un tubo porta-campione contenente un composto organico. Permette quindi la misura dell’angolo (in gradi) di cui un composto organico ruota il piano della luce polarizz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FAEB-DBC5-49BF-91BB-C000B9C71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28600" y="13273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composti achirali, la luce che esce dal porta-campione non risulta modificata. Un composto che non modifica il piano della luce polarizzata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tticamente inattiv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0036b"/>
          <p:cNvPicPr/>
          <p:nvPr/>
        </p:nvPicPr>
        <p:blipFill>
          <a:blip r:embed="rId1"/>
          <a:srcRect l="0" t="212" r="0" b="0"/>
          <a:stretch/>
        </p:blipFill>
        <p:spPr>
          <a:xfrm>
            <a:off x="380880" y="2852640"/>
            <a:ext cx="8305920" cy="36244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152280" y="66996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EDD7-1470-4F52-9BCE-7B933717D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228600" y="1125360"/>
            <a:ext cx="868680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 composti chirali, il piano della luce polarizzata viene invece ruotato di un angolo 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L’angolo 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è misurato in gradi 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, ed è chiamat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rotazione osservat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 composto che ruota il piano della luce polarizzata è dett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otticamente attiv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0037"/>
          <p:cNvPicPr/>
          <p:nvPr/>
        </p:nvPicPr>
        <p:blipFill>
          <a:blip r:embed="rId1"/>
          <a:stretch/>
        </p:blipFill>
        <p:spPr>
          <a:xfrm>
            <a:off x="533520" y="2936880"/>
            <a:ext cx="8153280" cy="36352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7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522C-F552-4213-AA0F-F90127816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048120" y="903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228600" y="1143000"/>
            <a:ext cx="868680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rotazione della luce polarizzata può essere in senso orario o antiora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la rotazione è in senso orario (verso destra rispetto alle ore 12), il composto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strorotato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rotazione è indicata con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la rotazione è in senso antiorario (verso sinistra rispetto alle 12), il composto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vorotato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rotazione è indicata con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ue enantiomeri ruotano la luce piano-polarizzata di un valore uguale, ma nella direzione oppost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Perciò, se l’enantiomero A ruota la luce polarizzata di +5°, allora la stessa concentrazione dell’enantiomero B ruota di  -5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on esiste nessuna relazione fra i prefissi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e le designazioni (+) e (-), che indicano la rotazione ott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0856-ACE2-477C-9C7E-CC5521133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048120" y="228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28600" y="1506600"/>
            <a:ext cx="86868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na quantità uguale di due enantiomeri è chiamata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miscela racemic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racemat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a miscela racemica è otticamente inattiva. Poichè due enantiomeri ruotano la luce piano-polarizzata di un valore uguale, ma in direzioni opposte, le rotazioni si annullano, e non viene osservata nessuna rotazione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52280" y="8380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-Miscele racemiche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phyiscal_properties_tb_764"/>
          <p:cNvPicPr/>
          <p:nvPr/>
        </p:nvPicPr>
        <p:blipFill>
          <a:blip r:embed="rId1"/>
          <a:stretch/>
        </p:blipFill>
        <p:spPr>
          <a:xfrm>
            <a:off x="533520" y="3933720"/>
            <a:ext cx="800100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E904-05AA-473F-8691-D771F76C9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228600" y="1603440"/>
            <a:ext cx="86868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a rotazione specific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è una costante fisica standardizzata ed è funzione della concentrazione. La rotazione specifica è indicata con il simbolo [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] e tiene conto della lunghezza del tubo porta-campione (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in dm), della concentrazione (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 g/mL), della temperatura (25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) e della lunghezza d’onda della radiazione utilizzata (589 nm)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0041"/>
          <p:cNvPicPr/>
          <p:nvPr/>
        </p:nvPicPr>
        <p:blipFill>
          <a:blip r:embed="rId1"/>
          <a:stretch/>
        </p:blipFill>
        <p:spPr>
          <a:xfrm>
            <a:off x="533520" y="4565520"/>
            <a:ext cx="8076960" cy="16830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7"/>
          <p:cNvSpPr/>
          <p:nvPr/>
        </p:nvSpPr>
        <p:spPr>
          <a:xfrm>
            <a:off x="152280" y="974880"/>
            <a:ext cx="883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-Miscele Racemiche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E120-8100-4DCF-AB9B-A99502787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228600" y="1143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eccesso enantiomerico (purezza ottic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a misura di quanto un enantiomero è presente in eccesso rispetto alla miscela racemica. E’ indicato con il simbol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52280" y="654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prietà fisiche degli stereoisomeri—Purezza Ott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533520" y="2362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% di un enantiomero - % dell’altro enantiome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228600" y="2895480"/>
            <a:ext cx="8686800" cy="30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iamo il seguente esempi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 una miscela contiene il 75% di un enantiomero e il 25% dell’altro, l’eccesso enantiomerico 75% - 25% = 50%. Perciò, c’è un 50% di eccesso di un enantiomero rispetto alla miscela racem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eccesso enantiomerico può essere anche calcolato se sono note la rotazione specifica [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di una miscela e la rotazione specifica [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dell’enantiomero pu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90720" y="60958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] miscela / [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] enantiomero puro) x 10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BE98-D4CF-4348-BC07-8EB71F182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228600" y="838080"/>
            <a:ext cx="86868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chè due enantiomeri hanno identiche proprietà fisiche, essi non possono essere separati mediante le comuni tecniche fisiche, come la distillazio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 diastereoisomeri e gli isomeri costituzionali hanno differenti proprietà fisic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 perciò possono essere separati mediante le comuni tecniche fisich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52280" y="45720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prietà fisiche degli stereoisomeri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903600" y="3368520"/>
            <a:ext cx="18007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rietà fisiche de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stereoisomer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l’ acido tartar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3498840" y="2573280"/>
            <a:ext cx="47307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5817-EBD0-43C9-A825-BAFB170D5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228600" y="914400"/>
            <a:ext cx="86868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enantiomeri hanno esattamente le stesse proprietà chimiche, eccetto che per le reazioni con reagenti chirali non-racemic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ti farmaci sono chirali e spesso, per svolgere la loro azione terapeutica, devono interagire con recettori o enzimi chirali. Un enantiomero di un farmaco può curare efficacemente una malattia, mentre la sua  immagine speculare può essere inefficace o tossic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152280" y="54756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prietà chimiche degli Enantiomeri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0044a"/>
          <p:cNvPicPr/>
          <p:nvPr/>
        </p:nvPicPr>
        <p:blipFill>
          <a:blip r:embed="rId1"/>
          <a:stretch/>
        </p:blipFill>
        <p:spPr>
          <a:xfrm>
            <a:off x="1752480" y="2971800"/>
            <a:ext cx="5639040" cy="15350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0044b"/>
          <p:cNvPicPr/>
          <p:nvPr/>
        </p:nvPicPr>
        <p:blipFill>
          <a:blip r:embed="rId2"/>
          <a:stretch/>
        </p:blipFill>
        <p:spPr>
          <a:xfrm>
            <a:off x="1447920" y="4572000"/>
            <a:ext cx="6248160" cy="18111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EB09-477D-4CA5-9422-6EDAC5B89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3048120" y="1666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1066680"/>
            <a:ext cx="86868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bbene ogni oggetto abbia la propria immagine speculare, le immagini speculari possono o non possono essere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vrapponibi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une molecole sono come le mani. La mano destra e la mano sinistra sono una l’immagine speculare dell’altra, ma non sono identiche,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vrapponibi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04920" y="3747960"/>
            <a:ext cx="80010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2A55-A427-4D4E-AC8A-19A08D7A1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76320" y="7621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antiomeri e senso dell’olfatt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28600" y="1227240"/>
            <a:ext cx="8686800" cy="19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cerca suggerisce che l’odore di una particolare molecola è determinato più dalla sua forma che dalla presenza di particolari gruppi funzional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gli enantiomeri interagiscono con i recettori dell’olfatto, alcuni enantiomeri hanno odore divers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2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73533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054B-E4D8-4282-8610-B6CE21D6B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76320" y="762120"/>
            <a:ext cx="8762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antiomeri e Senso dell’Olfatto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145440" y="1371600"/>
            <a:ext cx="24238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hape of molecules 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ense of smel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777240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A77A-A0D6-4162-B01D-CB7DB22BE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3048120" y="16668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52280" y="1143000"/>
            <a:ext cx="5029200" cy="56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re molecole sono come le calze. Due calze formano una coppia di immagini speculari che sono sovrapponibili. Una calza e la sua immagine speculare sono dunque ident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o un oggetto che è sovrapponibile alla sua immagine speculare è dett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chir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o un oggetto che non è sovrapponibile alla sua immagine speculare è detta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0006"/>
          <p:cNvPicPr/>
          <p:nvPr/>
        </p:nvPicPr>
        <p:blipFill>
          <a:blip r:embed="rId1"/>
          <a:stretch/>
        </p:blipFill>
        <p:spPr>
          <a:xfrm>
            <a:off x="5481720" y="1600200"/>
            <a:ext cx="34336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C7E4-D9D5-4D66-A7CC-7234778A2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3048120" y="7632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iamo alcune molecole per determinare se sono o non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hira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52280" y="762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007a"/>
          <p:cNvPicPr/>
          <p:nvPr/>
        </p:nvPicPr>
        <p:blipFill>
          <a:blip r:embed="rId1"/>
          <a:stretch/>
        </p:blipFill>
        <p:spPr>
          <a:xfrm>
            <a:off x="1523880" y="2306520"/>
            <a:ext cx="609624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C7E7-248B-4002-8EDB-8855D9CC4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2971800" y="0"/>
            <a:ext cx="30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28600" y="762120"/>
            <a:ext cx="86868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molecola A e la sua immagine speculare B non sono sovrapponibili. Non importa come A e B siano ruotati, non sarà mai possibile sovrapporre tutti i loro atomi. Inoltre, CHBrClF è una molecola chirale, e A e B sono composti different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e B sono stereoisomeri—più precisamente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anti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atomo di carbonio legato a quattro gruppi differenti è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ent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ereogenic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traed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2280" y="425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1"/>
          <a:stretch/>
        </p:blipFill>
        <p:spPr>
          <a:xfrm>
            <a:off x="1114560" y="4191120"/>
            <a:ext cx="6734160" cy="27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5508-2585-4407-8EF7-112FF8EC4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1841400"/>
            <a:ext cx="86868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e, una molecola senza centri stereogenici non è chirale. Esistono tuttavia alcune eccezioni a questa generalizz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un centro stereogenico tetraedrico, la molecola è sempre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due o più centri stereogenici, una molecola può essere o non essere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molecole achirali contengono un pia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 simmet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mentre quelle chirali n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Un piano di simmetria è un pian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 taglia la molecola a metà, in modo tale che una metà è il riflesso dell’alt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19T15:55:31Z</dcterms:modified>
  <cp:revision>600</cp:revision>
  <dc:subject/>
  <dc:title>PowerPoint Presentation</dc:title>
</cp:coreProperties>
</file>