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42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3.jpeg" ContentType="image/jpeg"/>
  <Override PartName="/ppt/media/image40.jpeg" ContentType="image/jpeg"/>
  <Override PartName="/ppt/media/image44.jpeg" ContentType="image/jpeg"/>
  <Override PartName="/ppt/media/image43.png" ContentType="image/png"/>
  <Override PartName="/ppt/media/image53.jpeg" ContentType="image/jpeg"/>
  <Override PartName="/ppt/media/image34.jpeg" ContentType="image/jpeg"/>
  <Override PartName="/ppt/media/image46.png" ContentType="image/png"/>
  <Override PartName="/ppt/media/image11.png" ContentType="image/png"/>
  <Override PartName="/ppt/media/image55.png" ContentType="image/png"/>
  <Override PartName="/ppt/media/image45.jpeg" ContentType="image/jpeg"/>
  <Override PartName="/ppt/media/image37.jpeg" ContentType="image/jpeg"/>
  <Override PartName="/ppt/media/image50.jpeg" ContentType="image/jpeg"/>
  <Override PartName="/ppt/media/image52.png" ContentType="image/png"/>
  <Override PartName="/ppt/media/image30.jpeg" ContentType="image/jpeg"/>
  <Override PartName="/ppt/media/image51.jpeg" ContentType="image/jpeg"/>
  <Override PartName="/ppt/media/image48.jpeg" ContentType="image/jpeg"/>
  <Override PartName="/ppt/media/image49.jpeg" ContentType="image/jpeg"/>
  <Override PartName="/ppt/media/image20.jpeg" ContentType="image/jpeg"/>
  <Override PartName="/ppt/media/image54.jpeg" ContentType="image/jpeg"/>
  <Override PartName="/ppt/media/image56.png" ContentType="image/png"/>
  <Override PartName="/ppt/media/image41.png" ContentType="image/png"/>
  <Override PartName="/ppt/media/image47.png" ContentType="image/png"/>
  <Override PartName="/ppt/media/image35.jpeg" ContentType="image/jpeg"/>
  <Override PartName="/ppt/media/image10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32.png" ContentType="image/png"/>
  <Override PartName="/ppt/media/image8.jpeg" ContentType="image/jpeg"/>
  <Override PartName="/ppt/media/image38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F935-166A-4E8B-A034-67C4F9746E9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C4CE-D19E-47A3-B651-73BD250EBBF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59AB-5F5C-4530-AF97-D7AB2A9CE39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AEB9-E0AF-48A1-8A76-DB5A0A30156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0631-7320-454B-AA0A-A14B0CD2D3E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FF92-2243-4F69-A312-907E689B42C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60D9-6444-475B-AA95-3E963F06783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22E4-35BB-4FCC-A1DF-979E2279E05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57B7-648E-464F-82F4-F7CBDEDA7B9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AA57-542A-4A51-9D2A-9975172201B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4CB8-84B7-443B-96CA-442C4C0155A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A83A-A454-4A1A-93A0-43B2FDE6575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A59B-89A5-44F1-A502-0934DD6DE02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F85B-A151-4AB5-A3AA-27BD8703420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8966-9C8B-4F95-8808-AA5D77B24C9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33D2-96B5-46C1-B21C-D80D7A56FFA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696B-7121-4034-92FD-5972723119B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BE65-0014-4251-B0F6-1454B2DE940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F822-7D73-441B-B55B-398D1EACBA2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AA37-EE22-4FC2-A6C6-C0446CDF9BD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B9F9-B333-42F6-8D0C-D9BC9A1D13E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F56E-77BF-4D9D-B1B0-1E26A091B50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FCF5-D230-48A5-9B36-28E4A878940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1722-FFD4-4A9D-B80C-26BF79BA37A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8F90-BA68-4D26-BCD6-A14FBC318B6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0701-C213-4CB6-8A50-B99CEC707C4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F29F-4188-46D5-847B-F2F46D0220F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8E1A-7965-4703-913C-CB17E52D7B8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0F83-359B-478D-8A3D-EBC2EFA0F04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2540-169A-4242-8504-2EA416B2B1B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8A64-98DE-4025-B272-88F86E491C0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99A6-C7CA-41E5-9EB6-35FD38CB0A0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F925-6A71-41E2-B535-494C1F176D4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8D69-1048-422F-9081-3EAE113D4B9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E6E7-2E95-4921-867C-952067393AC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8AA3-BEAD-4B0C-82EE-BB78E1D410C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2D65-C1C8-4D39-89AE-3DC1E6B8858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D8C7-3317-461A-A048-F53313A73F4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2C27-8CC5-4C7C-99D9-068156946657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B8C8-A8A6-42B9-BA0E-3D77455A87C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9C0E-A20F-4FBD-817B-4F05A7645E2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00BE-EED3-44FA-8DFF-C13721F2D9B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776D-7027-484D-A6D2-5653AA70A3D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B63C-88F9-4BAA-BFD9-96230A9BAE1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E750-0D97-4ED9-AED3-279416A801A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64175-E59D-43B3-837E-2CDB2E02E70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C30D-E156-400F-A8D2-BCE418C8672F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845C-75B1-4526-BEEB-24EDEBCE5AA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5C8B-46D2-49E4-BAA9-7FEE18D795C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F270-858D-466E-8413-DFD3A241C83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50AC-88CD-4F47-9FB9-C2024015639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40E3-F063-41B7-A060-94BAA665D93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6803-04BF-4DF7-BBC0-FA673275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71D7-FCC5-41F1-B091-175A3A4D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F947-7109-4F3C-A4BD-7AA14628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5F17-4097-494C-A0E2-C587DC60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6FCF-0348-4598-B938-D3A0CCDE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DCB4-590D-4A06-8B54-29BE889C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01A3-2951-4DFF-9C96-1861296C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6FBF-8552-4569-AAF2-53B0C5CE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EC0C-B5AF-48F2-BED5-EC8271F0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3062-BC8D-42A7-A60B-31DFA0BE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4019-9C9D-47CA-872D-E030E457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E0F5-10CF-4C18-9C21-F67B7475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DE83-565A-456A-948F-E8D325792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6D67-9A68-404A-AE15-E8BD1B6EB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99252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10752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856600" y="3809880"/>
            <a:ext cx="364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pitolo 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CD3C-8C81-40F0-9C33-7D19802A9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3048120" y="623880"/>
            <a:ext cx="30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52280" y="14158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0008"/>
          <p:cNvPicPr/>
          <p:nvPr/>
        </p:nvPicPr>
        <p:blipFill>
          <a:blip r:embed="rId1"/>
          <a:stretch/>
        </p:blipFill>
        <p:spPr>
          <a:xfrm>
            <a:off x="762120" y="2286000"/>
            <a:ext cx="761976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EF8C-A9F5-49ED-AE44-73A7B5723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3048120" y="623880"/>
            <a:ext cx="30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52280" y="12952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iassunto dei Principi Basilari della Chiralità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28600" y="2125800"/>
            <a:ext cx="868680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oggetto ha la propria immagine speculare. La domanda fondamentale è se una molecola e la sua immagine speculare sono sovrapponbi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una molecola e la sua immagine speculare non sono sovrapponbili, la molecola e la sua immagine speculare sono chira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termini centro stereogenico e molecola chirale sono correlati ma distinti. In generale, una molecola chirale deve avere uno o più centri stereogenic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presenza di un piano di simmetria indica che la molecola   è  achir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48F8-9B09-43D3-B21E-6976F6D81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28600" y="1300320"/>
            <a:ext cx="8686800" cy="28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individuare un centro stereogenico, considerare ogni carbonio tetraedrico di una  molecola e guardare i quattro gruppi — non i quattro atomi — a esso legat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 includere mai tutti gli atomi di C che non possono essere centri stereogenici tetraedrici. Tra quest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 algn="just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gruppi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04640" algn="just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C ibrida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3"/>
          <a:stretch/>
        </p:blipFill>
        <p:spPr>
          <a:xfrm>
            <a:off x="230040" y="4368960"/>
            <a:ext cx="838044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3E7E-23C0-487A-921D-777379CEF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3048120" y="5475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28600" y="20732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ecole organiche più grandi possono avere due, tre o anche cento centri stereogenic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52280" y="1339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228600" y="3303720"/>
            <a:ext cx="853452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F3C3-2C24-4155-AFED-21E79FA5B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28600" y="914400"/>
            <a:ext cx="868680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scrivere entrambi gli enantiomeri di un composto chirale, come il 2-butanolo, usare la tipica convenzione per rappresentare il tetraedro: scrivere due legami nel piano, poi uno sopra al piano (a cuneo) ed uno sotto al piano (a tratteggio). Quindi, per formare il primo enantiomero, sistemare i gruppi H, OH,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rbitrariamente, su ciascun legame del centro stereogenico. Quindi scrivere l’immagine specul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2280" y="45720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0013"/>
          <p:cNvPicPr/>
          <p:nvPr/>
        </p:nvPicPr>
        <p:blipFill>
          <a:blip r:embed="rId1"/>
          <a:stretch/>
        </p:blipFill>
        <p:spPr>
          <a:xfrm>
            <a:off x="1066680" y="4038480"/>
            <a:ext cx="70866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1C80-668C-4152-B31A-B50C294C2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3048120" y="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28600" y="914400"/>
            <a:ext cx="868680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atomi di carbonio che fanno parte di un anello possono essere centri stereogenic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trovare i centri stereogenici sui carboni dell’anello, disegnare sempre il ciclo come un poligono piatto, e cercare i carboni tetraedrici che sono legati a  quattro gruppi divers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52280" y="3808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0015a"/>
          <p:cNvPicPr/>
          <p:nvPr/>
        </p:nvPicPr>
        <p:blipFill>
          <a:blip r:embed="rId1"/>
          <a:stretch/>
        </p:blipFill>
        <p:spPr>
          <a:xfrm>
            <a:off x="1143000" y="3195720"/>
            <a:ext cx="7086600" cy="1985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0015b"/>
          <p:cNvPicPr/>
          <p:nvPr/>
        </p:nvPicPr>
        <p:blipFill>
          <a:blip r:embed="rId2"/>
          <a:stretch/>
        </p:blipFill>
        <p:spPr>
          <a:xfrm>
            <a:off x="838080" y="5375160"/>
            <a:ext cx="7391520" cy="1406520"/>
          </a:xfrm>
          <a:prstGeom prst="rect">
            <a:avLst/>
          </a:prstGeom>
          <a:ln w="0">
            <a:noFill/>
          </a:ln>
        </p:spPr>
      </p:pic>
      <p:sp>
        <p:nvSpPr>
          <p:cNvPr id="123" name="Line 8"/>
          <p:cNvSpPr/>
          <p:nvPr/>
        </p:nvSpPr>
        <p:spPr>
          <a:xfrm>
            <a:off x="457200" y="518148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FA2E-312C-4D41-98CC-1E8A6AC86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28600" y="163188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l 3-metilcicloesene, i sostituenti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H, che sono sopra e sotto al piano dell’anello, sono disegnati con cunei e linee tratteggiat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52280" y="806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0017a"/>
          <p:cNvPicPr/>
          <p:nvPr/>
        </p:nvPicPr>
        <p:blipFill>
          <a:blip r:embed="rId1"/>
          <a:stretch/>
        </p:blipFill>
        <p:spPr>
          <a:xfrm>
            <a:off x="1371600" y="3595680"/>
            <a:ext cx="670572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68A9-CE19-411C-9FF3-D46FDE092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52280" y="577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entri Stereogenic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1295280"/>
            <a:ext cx="2895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ti composti biologicamente attivi contengono uno o più centri stereogenici sui carboni d’anello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0017b"/>
          <p:cNvPicPr/>
          <p:nvPr/>
        </p:nvPicPr>
        <p:blipFill>
          <a:blip r:embed="rId1"/>
          <a:stretch/>
        </p:blipFill>
        <p:spPr>
          <a:xfrm>
            <a:off x="3048120" y="1295280"/>
            <a:ext cx="5410080" cy="2278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0017c"/>
          <p:cNvPicPr/>
          <p:nvPr/>
        </p:nvPicPr>
        <p:blipFill>
          <a:blip r:embed="rId2"/>
          <a:stretch/>
        </p:blipFill>
        <p:spPr>
          <a:xfrm>
            <a:off x="2209680" y="4010040"/>
            <a:ext cx="670572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A3EE-9134-4D9D-978D-0E20432AA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228600" y="1098720"/>
            <a:ext cx="868680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l momento che gli enantiomeri sono due composti diversi, dobbiamo essere in grado di distinguerli con un nome. Questo viene fatto aggiungendo il prefisso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l nome IUPAC dell’enantiome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nomenclatura degli enantiomeri con i prefiss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chiamato il sistema di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ahn-Ingold-Prelo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isegnare un enantiomero com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prima bisogna assegnare la priorità a ciascun gruppo legato al centro stereogenico, in base al numero atomico descrescente. L’atomo con il più alto numero atomico ha la priorità maggiore (1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52280" y="577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0019a"/>
          <p:cNvPicPr/>
          <p:nvPr/>
        </p:nvPicPr>
        <p:blipFill>
          <a:blip r:embed="rId1"/>
          <a:stretch/>
        </p:blipFill>
        <p:spPr>
          <a:xfrm>
            <a:off x="3276720" y="5611680"/>
            <a:ext cx="236196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DC71-CD40-4C6A-8F19-E6C9F8C8F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048120" y="4716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28600" y="16477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due atomi su un centro stereogenico sono uguali, assegnare la priorità in base al numero atomico legato a questi atomi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omo a numero atomico maggiore determina priorità maggio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0019b"/>
          <p:cNvPicPr/>
          <p:nvPr/>
        </p:nvPicPr>
        <p:blipFill>
          <a:blip r:embed="rId1"/>
          <a:srcRect l="0" t="1373" r="0" b="0"/>
          <a:stretch/>
        </p:blipFill>
        <p:spPr>
          <a:xfrm>
            <a:off x="152280" y="3597120"/>
            <a:ext cx="883944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860C-D0EE-4B20-AF9C-8E21F57AA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3124080" y="763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28600" y="457200"/>
            <a:ext cx="86868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cordare che la stereochimica indaga la struttura tridimensionale delle molecole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e conseguenza della stereochimica, si ha che differenze apparentemente insignificanti nella struttura 3-D possono causare proprietà molto differenti. Si può osservare questo considerando amido e cellulosa, due polimeri composti dalla stessa unità, che si ripe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"/>
          <p:cNvPicPr/>
          <p:nvPr/>
        </p:nvPicPr>
        <p:blipFill>
          <a:blip r:embed="rId1"/>
          <a:stretch/>
        </p:blipFill>
        <p:spPr>
          <a:xfrm>
            <a:off x="533520" y="2979720"/>
            <a:ext cx="853416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FD9F-9598-4E9C-9D7A-65D71B55D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3048120" y="4716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28600" y="202896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due isotopi sono legati al centro stereogenico, assegnare le priorità secondo il numero di massa decrescente. Confrontando i tre isotopi dell’idrogeno, l’ordine di priorità è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152280" y="13399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0019c"/>
          <p:cNvPicPr/>
          <p:nvPr/>
        </p:nvPicPr>
        <p:blipFill>
          <a:blip r:embed="rId1"/>
          <a:stretch/>
        </p:blipFill>
        <p:spPr>
          <a:xfrm>
            <a:off x="533520" y="4105440"/>
            <a:ext cx="77724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61B1-1E3C-4B28-934A-E7F463AA9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28600" y="1006560"/>
            <a:ext cx="8686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assegnare la priorità ad un atomo che fa parte di legami multipli, considerare come se fosse legato con un equivalente numero di legami singoli. Per esempio, il C di un gruppo C=O è considerato essere legato con un legame singolo a due atomi di 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52280" y="609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0019d"/>
          <p:cNvPicPr/>
          <p:nvPr/>
        </p:nvPicPr>
        <p:blipFill>
          <a:blip r:embed="rId1"/>
          <a:stretch/>
        </p:blipFill>
        <p:spPr>
          <a:xfrm>
            <a:off x="2971800" y="2590920"/>
            <a:ext cx="4800600" cy="15271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228600" y="422100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ri tipi di legami multipli ricorrenti sono riportati di seguito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0019e"/>
          <p:cNvPicPr/>
          <p:nvPr/>
        </p:nvPicPr>
        <p:blipFill>
          <a:blip r:embed="rId2"/>
          <a:stretch/>
        </p:blipFill>
        <p:spPr>
          <a:xfrm>
            <a:off x="152280" y="4859280"/>
            <a:ext cx="876312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013D-5543-482A-A510-996981C01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3048120" y="243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52280" y="882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65960" y="1828800"/>
            <a:ext cx="2565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empi di assegnazio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 priorità a centri stereogeni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2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861048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4ACC-1FDB-46F5-A3E8-1EABA9A51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048120" y="243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"/>
          <p:cNvPicPr/>
          <p:nvPr/>
        </p:nvPicPr>
        <p:blipFill>
          <a:blip r:embed="rId1"/>
          <a:stretch/>
        </p:blipFill>
        <p:spPr>
          <a:xfrm>
            <a:off x="195120" y="1676520"/>
            <a:ext cx="872028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DB4A-36DE-4AAC-B688-5B800F7A3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048120" y="243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320" y="88272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Disegnare i Centri Stereogenici con R o 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1"/>
          <a:stretch/>
        </p:blipFill>
        <p:spPr>
          <a:xfrm>
            <a:off x="228600" y="1468440"/>
            <a:ext cx="88390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CF9B-BDD6-45E0-BBCA-EA4B3E4A2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048120" y="2430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76320" y="88272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Disegnare i Centri Stereogenici con R o 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1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73288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09C4-BBAA-41E9-ABD7-147DB07EF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"/>
          <p:cNvSpPr/>
          <p:nvPr/>
        </p:nvSpPr>
        <p:spPr>
          <a:xfrm>
            <a:off x="3048120" y="24300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76320" y="76212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segnare i Centri Stereogenici con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183240" y="1447920"/>
            <a:ext cx="2949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5.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e orientare correttament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 gruppo a priorità minore: Esemp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1" descr=""/>
          <p:cNvPicPr/>
          <p:nvPr/>
        </p:nvPicPr>
        <p:blipFill>
          <a:blip r:embed="rId1"/>
          <a:stretch/>
        </p:blipFill>
        <p:spPr>
          <a:xfrm>
            <a:off x="501480" y="2286000"/>
            <a:ext cx="780444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A33F-6D6A-49BC-8B89-677960DCE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3048120" y="4255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76320" y="146376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 una molecola con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entri stereogenici, il numero massimo di stereoisomeri è 2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Consideriamo un procedura a stadi per trovare tutti i possibili stereoisomeri del 2,3-dibromopenta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6320" y="99072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stereoisome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"/>
          <p:cNvPicPr/>
          <p:nvPr/>
        </p:nvPicPr>
        <p:blipFill>
          <a:blip r:embed="rId1"/>
          <a:stretch/>
        </p:blipFill>
        <p:spPr>
          <a:xfrm>
            <a:off x="380880" y="3205080"/>
            <a:ext cx="815832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EB56-FE49-49A4-9E02-D26401712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3048120" y="3049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76320" y="1295280"/>
            <a:ext cx="8686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 è stato scritto correttamente il composto e la sua immagine speculare, si devono fare solo due cose per vedere se gli atomi si allineano: sistemare B direttamente su A, quindi ruotare B a 18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er vedere se gli atomi si allineano con A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76320" y="83808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stereoisome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ht05_02a"/>
          <p:cNvPicPr/>
          <p:nvPr/>
        </p:nvPicPr>
        <p:blipFill>
          <a:blip r:embed="rId1"/>
          <a:srcRect l="27563" t="64546" r="15022" b="6999"/>
          <a:stretch/>
        </p:blipFill>
        <p:spPr>
          <a:xfrm>
            <a:off x="1828800" y="2849400"/>
            <a:ext cx="5715000" cy="21034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7"/>
          <p:cNvSpPr/>
          <p:nvPr/>
        </p:nvSpPr>
        <p:spPr>
          <a:xfrm>
            <a:off x="76320" y="512136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questo caso gli atomi di A e B non si allineano, e pertanto A e B non sono immagini speculari sovrapponibili—cioè sono enantiomeri. A e B sono perciò due dei quattro possibili stereoisomeri del 2,3-dibromopentan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C6B8-7F98-4612-B54E-8B5470951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3048120" y="763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76320" y="911160"/>
            <a:ext cx="8686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cambiando la posizione di H e Br (o di altri due gruppi) sul centro stereogenico di A (oppure di B) si forma un nuovo stereoisomero (indicato con C), che è differente sia da A che da B. L’immagine speculare di C è indicata con D. C e D sono enantiome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76320" y="45720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stereoisome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76320" y="586728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li stereoisomeri che non sono immagini speculari l’uno dell’altro son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diastereoisomeri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 Per esempio, A e C sono diastereoisomeri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1" descr=""/>
          <p:cNvPicPr/>
          <p:nvPr/>
        </p:nvPicPr>
        <p:blipFill>
          <a:blip r:embed="rId1"/>
          <a:stretch/>
        </p:blipFill>
        <p:spPr>
          <a:xfrm>
            <a:off x="228600" y="2590920"/>
            <a:ext cx="8534520" cy="34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4934-2575-4019-85F8-7B4798E42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52280" y="1066680"/>
            <a:ext cx="868680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isomeri sono composti diversi aventi la stessa formula molecola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due principali classi di isomeri sono gli isomeri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stituziona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gli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ereoisome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 algn="just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li isome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stituzionali (o strutturali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no nomi IUPAC differenti, gruppi funzionali uguali o diversi,  diverse proprietà fisiche e diverse proprietà chimich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7160" algn="just">
              <a:lnSpc>
                <a:spcPct val="100000"/>
              </a:lnSpc>
              <a:spcBef>
                <a:spcPts val="45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li stereoisome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fferiscono solo per il modo in cui gli atomi sono disposti nello spazio. Hanno identici nomi IUPAC (eccetto per il prefiss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Hanno sempre gli stessi gruppi funzional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particolare disposizione tridimensionale è chiamat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figuraz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Gli stereoisomeri hanno differenti configurazion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due Principali Classi di Isomer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E33F-B9F0-45C7-B7BE-7A472306F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0" descr=""/>
          <p:cNvPicPr/>
          <p:nvPr/>
        </p:nvPicPr>
        <p:blipFill>
          <a:blip r:embed="rId1"/>
          <a:stretch/>
        </p:blipFill>
        <p:spPr>
          <a:xfrm>
            <a:off x="762120" y="2519280"/>
            <a:ext cx="7804080" cy="304344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2"/>
          <p:cNvSpPr/>
          <p:nvPr/>
        </p:nvSpPr>
        <p:spPr>
          <a:xfrm>
            <a:off x="3048120" y="27288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76320" y="83808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stereoisomer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304920" y="4800600"/>
            <a:ext cx="4572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259920" y="1523880"/>
            <a:ext cx="18982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epilogo: i quattro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reoisomeri del 2,3-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bromopentan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9" descr=""/>
          <p:cNvPicPr/>
          <p:nvPr/>
        </p:nvPicPr>
        <p:blipFill>
          <a:blip r:embed="rId2"/>
          <a:stretch/>
        </p:blipFill>
        <p:spPr>
          <a:xfrm>
            <a:off x="304920" y="5867280"/>
            <a:ext cx="364968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8D89-0974-48DC-8CC0-46AEE8D1F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048120" y="763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76320" y="911160"/>
            <a:ext cx="8686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nsideriamo gli stereoisomeri del 2,3-dibromobutano. Poichè questa molecola ha due centri stereogenici, il numero massimo di stereoisomeri è 4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76320" y="53352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ti Mes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76320" y="3276720"/>
            <a:ext cx="868680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 trovare tutti gli stereoisomeri del 2,3-dibromobutano, aggiungere arbitrariamente i gruppi H, Br e CH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ai centri stereogenici, formando così lo stereoisomero A, e quindi disegnare la sua immagine speculare B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9" descr="0026"/>
          <p:cNvPicPr/>
          <p:nvPr/>
        </p:nvPicPr>
        <p:blipFill>
          <a:blip r:embed="rId1"/>
          <a:stretch/>
        </p:blipFill>
        <p:spPr>
          <a:xfrm>
            <a:off x="3733920" y="1905120"/>
            <a:ext cx="1981080" cy="1306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0010"/>
          <p:cNvPicPr/>
          <p:nvPr/>
        </p:nvPicPr>
        <p:blipFill>
          <a:blip r:embed="rId2"/>
          <a:stretch/>
        </p:blipFill>
        <p:spPr>
          <a:xfrm>
            <a:off x="1066680" y="4800600"/>
            <a:ext cx="693432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5001-8B17-40B5-A400-01CBBBEFE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3048120" y="7632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76320" y="911160"/>
            <a:ext cx="8686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 trovare gli altri due stereoisomeri (se esistono), scambiare le posizioni dei due gruppi sullo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stesso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entro stereogenico di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un sol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enantiomero. In questo caso, scambiando la posizione di H e Br su un centro stereogenico di A, si forma C, che è differente sia da A che da B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76320" y="45720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ti Mes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76320" y="601992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 composto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meso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è un composto achirale che contiene centri stereogenici tetraedrici. C è un composto mes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0029"/>
          <p:cNvPicPr/>
          <p:nvPr/>
        </p:nvPicPr>
        <p:blipFill>
          <a:blip r:embed="rId1"/>
          <a:stretch/>
        </p:blipFill>
        <p:spPr>
          <a:xfrm>
            <a:off x="1066680" y="2540160"/>
            <a:ext cx="693432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65D1-E351-4338-9B79-47049AF8D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28600" y="1066680"/>
            <a:ext cx="868680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composto C contiene un piano si simmetria, e quindi è achiral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 composti meso contengono un piano di simmetr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perciò sono caratterizzati da due metà identich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152280" y="533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posti Mes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7" descr="0030"/>
          <p:cNvPicPr/>
          <p:nvPr/>
        </p:nvPicPr>
        <p:blipFill>
          <a:blip r:embed="rId1"/>
          <a:stretch/>
        </p:blipFill>
        <p:spPr>
          <a:xfrm>
            <a:off x="3505320" y="2749680"/>
            <a:ext cx="2100240" cy="28890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228600" y="55944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uno stereoisomero del 2,3-dibromobutano è sovrapponibile alla sua immagine speculare, ci sono solo tre stereoisomeri, non quatt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ED58-5636-4115-910B-AA5E7E1B2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3" descr=""/>
          <p:cNvPicPr/>
          <p:nvPr/>
        </p:nvPicPr>
        <p:blipFill>
          <a:blip r:embed="rId1"/>
          <a:stretch/>
        </p:blipFill>
        <p:spPr>
          <a:xfrm>
            <a:off x="669960" y="2451240"/>
            <a:ext cx="7804080" cy="34923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2"/>
          <p:cNvSpPr/>
          <p:nvPr/>
        </p:nvSpPr>
        <p:spPr>
          <a:xfrm>
            <a:off x="3048120" y="1666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posti Mes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429840" y="1371600"/>
            <a:ext cx="16772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epilogo: i t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reoisomeri d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,3-dibromobutan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4" descr=""/>
          <p:cNvPicPr/>
          <p:nvPr/>
        </p:nvPicPr>
        <p:blipFill>
          <a:blip r:embed="rId2"/>
          <a:stretch/>
        </p:blipFill>
        <p:spPr>
          <a:xfrm>
            <a:off x="76320" y="5638680"/>
            <a:ext cx="2514600" cy="11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EA91-60C6-4446-BC79-3B8B4F922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3048120" y="1666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22860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do un composto ha più di un centro stereogenico, la configurazion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ve essere assegnata a ciascuno di ess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52280" y="714240"/>
            <a:ext cx="8763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segnazione di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ed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in composti con due o più Centri Stereogenici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0031"/>
          <p:cNvPicPr/>
          <p:nvPr/>
        </p:nvPicPr>
        <p:blipFill>
          <a:blip r:embed="rId1"/>
          <a:stretch/>
        </p:blipFill>
        <p:spPr>
          <a:xfrm>
            <a:off x="2362320" y="2792520"/>
            <a:ext cx="4952880" cy="14745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10"/>
          <p:cNvSpPr/>
          <p:nvPr/>
        </p:nvSpPr>
        <p:spPr>
          <a:xfrm>
            <a:off x="2743200" y="423540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o stereoisomero del 2,3-dibromopentan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2666880" y="46162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Nome completo: (2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,3</a:t>
            </a: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)-2,3-dibromopentan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4" descr=""/>
          <p:cNvPicPr/>
          <p:nvPr/>
        </p:nvPicPr>
        <p:blipFill>
          <a:blip r:embed="rId2"/>
          <a:stretch/>
        </p:blipFill>
        <p:spPr>
          <a:xfrm>
            <a:off x="152280" y="5102280"/>
            <a:ext cx="876312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9050-7739-46C0-81B1-9F6C10208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3048120" y="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228600" y="83808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deriamo l’1,3-dibromociclopentano. Dal momento che ha due centri stereogenici, questa molecola ha un numero massimo di quattro stereoisomer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icloalcani Disostitui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9" descr="0033a"/>
          <p:cNvPicPr/>
          <p:nvPr/>
        </p:nvPicPr>
        <p:blipFill>
          <a:blip r:embed="rId1"/>
          <a:stretch/>
        </p:blipFill>
        <p:spPr>
          <a:xfrm>
            <a:off x="3352680" y="2101680"/>
            <a:ext cx="2438640" cy="11750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10"/>
          <p:cNvSpPr/>
          <p:nvPr/>
        </p:nvSpPr>
        <p:spPr>
          <a:xfrm>
            <a:off x="228600" y="3292560"/>
            <a:ext cx="86868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cordare che un cicloalcano disostituito può avere i due sostituenti dalla stessa parte dell’anello (isomer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indicato con A) o da parti opposte (isomer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indicato con B). Questi composti sono stereoisomeri, ma non reciproca immagine specular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3" descr=""/>
          <p:cNvPicPr/>
          <p:nvPr/>
        </p:nvPicPr>
        <p:blipFill>
          <a:blip r:embed="rId2"/>
          <a:stretch/>
        </p:blipFill>
        <p:spPr>
          <a:xfrm>
            <a:off x="3192480" y="4921200"/>
            <a:ext cx="427500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305D-1EA1-4A0A-AF4F-786448D3F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228600" y="1569960"/>
            <a:ext cx="8686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Per trovare gli altri due stereoisomeri (se esistono)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egnare l’immagine speculare di ciascun composto e determinare se il composto e la propria immagine speculare sono sovrapponibil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icloalcani Disostitui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228600" y="533412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isomer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è sovrapponibile alla sua immagine speculare, e perciò le due molecole sono identiche. Quindi A è un composto achirale mes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0033c"/>
          <p:cNvPicPr/>
          <p:nvPr/>
        </p:nvPicPr>
        <p:blipFill>
          <a:blip r:embed="rId1"/>
          <a:stretch/>
        </p:blipFill>
        <p:spPr>
          <a:xfrm>
            <a:off x="533520" y="2949480"/>
            <a:ext cx="822960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E5CB-45A8-43A8-9517-CD4E501E3F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228600" y="156996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isomer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non è sovrapponibile alla sua immagine speculare, indicata con C, e perciò B e C sono composti differenti. B e  C sono enantiomer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icloalcani Disostituit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28600" y="533412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ichè uno stereoisomero dell’1,3-dibromociclopentano è sovrapponibile alla sua immagine speculare, ci sono solo tre stereoisomeri, non quattro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7" descr="0033d"/>
          <p:cNvPicPr/>
          <p:nvPr/>
        </p:nvPicPr>
        <p:blipFill>
          <a:blip r:embed="rId1"/>
          <a:stretch/>
        </p:blipFill>
        <p:spPr>
          <a:xfrm>
            <a:off x="762120" y="2743200"/>
            <a:ext cx="76960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D51D-660F-4EE8-8337-89D3301AB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203760" y="1143000"/>
            <a:ext cx="2413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mmario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— I tipi di isome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3" descr=""/>
          <p:cNvPicPr/>
          <p:nvPr/>
        </p:nvPicPr>
        <p:blipFill>
          <a:blip r:embed="rId1"/>
          <a:stretch/>
        </p:blipFill>
        <p:spPr>
          <a:xfrm>
            <a:off x="380880" y="1771560"/>
            <a:ext cx="780444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FD70-ED9D-44E0-BE83-E800E416F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3124080" y="3808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221040" y="1371600"/>
            <a:ext cx="2475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5.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ronto tra isome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stituzionali e stereoisomer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78044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F16B-1C88-4CF8-85F3-E947501EA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026"/>
          <p:cNvSpPr/>
          <p:nvPr/>
        </p:nvSpPr>
        <p:spPr>
          <a:xfrm>
            <a:off x="3048120" y="152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33"/>
          <p:cNvSpPr/>
          <p:nvPr/>
        </p:nvSpPr>
        <p:spPr>
          <a:xfrm>
            <a:off x="44280" y="625320"/>
            <a:ext cx="23248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e determinare la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azione tra due molecol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 identich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035" descr=""/>
          <p:cNvPicPr/>
          <p:nvPr/>
        </p:nvPicPr>
        <p:blipFill>
          <a:blip r:embed="rId1"/>
          <a:stretch/>
        </p:blipFill>
        <p:spPr>
          <a:xfrm>
            <a:off x="762120" y="1690560"/>
            <a:ext cx="727056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28DE-8860-4D0A-B320-B311386B0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228600" y="1143000"/>
            <a:ext cx="86868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proprietà chimiche e fisiche di due enantiomeri sono identiche eccetto che nella loro interazione con altre sostenze chirali. Hanno identiche proprietà fisiche, eccetto che per il modo con cui interagiscono con l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uce piano-polarizza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luce piano-polarizzat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 luce polarizzata)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è la luce che possiede un vettore elettrico oscillante in un solo piano. La luce piano-polarizzata deriva dal passaggio della luce ordinaria attraverso un polarizzator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larimetr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è uno strumento che consente alla luce polarizzata di attraversare un tubo porta-campione contenente un composto organico. Permette quindi la misura dell’angolo (in gradi) di cui un composto organico ruota il piano della luce polarizz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52280" y="60948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— Attività Ottic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8D97-5EA5-4DF0-B2F9-C0489E62A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228600" y="13273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 composti achirali, la luce che esce dal porta-campione non risulta modificata. Un composto che non modifica il piano della luce polarizzata è dett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tticamente inattiv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0036b"/>
          <p:cNvPicPr/>
          <p:nvPr/>
        </p:nvPicPr>
        <p:blipFill>
          <a:blip r:embed="rId1"/>
          <a:srcRect l="0" t="212" r="0" b="0"/>
          <a:stretch/>
        </p:blipFill>
        <p:spPr>
          <a:xfrm>
            <a:off x="380880" y="2852640"/>
            <a:ext cx="8305920" cy="36244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6"/>
          <p:cNvSpPr/>
          <p:nvPr/>
        </p:nvSpPr>
        <p:spPr>
          <a:xfrm>
            <a:off x="152280" y="66996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— Attività Ottic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69C7-68FB-49DB-84E8-4D34B96AB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3048120" y="763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228600" y="1125360"/>
            <a:ext cx="868680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n composti chirali, il piano della luce polarizzata viene invece ruotato di un angolo </a:t>
            </a:r>
            <a:r>
              <a:rPr b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L’angolo </a:t>
            </a:r>
            <a:r>
              <a:rPr b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è misurato in gradi 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), ed è chiamato 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rotazione osservat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Un composto che ruota il piano della luce polarizzata è detto 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otticamente attivo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0037"/>
          <p:cNvPicPr/>
          <p:nvPr/>
        </p:nvPicPr>
        <p:blipFill>
          <a:blip r:embed="rId1"/>
          <a:stretch/>
        </p:blipFill>
        <p:spPr>
          <a:xfrm>
            <a:off x="533520" y="2936880"/>
            <a:ext cx="8153280" cy="36352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7"/>
          <p:cNvSpPr/>
          <p:nvPr/>
        </p:nvSpPr>
        <p:spPr>
          <a:xfrm>
            <a:off x="152280" y="60948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— Attività Ottic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2C48-E643-49D7-BF5E-61BFC4E24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048120" y="903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228600" y="1143000"/>
            <a:ext cx="8686800" cy="54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rotazione della luce polarizzata può essere in senso orario o antiorar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la rotazione è in senso orario (verso destra rispetto alle ore 12), il composto è dett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estrorotator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a rotazione è indicata con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la rotazione è in senso antiorario (verso sinistra rispetto alle 12), il composto è dett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evorotator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La rotazione è indicata con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ue enantiomeri ruotano la luce piano-polarizzata di un valore uguale, ma nella direzione oppost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Perciò, se l’enantiomero A ruota la luce polarizzata di +5°, allora la stessa concentrazione dell’enantiomero B ruota di  -5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on esiste nessuna relazione fra i prefissi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o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e le designazioni (+) e (-), che indicano la rotazione ott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52280" y="60948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— Attività Ottica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CDB3-0423-41E2-8358-DF327C419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"/>
          <p:cNvSpPr/>
          <p:nvPr/>
        </p:nvSpPr>
        <p:spPr>
          <a:xfrm>
            <a:off x="3048120" y="2286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228600" y="1506600"/>
            <a:ext cx="868680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na quantità uguale di due enantiomeri è chiamata 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miscela racemica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racemato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. Una miscela racemica è otticamente inattiva. Poichè due enantiomeri ruotano la luce piano-polarizzata di un valore uguale, ma in direzioni opposte, le rotazioni si annullano, e non viene osservata nessuna rotazione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152280" y="83808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-Miscele racemiche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7" descr="phyiscal_properties_tb_764"/>
          <p:cNvPicPr/>
          <p:nvPr/>
        </p:nvPicPr>
        <p:blipFill>
          <a:blip r:embed="rId1"/>
          <a:stretch/>
        </p:blipFill>
        <p:spPr>
          <a:xfrm>
            <a:off x="533520" y="3933720"/>
            <a:ext cx="800100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3B85-FEDB-42AA-9B07-FCA94AA76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228600" y="1603440"/>
            <a:ext cx="868680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25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La rotazione specifica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è una costante fisica standardizzata ed è funzione della concentrazione. La rotazione specifica è indicata con il simbolo [</a:t>
            </a:r>
            <a:r>
              <a:rPr b="1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] e tiene conto della lunghezza del tubo porta-campione (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, in dm), della concentrazione (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in g/mL), della temperatura (25</a:t>
            </a:r>
            <a:r>
              <a:rPr b="1" lang="en-US" sz="2300" spc="-1" strike="noStrike" baseline="30000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) e della lunghezza d’onda della radiazione utilizzata (589 nm).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6" descr="0041"/>
          <p:cNvPicPr/>
          <p:nvPr/>
        </p:nvPicPr>
        <p:blipFill>
          <a:blip r:embed="rId1"/>
          <a:stretch/>
        </p:blipFill>
        <p:spPr>
          <a:xfrm>
            <a:off x="533520" y="4565520"/>
            <a:ext cx="8076960" cy="16830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7"/>
          <p:cNvSpPr/>
          <p:nvPr/>
        </p:nvSpPr>
        <p:spPr>
          <a:xfrm>
            <a:off x="152280" y="974880"/>
            <a:ext cx="883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prietà fisiche degli stereoisomeri-Miscele Racemiche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0AEA-0038-405D-9B7C-084FD6D69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3048120" y="152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228600" y="11430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’eccesso enantiomerico (purezza ottic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a misura di quanto un enantiomero è presente in eccesso rispetto alla miscela racemica. E’ indicato con il simbolo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e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52280" y="6541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prietà fisiche degli stereoisomeri—Purezza Ott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533520" y="2362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ee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% di un enantiomero - % dell’altro enantiome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228600" y="2895480"/>
            <a:ext cx="8686800" cy="30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iamo il seguente esempi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e una miscela contiene il 75% di un enantiomero e il 25% dell’altro, l’eccesso enantiomerico 75% - 25% = 50%. Perciò, c’è un 50% di eccesso di un enantiomero rispetto alla miscela racemic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eccesso enantiomerico può essere anche calcolato se sono note la rotazione specifica [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 di una miscela e la rotazione specifica [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 dell’enantiomero pur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990720" y="60958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ee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] miscela / [</a:t>
            </a:r>
            <a:r>
              <a:rPr b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] enantiomero puro) x 10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B028-8B3A-45B3-B3C0-B6C91FFE7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228600" y="838080"/>
            <a:ext cx="8686800" cy="19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ichè due enantiomeri hanno identiche proprietà fisiche, essi non possono essere separati mediante le comuni tecniche fisiche, come la distillazion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37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 diastereoisomeri e gli isomeri costituzionali hanno differenti proprietà fisic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e perciò possono essere separati mediante le comuni tecniche fisich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152280" y="457200"/>
            <a:ext cx="8763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oprietà fisiche degli stereoisomeri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3048120" y="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903600" y="3368520"/>
            <a:ext cx="18007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5.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rietà fisiche de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 stereoisomer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l’ acido tartaric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0" descr=""/>
          <p:cNvPicPr/>
          <p:nvPr/>
        </p:nvPicPr>
        <p:blipFill>
          <a:blip r:embed="rId1"/>
          <a:stretch/>
        </p:blipFill>
        <p:spPr>
          <a:xfrm>
            <a:off x="3498840" y="2573280"/>
            <a:ext cx="473076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7950-378E-4A35-86DE-B71D0967A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228600" y="914400"/>
            <a:ext cx="8686800" cy="19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e enantiomeri hanno esattamente le stesse proprietà chimiche, eccetto che per le reazioni con reagenti chirali non-racemic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lti farmaci sono chirali e spesso, per svolgere la loro azione terapeutica, devono interagire con recettori o enzimi chirali. Un enantiomero di un farmaco può curare efficacemente una malattia, mentre la sua  immagine speculare può essere inefficace o tossic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152280" y="547560"/>
            <a:ext cx="8763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Proprietà chimiche degli Enantiomeri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6" descr="0044a"/>
          <p:cNvPicPr/>
          <p:nvPr/>
        </p:nvPicPr>
        <p:blipFill>
          <a:blip r:embed="rId1"/>
          <a:stretch/>
        </p:blipFill>
        <p:spPr>
          <a:xfrm>
            <a:off x="1752480" y="2971800"/>
            <a:ext cx="5639040" cy="15350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7" descr="0044b"/>
          <p:cNvPicPr/>
          <p:nvPr/>
        </p:nvPicPr>
        <p:blipFill>
          <a:blip r:embed="rId2"/>
          <a:stretch/>
        </p:blipFill>
        <p:spPr>
          <a:xfrm>
            <a:off x="1447920" y="4572000"/>
            <a:ext cx="6248160" cy="18111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3048120" y="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A8CC-ED3D-4C9A-A4DF-B83D516A5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3048120" y="166680"/>
            <a:ext cx="30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28600" y="1066680"/>
            <a:ext cx="868680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bbene ogni oggetto abbia la propria immagine speculare, le immagini speculari possono o non possono essere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ovrapponibi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cune molecole sono come le mani. La mano destra e la mano sinistra sono una l’immagine speculare dell’altra, ma non sono identiche, 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ovrapponibi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52280" y="609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304920" y="3747960"/>
            <a:ext cx="800100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782A-E660-45D9-8432-607D72F0B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76320" y="76212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nantiomeri e senso dell’olfatt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28600" y="1227240"/>
            <a:ext cx="8686800" cy="19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icerca suggerisce che l’odore di una particolare molecola è determinato più dalla sua forma che dalla presenza di particolari gruppi funzional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chè gli enantiomeri interagiscono con i recettori dell’olfatto, alcuni enantiomeri hanno odore divers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3048120" y="152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12" descr=""/>
          <p:cNvPicPr/>
          <p:nvPr/>
        </p:nvPicPr>
        <p:blipFill>
          <a:blip r:embed="rId1"/>
          <a:stretch/>
        </p:blipFill>
        <p:spPr>
          <a:xfrm>
            <a:off x="533520" y="3276720"/>
            <a:ext cx="73533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DF95-9046-49AF-BB7B-594FE1C73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76320" y="762120"/>
            <a:ext cx="8762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antiomeri e Senso dell’Olfatto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3048120" y="1522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145440" y="1371600"/>
            <a:ext cx="24238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e 5.1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hape of molecules an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ense of smel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7772400" cy="42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47A4-0CB2-4B09-AD87-71B602F82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3048120" y="166680"/>
            <a:ext cx="304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52280" y="1143000"/>
            <a:ext cx="5029200" cy="56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re molecole sono come le calze. Due calze formano una coppia di immagini speculari che sono sovrapponibili. Una calza e la sua immagine speculare sono dunque identich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o un oggetto che è sovrapponibile alla sua immagine speculare è dett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chir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molecola o un oggetto che non è sovrapponibile alla sua immagine speculare è detta chir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52280" y="6094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0006"/>
          <p:cNvPicPr/>
          <p:nvPr/>
        </p:nvPicPr>
        <p:blipFill>
          <a:blip r:embed="rId1"/>
          <a:stretch/>
        </p:blipFill>
        <p:spPr>
          <a:xfrm>
            <a:off x="5481720" y="1600200"/>
            <a:ext cx="34336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692C-F716-482B-988A-D971E3C75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3048120" y="76320"/>
            <a:ext cx="3047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228600" y="1235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iamo alcune molecole per determinare se sono o non so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hiral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52280" y="7621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0007a"/>
          <p:cNvPicPr/>
          <p:nvPr/>
        </p:nvPicPr>
        <p:blipFill>
          <a:blip r:embed="rId1"/>
          <a:stretch/>
        </p:blipFill>
        <p:spPr>
          <a:xfrm>
            <a:off x="1523880" y="2306520"/>
            <a:ext cx="609624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260A-FDDD-4BDD-A5DB-902DC8DCC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2971800" y="0"/>
            <a:ext cx="30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28600" y="762120"/>
            <a:ext cx="86868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molecola A e la sua immagine speculare B non sono sovrapponibili. Non importa come A e B siano ruotati, non sarà mai possibile sovrapporre tutti i loro atomi. Inoltre, CHBrClF è una molecola chirale, e A e B sono composti different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e B sono stereoisomeri—più precisamente so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antiomer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atomo di carbonio legato a quattro gruppi differenti è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ent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ereogenic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traed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52280" y="4255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1"/>
          <a:stretch/>
        </p:blipFill>
        <p:spPr>
          <a:xfrm>
            <a:off x="1114560" y="4191120"/>
            <a:ext cx="6734160" cy="27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046F-EF85-47AD-82E1-2100F9CFA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048120" y="3189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reochimic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28600" y="1841400"/>
            <a:ext cx="86868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generale, una molecola senza centri stereogenici non è chirale. Esistono tuttavia alcune eccezioni a questa generalizz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 un centro stereogenico tetraedrico, la molecola è sempre chir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 due o più centri stereogenici, una molecola può essere o non essere chira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molecole achirali contengono un piano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 simmetr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mentre quelle chirali no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Un piano di simmetria è un pian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 taglia la molecola a metà, in modo tale che una metà è il riflesso dell’altr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lecole Chirali e Achiral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19T15:55:31Z</dcterms:modified>
  <cp:revision>600</cp:revision>
  <dc:subject/>
  <dc:title>PowerPoint Presentation</dc:title>
</cp:coreProperties>
</file>