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42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43.png" ContentType="image/png"/>
  <Override PartName="/ppt/media/image53.jpeg" ContentType="image/jpeg"/>
  <Override PartName="/ppt/media/image34.jpeg" ContentType="image/jpeg"/>
  <Override PartName="/ppt/media/image46.png" ContentType="image/png"/>
  <Override PartName="/ppt/media/image11.png" ContentType="image/png"/>
  <Override PartName="/ppt/media/image55.png" ContentType="image/png"/>
  <Override PartName="/ppt/media/image45.jpeg" ContentType="image/jpeg"/>
  <Override PartName="/ppt/media/image37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5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56.png" ContentType="image/png"/>
  <Override PartName="/ppt/media/image41.png" ContentType="image/png"/>
  <Override PartName="/ppt/media/image47.png" ContentType="image/png"/>
  <Override PartName="/ppt/media/image35.jpeg" ContentType="image/jpeg"/>
  <Override PartName="/ppt/media/image10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2.png" ContentType="image/png"/>
  <Override PartName="/ppt/media/image8.jpeg" ContentType="image/jpeg"/>
  <Override PartName="/ppt/media/image38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3001-EC60-4181-AE34-656DFE77BC3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7E39-00A8-44E7-82A1-D7D9C8E7AF5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A7D9-F2A7-44FC-9783-D316A7B2F6B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5B42-E017-4124-9DAB-3FF19A00C5A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66BA-982A-4C15-A2D3-7771E73D36C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2291-85FD-487F-9A1F-14BC339FE2B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64F0-B710-4CD3-BECE-4669D8DCBE3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05E6-094E-426E-8384-ED42D2E1967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F5F6-D021-4795-A81C-4ED51648A86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DCFD-652E-4D4B-9B3C-66248F89422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C366-B43F-45B7-B74C-FF883DA046B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D056-5636-425F-B11A-8949AD57D2E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D4E4-6D0B-4275-A90D-5C48F9A446B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D452-F4E6-45B7-BFD0-A4CF54CF569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2592-512A-4956-81AF-C475B6E4ACC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B634-D334-4748-B0BD-03A9F25982B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451A-342F-44ED-B0FC-E3277F3D286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71F2-323A-4D6A-8BD9-705DD244C64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40D0-7308-471A-B1B7-2B3BFBED7A5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0326-A2DE-4970-9CD4-EFA3A13BEA8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48D7-80EE-47F0-9CD9-75EFFE16C76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BC2D-93AF-4C8D-BE4F-8D9F52FE3F5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9D4B-05F6-4021-8272-0F13E84CB3B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4D5C-BBE3-4C14-8726-3756C682936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1F15-E323-4565-93CE-1DFFA8DEE19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C171-EB53-4AB2-904C-7733E14071B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4A4C-D9F0-4992-9464-7521EE7E986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9DCA-036D-422B-B3E8-0CDF5C4AA1C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07D2-DBEA-46F7-BB1D-695705C1B35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114C-515D-4FBB-9C00-D148D73E809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A37A-C806-48AD-9DD0-96F2791C569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6F03-0942-4E76-A0F6-F8E5EC4F633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D32C-2DDB-42C5-B66C-A079BCE94C9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0278-8BAF-46FB-97C3-7F42083D90D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A83C-B0B0-4811-8861-57A92FE2D36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7549-CDDE-4702-8FF7-F65F2F0CD31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00C5-0E45-4FBF-A6CB-13113AD48DF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3B71-EDE7-4AED-B4D9-1C4A1E182A6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AD64-A975-4141-BF00-1A6EE78D453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D956-2C35-4D22-8672-A954CB2DE49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843B-A535-475C-A225-F9165B53D46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E7DC-AA3C-4FB4-BE4E-839A4A681AC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0DC7-E1E0-40A8-B557-591F31F53D0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4028-C962-4EA8-B3E4-2BFA217B851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7103-E2F0-4DF0-9999-76F9AE93AA5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B0FF-946C-497C-926F-81ACAF813E1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F781-5357-473F-B161-80FCD86A9D9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8705-AB93-4EF1-86D0-6692217ACC4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45F1-DE51-42F6-BEAB-42C933E7993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E6CC-34D9-4484-A59A-732E784970C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4A06-60DE-4D8D-958D-1F7FB61F42B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95B7-561D-4DA7-A29E-6D50C3E9F76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078E-2A4A-45F7-9FDE-8C069452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51AA-11CA-4DD4-8DD4-7031F55F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42FA-4A55-42BD-A18E-A9F2BF63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D91-C6BA-47B7-83F6-9BAC6E4D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A15D-AB16-4E6A-8CE1-4FC1A9E5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A84-7EEB-4550-A7FC-9684CF0B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B050-E430-4B00-AB22-A8FECC97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6C65-4A00-4374-9804-E2E4AC85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0F2-A4E5-4889-A78C-CCCFD0A6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5614-A066-4F9B-A1B7-E471267B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B13-8977-4A41-B38D-51D0F1D6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F18-2513-4F65-97EB-8CDC1F14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F627-4454-41BF-974C-4BBE1CF03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B7ED-D659-4221-831E-45B3B5B5D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856600" y="3809880"/>
            <a:ext cx="364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F625-E998-47CF-BF48-3A3A23869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048120" y="6238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52280" y="14158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0008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7422-D66C-4BCF-8E8F-D88E40C03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3048120" y="6238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52280" y="12952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iassunto dei Principi Basilari della Chiralità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" y="2125800"/>
            <a:ext cx="8686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oggetto ha la propria immagine speculare. La domanda fondamentale è se una molecola e la sua immagine speculare sono sovrappon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a molecola e la sua immagine speculare non sono sovrapponbili, la molecola e la sua immagine speculare sono chir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termini centro stereogenico e molecola chirale sono correlati ma distinti. In generale, una molecola chirale deve avere uno o più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presenza di un piano di simmetria indica che la molecola   è  a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9D63-B758-42BB-9E91-0E5A3A805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300320"/>
            <a:ext cx="868680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individuare un centro stereogenico, considerare ogni carbonio tetraedrico di una  molecola e guardare i quattro gruppi — non i quattro atomi — a esso leg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includere mai tutti gli atomi di C che non possono essere centri stereogenici tetraedrici. Tra ques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gruppi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C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230040" y="4368960"/>
            <a:ext cx="83804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C8CD-DA88-4463-AC80-A2516AF52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048120" y="5475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2073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organiche più grandi possono avere due, tre o anche cento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1339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228600" y="3303720"/>
            <a:ext cx="85345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916B-64BB-4577-A053-70DDB808C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914400"/>
            <a:ext cx="86868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crivere entrambi gli enantiomeri di un composto chirale, come il 2-butanolo, usare la tipica convenzione per rappresentare il tetraedro: scrivere due legami nel piano, poi uno sopra al piano (a cuneo) ed uno sotto al piano (a tratteggio). Quindi, per formare il primo enantiomero, sistemare i gruppi H, OH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bitrariamente, su ciascun legame del centro stereogenico. Quindi scrivere l’immagine specul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4572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13"/>
          <p:cNvPicPr/>
          <p:nvPr/>
        </p:nvPicPr>
        <p:blipFill>
          <a:blip r:embed="rId1"/>
          <a:stretch/>
        </p:blipFill>
        <p:spPr>
          <a:xfrm>
            <a:off x="1066680" y="4038480"/>
            <a:ext cx="70866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DDEF-C155-4708-B02E-E67946762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28600" y="914400"/>
            <a:ext cx="8686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tomi di carbonio che fanno parte di un anello possono essere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trovare i centri stereogenici sui carboni dell’anello, disegnare sempre il ciclo come un poligono piatto, e cercare i carboni tetraedrici che sono legati a  quattro gruppi divers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52280" y="3808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0015a"/>
          <p:cNvPicPr/>
          <p:nvPr/>
        </p:nvPicPr>
        <p:blipFill>
          <a:blip r:embed="rId1"/>
          <a:stretch/>
        </p:blipFill>
        <p:spPr>
          <a:xfrm>
            <a:off x="1143000" y="3195720"/>
            <a:ext cx="7086600" cy="1985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0015b"/>
          <p:cNvPicPr/>
          <p:nvPr/>
        </p:nvPicPr>
        <p:blipFill>
          <a:blip r:embed="rId2"/>
          <a:stretch/>
        </p:blipFill>
        <p:spPr>
          <a:xfrm>
            <a:off x="838080" y="5375160"/>
            <a:ext cx="7391520" cy="140652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>
            <a:off x="457200" y="51814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F537-FDB1-4096-B8FE-FEA70F98D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28600" y="16318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3-metilcicloesene, i sostituenti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, che sono sopra e sotto al piano dell’anello, sono disegnati con cunei e linee tratteggiat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17a"/>
          <p:cNvPicPr/>
          <p:nvPr/>
        </p:nvPicPr>
        <p:blipFill>
          <a:blip r:embed="rId1"/>
          <a:stretch/>
        </p:blipFill>
        <p:spPr>
          <a:xfrm>
            <a:off x="1371600" y="3595680"/>
            <a:ext cx="6705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CF10-6A64-437C-B711-C05CF2028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1295280"/>
            <a:ext cx="2895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ti composti biologicamente attivi contengono uno o più centri stereogenici sui carboni d’anell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0017b"/>
          <p:cNvPicPr/>
          <p:nvPr/>
        </p:nvPicPr>
        <p:blipFill>
          <a:blip r:embed="rId1"/>
          <a:stretch/>
        </p:blipFill>
        <p:spPr>
          <a:xfrm>
            <a:off x="3048120" y="1295280"/>
            <a:ext cx="5410080" cy="2278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0017c"/>
          <p:cNvPicPr/>
          <p:nvPr/>
        </p:nvPicPr>
        <p:blipFill>
          <a:blip r:embed="rId2"/>
          <a:stretch/>
        </p:blipFill>
        <p:spPr>
          <a:xfrm>
            <a:off x="2209680" y="4010040"/>
            <a:ext cx="6705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797D-8A13-41E1-9647-EA23738EC2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28600" y="1098720"/>
            <a:ext cx="86868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gli enantiomeri sono due composti diversi, dobbiamo essere in grado di distinguerli con un nome. Questo viene fatto aggiungendo il prefiss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 nome IUPAC dell’enantiome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omenclatura degli enantiomeri con i prefiss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chiamato il siste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hn-Ingold-Prel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segnare un enantiomero com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rima bisogna assegnare la priorità a ciascun gruppo legato al centro stereogenico, in base al numero atomico descrescente. L’atomo con il più alto numero atomico ha la priorità maggiore (1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0019a"/>
          <p:cNvPicPr/>
          <p:nvPr/>
        </p:nvPicPr>
        <p:blipFill>
          <a:blip r:embed="rId1"/>
          <a:stretch/>
        </p:blipFill>
        <p:spPr>
          <a:xfrm>
            <a:off x="3276720" y="5611680"/>
            <a:ext cx="23619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CB6C-9771-4531-86A2-C83F6AB1B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048120" y="471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6477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due atomi su un centro stereogenico sono uguali, assegnare la priorità in base al numero atomico legato a questi atomi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a numero atomico maggiore determina priorità maggio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0019b"/>
          <p:cNvPicPr/>
          <p:nvPr/>
        </p:nvPicPr>
        <p:blipFill>
          <a:blip r:embed="rId1"/>
          <a:srcRect l="0" t="1373" r="0" b="0"/>
          <a:stretch/>
        </p:blipFill>
        <p:spPr>
          <a:xfrm>
            <a:off x="152280" y="3597120"/>
            <a:ext cx="88394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296E-81EB-406C-8546-0B0D89979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3124080" y="763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28600" y="457200"/>
            <a:ext cx="86868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la stereochimica indaga la struttura tridimensionale delle molecol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e conseguenza della stereochimica, si ha che differenze apparentemente insignificanti nella struttura 3-D possono causare proprietà molto differenti. Si può osservare questo considerando amido e cellulosa, due polimeri composti dalla stessa unità, che si ripe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1"/>
          <a:stretch/>
        </p:blipFill>
        <p:spPr>
          <a:xfrm>
            <a:off x="533520" y="2979720"/>
            <a:ext cx="85341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9767-C412-47FA-BF76-F2DF2573B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3048120" y="471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8600" y="20289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due isotopi sono legati al centro stereogenico, assegnare le priorità secondo il numero di massa decrescente. Confrontando i tre isotopi dell’idrogeno, l’ordine di priorità è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52280" y="1339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0019c"/>
          <p:cNvPicPr/>
          <p:nvPr/>
        </p:nvPicPr>
        <p:blipFill>
          <a:blip r:embed="rId1"/>
          <a:stretch/>
        </p:blipFill>
        <p:spPr>
          <a:xfrm>
            <a:off x="533520" y="4105440"/>
            <a:ext cx="77724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DCBD-FB45-47C0-8D79-F25BA4CDB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100656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assegnare la priorità ad un atomo che fa parte di legami multipli, considerare come se fosse legato con un equivalente numero di legami singoli. Per esempio, il C di un gruppo C=O è considerato essere legato con un legame singolo a due atomi di 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0019d"/>
          <p:cNvPicPr/>
          <p:nvPr/>
        </p:nvPicPr>
        <p:blipFill>
          <a:blip r:embed="rId1"/>
          <a:stretch/>
        </p:blipFill>
        <p:spPr>
          <a:xfrm>
            <a:off x="2971800" y="2590920"/>
            <a:ext cx="4800600" cy="15271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228600" y="4221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ri tipi di legami multipli ricorrenti sono riportati di seguit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0019e"/>
          <p:cNvPicPr/>
          <p:nvPr/>
        </p:nvPicPr>
        <p:blipFill>
          <a:blip r:embed="rId2"/>
          <a:stretch/>
        </p:blipFill>
        <p:spPr>
          <a:xfrm>
            <a:off x="152280" y="4859280"/>
            <a:ext cx="87631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28A9-6175-47B7-93BD-43FF8992F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65960" y="1828800"/>
            <a:ext cx="2565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 di assegnazio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priorità a centri stereogeni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1048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0501-757F-4EBD-8EAF-53BDD2C94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195120" y="1676520"/>
            <a:ext cx="87202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5C9B-CECF-4420-9368-449974F9E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320" y="8827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isegnare i Centri Stereogenici con R o 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228600" y="1468440"/>
            <a:ext cx="8839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29FB-B004-4338-B6D0-000C36150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76320" y="8827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isegnare i Centri Stereogenici con R o 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3288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3906-E42F-4936-A097-B0C888C21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3048120" y="24300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6320" y="7621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83240" y="1447920"/>
            <a:ext cx="2949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orientare correttament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gruppo a priorità minore: Esemp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"/>
          <p:cNvPicPr/>
          <p:nvPr/>
        </p:nvPicPr>
        <p:blipFill>
          <a:blip r:embed="rId1"/>
          <a:stretch/>
        </p:blipFill>
        <p:spPr>
          <a:xfrm>
            <a:off x="501480" y="2286000"/>
            <a:ext cx="78044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A868-9958-40B7-AC88-9FE8B5669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8120" y="4255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76320" y="14637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una molecola co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entri stereogenici, il numero massimo di stereoisomeri è 2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Consideriamo un procedura a stadi per trovare tutti i possibili stereoisomeri del 2,3-dibromopent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6320" y="9907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1"/>
          <a:stretch/>
        </p:blipFill>
        <p:spPr>
          <a:xfrm>
            <a:off x="380880" y="3205080"/>
            <a:ext cx="815832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1999-D72C-4B3F-8F32-0EE7F4F74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8120" y="3049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6320" y="129528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è stato scritto correttamente il composto e la sua immagine speculare, si devono fare solo due cose per vedere se gli atomi si allineano: sistemare B direttamente su A, quindi ruotare B a 18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vedere se gli atomi si allineano con 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6320" y="83808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ht05_02a"/>
          <p:cNvPicPr/>
          <p:nvPr/>
        </p:nvPicPr>
        <p:blipFill>
          <a:blip r:embed="rId1"/>
          <a:srcRect l="27563" t="64546" r="15022" b="6999"/>
          <a:stretch/>
        </p:blipFill>
        <p:spPr>
          <a:xfrm>
            <a:off x="1828800" y="2849400"/>
            <a:ext cx="5715000" cy="21034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76320" y="51213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questo caso gli atomi di A e B non si allineano, e pertanto A e B non sono immagini speculari sovrapponibili—cioè sono enantiomeri. A e B sono perciò due dei quattro possibili stereoisomeri del 2,3-dibromopent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08F1-C9EA-407A-9292-FB42B8F5C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6320" y="91116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cambiando la posizione di H e Br (o di altri due gruppi) sul centro stereogenico di A (oppure di B) si forma un nuovo stereoisomero (indicato con C), che è differente sia da A che da B. L’immagine speculare di C è indicata con D. C e D sono enantiome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76320" y="45720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6320" y="5867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stereoisomeri che non sono immagini speculari l’uno dell’altro son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diastereoisome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Per esempio, A e C sono diastereoisome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53452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F191-3453-45EA-9BD6-5788CEE13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52280" y="1066680"/>
            <a:ext cx="86868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someri sono composti diversi aventi la stessa formula molecol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due principali classi di isomeri sono gli isomer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stituziona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gli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stituzionali (o strutturali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no nomi IUPAC differenti, gruppi funzionali uguali o diversi,  diverse proprietà fisiche e diverse proprietà chim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stereo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fferiscono solo per il modo in cui gli atomi sono disposti nello spazio. Hanno identici nomi IUPAC (eccetto per il prefiss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Hanno sempre gli stessi gruppi funzion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particolare disposizione tridimensionale è chiamat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figur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stereoisomeri hanno differenti configurazion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due Principali Classi di Isomer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92C0-3E02-44A4-83AA-F643313B5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0" descr=""/>
          <p:cNvPicPr/>
          <p:nvPr/>
        </p:nvPicPr>
        <p:blipFill>
          <a:blip r:embed="rId1"/>
          <a:stretch/>
        </p:blipFill>
        <p:spPr>
          <a:xfrm>
            <a:off x="762120" y="2519280"/>
            <a:ext cx="7804080" cy="30434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"/>
          <p:cNvSpPr/>
          <p:nvPr/>
        </p:nvSpPr>
        <p:spPr>
          <a:xfrm>
            <a:off x="3048120" y="27288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6320" y="83808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304920" y="48006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9920" y="1523880"/>
            <a:ext cx="189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epilogo: i quattro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reoisomeri del 2,3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bromopenta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9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364968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12EF-E1CF-47C0-A301-B6154A8AC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6320" y="91116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iamo gli stereoisomeri del 2,3-dibromobutano. Poichè questa molecola ha due centri stereogenici, il numero massimo di stereoisomeri è 4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76320" y="5335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ti Mes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76320" y="327672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ovare tutti gli stereoisomeri del 2,3-dibromobutano, aggiungere arbitrariamente i gruppi H, Br e C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i centri stereogenici, formando così lo stereoisomero A, e quindi disegnare la sua immagine speculare B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0026"/>
          <p:cNvPicPr/>
          <p:nvPr/>
        </p:nvPicPr>
        <p:blipFill>
          <a:blip r:embed="rId1"/>
          <a:stretch/>
        </p:blipFill>
        <p:spPr>
          <a:xfrm>
            <a:off x="3733920" y="1905120"/>
            <a:ext cx="1981080" cy="130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0010"/>
          <p:cNvPicPr/>
          <p:nvPr/>
        </p:nvPicPr>
        <p:blipFill>
          <a:blip r:embed="rId2"/>
          <a:stretch/>
        </p:blipFill>
        <p:spPr>
          <a:xfrm>
            <a:off x="1066680" y="4800600"/>
            <a:ext cx="69343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33D4-4489-42F6-8E6E-CAA1B087C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76320" y="91116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ovare gli altri due stereoisomeri (se esistono), scambiare le posizioni dei due gruppi sullo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tess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entro stereogenico d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un s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nantiomero. In questo caso, scambiando la posizione di H e Br su un centro stereogenico di A, si forma C, che è differente sia da A che da B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76320" y="45720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7632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compos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mes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composto achirale che contiene centri stereogenici tetraedrici. C è un composto mes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0029"/>
          <p:cNvPicPr/>
          <p:nvPr/>
        </p:nvPicPr>
        <p:blipFill>
          <a:blip r:embed="rId1"/>
          <a:stretch/>
        </p:blipFill>
        <p:spPr>
          <a:xfrm>
            <a:off x="1066680" y="2540160"/>
            <a:ext cx="69343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21E9-46ED-4FC8-BAAD-3B9A4121D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066680"/>
            <a:ext cx="86868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omposto C contiene un piano si simmetria, e quindi è achira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composti meso contengono un piano di simmet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perciò sono caratterizzati da due metà ident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0030"/>
          <p:cNvPicPr/>
          <p:nvPr/>
        </p:nvPicPr>
        <p:blipFill>
          <a:blip r:embed="rId1"/>
          <a:stretch/>
        </p:blipFill>
        <p:spPr>
          <a:xfrm>
            <a:off x="3505320" y="2749680"/>
            <a:ext cx="2100240" cy="2889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228600" y="5594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uno stereoisomero del 2,3-dibromobutano è sovrapponibile alla sua immagine speculare, ci sono solo tre stereoisomeri, non quat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7E69-D66F-4E5F-A9BA-14F33D6C2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3" descr=""/>
          <p:cNvPicPr/>
          <p:nvPr/>
        </p:nvPicPr>
        <p:blipFill>
          <a:blip r:embed="rId1"/>
          <a:stretch/>
        </p:blipFill>
        <p:spPr>
          <a:xfrm>
            <a:off x="669960" y="2451240"/>
            <a:ext cx="7804080" cy="3492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3048120" y="166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429840" y="1371600"/>
            <a:ext cx="16772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epilogo: i t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reoisomeri d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3-dibromobuta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4" descr=""/>
          <p:cNvPicPr/>
          <p:nvPr/>
        </p:nvPicPr>
        <p:blipFill>
          <a:blip r:embed="rId2"/>
          <a:stretch/>
        </p:blipFill>
        <p:spPr>
          <a:xfrm>
            <a:off x="76320" y="5638680"/>
            <a:ext cx="25146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C32C-1F01-468F-8791-C2B809983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3048120" y="166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composto ha più di un centro stereogenico, la configurazi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essere assegnata a ciascuno di ess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52280" y="71424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segnazione di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n composti con due o più Centri Stereogenici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0031"/>
          <p:cNvPicPr/>
          <p:nvPr/>
        </p:nvPicPr>
        <p:blipFill>
          <a:blip r:embed="rId1"/>
          <a:stretch/>
        </p:blipFill>
        <p:spPr>
          <a:xfrm>
            <a:off x="2362320" y="2792520"/>
            <a:ext cx="4952880" cy="14745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0"/>
          <p:cNvSpPr/>
          <p:nvPr/>
        </p:nvSpPr>
        <p:spPr>
          <a:xfrm>
            <a:off x="2743200" y="42354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o stereoisomero del 2,3-dibromopenta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2666880" y="46162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ome completo: (2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,3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)-2,3-dibromopenta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4" descr=""/>
          <p:cNvPicPr/>
          <p:nvPr/>
        </p:nvPicPr>
        <p:blipFill>
          <a:blip r:embed="rId2"/>
          <a:stretch/>
        </p:blipFill>
        <p:spPr>
          <a:xfrm>
            <a:off x="152280" y="5102280"/>
            <a:ext cx="87631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09E3-5C49-473D-BC25-190652046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28600" y="83808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deriamo l’1,3-dibromociclopentano. Dal momento che ha due centri stereogenici, questa molecola ha un numero massimo di quattro stereoisomer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9" descr="0033a"/>
          <p:cNvPicPr/>
          <p:nvPr/>
        </p:nvPicPr>
        <p:blipFill>
          <a:blip r:embed="rId1"/>
          <a:stretch/>
        </p:blipFill>
        <p:spPr>
          <a:xfrm>
            <a:off x="3352680" y="2101680"/>
            <a:ext cx="2438640" cy="11750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0"/>
          <p:cNvSpPr/>
          <p:nvPr/>
        </p:nvSpPr>
        <p:spPr>
          <a:xfrm>
            <a:off x="228600" y="329256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un cicloalcano disostituito può avere i due sostituenti dalla stessa parte dell’anello (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indicato con A) o da parti opposte (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indicato con B). Questi composti sono stereoisomeri, ma non reciproca immagine specul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3" descr=""/>
          <p:cNvPicPr/>
          <p:nvPr/>
        </p:nvPicPr>
        <p:blipFill>
          <a:blip r:embed="rId2"/>
          <a:stretch/>
        </p:blipFill>
        <p:spPr>
          <a:xfrm>
            <a:off x="3192480" y="4921200"/>
            <a:ext cx="427500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5B4C-6499-4020-8E9B-3C9C09B67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228600" y="15699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Per trovare gli altri due stereoisomeri (se esistono)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egnare l’immagine speculare di ciascun composto e determinare se il composto e la propria immagine speculare sono sovrapponibi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228600" y="53341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è sovrapponibile alla sua immagine speculare, e perciò le due molecole sono identiche. Quindi A è un composto achirale mes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0033c"/>
          <p:cNvPicPr/>
          <p:nvPr/>
        </p:nvPicPr>
        <p:blipFill>
          <a:blip r:embed="rId1"/>
          <a:stretch/>
        </p:blipFill>
        <p:spPr>
          <a:xfrm>
            <a:off x="533520" y="2949480"/>
            <a:ext cx="822960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A425-B48B-4E8A-9700-ECF6FF1D5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28600" y="156996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è sovrapponibile alla sua immagine speculare, indicata con C, e perciò B e C sono composti differenti. B e  C sono enantiomer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28600" y="53341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ichè uno stereoisomero dell’1,3-dibromociclopentano è sovrapponibile alla sua immagine speculare, ci sono solo tre stereoisomeri, non quattr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0033d"/>
          <p:cNvPicPr/>
          <p:nvPr/>
        </p:nvPicPr>
        <p:blipFill>
          <a:blip r:embed="rId1"/>
          <a:stretch/>
        </p:blipFill>
        <p:spPr>
          <a:xfrm>
            <a:off x="762120" y="2743200"/>
            <a:ext cx="7696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D99E-81E5-4BF6-8988-9F8E236A4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203760" y="1143000"/>
            <a:ext cx="2413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mar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I tipi di 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3" descr=""/>
          <p:cNvPicPr/>
          <p:nvPr/>
        </p:nvPicPr>
        <p:blipFill>
          <a:blip r:embed="rId1"/>
          <a:stretch/>
        </p:blipFill>
        <p:spPr>
          <a:xfrm>
            <a:off x="380880" y="1771560"/>
            <a:ext cx="78044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DA7D-B112-4298-8B1E-4E19FD1A9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3124080" y="380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21040" y="1371600"/>
            <a:ext cx="2475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ronto tra 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ituzionali e stereo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78044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681D-726C-4DE4-90E5-5330EAB83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26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33"/>
          <p:cNvSpPr/>
          <p:nvPr/>
        </p:nvSpPr>
        <p:spPr>
          <a:xfrm>
            <a:off x="44280" y="625320"/>
            <a:ext cx="23248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determinare l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zione tra due molecol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 identich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035" descr=""/>
          <p:cNvPicPr/>
          <p:nvPr/>
        </p:nvPicPr>
        <p:blipFill>
          <a:blip r:embed="rId1"/>
          <a:stretch/>
        </p:blipFill>
        <p:spPr>
          <a:xfrm>
            <a:off x="762120" y="1690560"/>
            <a:ext cx="72705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A8C5-FB7C-4D59-8AED-364617D64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28600" y="1143000"/>
            <a:ext cx="86868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proprietà chimiche e fisiche di due enantiomeri sono identiche eccetto che nella loro interazione con altre sostenze chirali. Hanno identiche proprietà fisiche, eccetto che per il modo con cui interagiscono con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piano-polarizz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ce piano-polarizzat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luce polarizzata)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la luce che possiede un vettore elettrico oscillante in un solo piano. La luce piano-polarizzata deriva dal passaggio della luce ordinaria attraverso un polarizzator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larimetr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o strumento che consente alla luce polarizzata di attraversare un tubo porta-campione contenente un composto organico. Permette quindi la misura dell’angolo (in gradi) di cui un composto organico ruota il piano della luce polar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C968-B08F-46A6-94A4-6ED947791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28600" y="13273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composti achirali, la luce che esce dal porta-campione non risulta modificata. Un composto che non modifica il piano della luce polarizzata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tticamente inattiv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0036b"/>
          <p:cNvPicPr/>
          <p:nvPr/>
        </p:nvPicPr>
        <p:blipFill>
          <a:blip r:embed="rId1"/>
          <a:srcRect l="0" t="212" r="0" b="0"/>
          <a:stretch/>
        </p:blipFill>
        <p:spPr>
          <a:xfrm>
            <a:off x="380880" y="2852640"/>
            <a:ext cx="8305920" cy="36244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152280" y="66996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810B-6F65-48BB-BAB9-8F1B4607F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228600" y="1125360"/>
            <a:ext cx="868680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 composti chirali, il piano della luce polarizzata viene invece ruotato di un angolo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L’angolo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è misurato in gradi 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, ed è chiamat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rotazione osservat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 composto che ruota il piano della luce polarizzata è dett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otticamente attiv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0037"/>
          <p:cNvPicPr/>
          <p:nvPr/>
        </p:nvPicPr>
        <p:blipFill>
          <a:blip r:embed="rId1"/>
          <a:stretch/>
        </p:blipFill>
        <p:spPr>
          <a:xfrm>
            <a:off x="533520" y="2936880"/>
            <a:ext cx="8153280" cy="36352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5FE0-410E-4CCE-9874-91C75F557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048120" y="903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228600" y="1143000"/>
            <a:ext cx="868680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rotazione della luce polarizzata può essere in senso orario o antiora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la rotazione è in senso orario (verso destra rispetto alle ore 12), il composto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strorotato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rotazione è indicata con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la rotazione è in senso antiorario (verso sinistra rispetto alle 12), il composto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vorotato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rotazione è indicata con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ue enantiomeri ruotano la luce piano-polarizzata di un valore uguale, ma nella direzione oppost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Perciò, se l’enantiomero A ruota la luce polarizzata di +5°, allora la stessa concentrazione dell’enantiomero B ruota di  -5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n esiste nessuna relazione fra i prefissi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e le designazioni (+) e (-), che indicano la rotazione ot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0273-0752-4866-8884-8360C11CE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048120" y="228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28600" y="1506600"/>
            <a:ext cx="8686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na quantità uguale di due enantiomeri è chiamata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miscela racemic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racemat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miscela racemica è otticamente inattiva. Poichè due enantiomeri ruotano la luce piano-polarizzata di un valore uguale, ma in direzioni opposte, le rotazioni si annullano, e non viene osservata nessuna rotazion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52280" y="8380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-Miscele racemiche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phyiscal_properties_tb_764"/>
          <p:cNvPicPr/>
          <p:nvPr/>
        </p:nvPicPr>
        <p:blipFill>
          <a:blip r:embed="rId1"/>
          <a:stretch/>
        </p:blipFill>
        <p:spPr>
          <a:xfrm>
            <a:off x="533520" y="3933720"/>
            <a:ext cx="800100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9948-769E-401D-9D8B-A0E5BCAA4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228600" y="1603440"/>
            <a:ext cx="8686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a rotazione specific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è una costante fisica standardizzata ed è funzione della concentrazione. La rotazione specifica è indicata con il simbolo [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 e tiene conto della lunghezza del tubo porta-campione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in dm), della concentrazione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 g/mL), della temperatura (25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) e della lunghezza d’onda della radiazione utilizzata (589 nm)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0041"/>
          <p:cNvPicPr/>
          <p:nvPr/>
        </p:nvPicPr>
        <p:blipFill>
          <a:blip r:embed="rId1"/>
          <a:stretch/>
        </p:blipFill>
        <p:spPr>
          <a:xfrm>
            <a:off x="533520" y="4565520"/>
            <a:ext cx="8076960" cy="16830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7"/>
          <p:cNvSpPr/>
          <p:nvPr/>
        </p:nvSpPr>
        <p:spPr>
          <a:xfrm>
            <a:off x="152280" y="974880"/>
            <a:ext cx="883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-Miscele Racemiche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438A-4ED6-422F-A5C7-BD9FAA397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228600" y="1143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eccesso enantiomerico (purezza ottic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misura di quanto un enantiomero è presente in eccesso rispetto alla miscela racemica. E’ indicato con il simbol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52280" y="654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prietà fisiche degli stereoisomeri—Purezza Ott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533520" y="2362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% di un enantiomero - % dell’altro enantiome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228600" y="2895480"/>
            <a:ext cx="8686800" cy="30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iamo il seguente esempi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 una miscela contiene il 75% di un enantiomero e il 25% dell’altro, l’eccesso enantiomerico 75% - 25% = 50%. Perciò, c’è un 50% di eccesso di un enantiomero rispetto alla miscela racem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eccesso enantiomerico può essere anche calcolato se sono note la rotazione specifica [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di una miscela e la rotazione specifica [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dell’enantiomero p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90720" y="60958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] miscela / [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] enantiomero puro) x 1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7DA1-0A09-4BA2-AA98-3A1EAC2AD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228600" y="838080"/>
            <a:ext cx="86868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chè due enantiomeri hanno identiche proprietà fisiche, essi non possono essere separati mediante le comuni tecniche fisiche, come la distillazio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 diastereoisomeri e gli isomeri costituzionali hanno differenti proprietà fisic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perciò possono essere separati mediante le comuni tecniche fisic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52280" y="45720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prietà fisiche degli stereoisomeri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903600" y="3368520"/>
            <a:ext cx="18007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rietà fisiche de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stereoisomer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l’ acido tartar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3498840" y="2573280"/>
            <a:ext cx="47307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DE7A-9E88-4722-B4F8-A8036F31A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228600" y="914400"/>
            <a:ext cx="86868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enantiomeri hanno esattamente le stesse proprietà chimiche, eccetto che per le reazioni con reagenti chirali non-racemic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ti farmaci sono chirali e spesso, per svolgere la loro azione terapeutica, devono interagire con recettori o enzimi chirali. Un enantiomero di un farmaco può curare efficacemente una malattia, mentre la sua  immagine speculare può essere inefficace o tossic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52280" y="54756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prietà chimiche degli Enantiomeri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0044a"/>
          <p:cNvPicPr/>
          <p:nvPr/>
        </p:nvPicPr>
        <p:blipFill>
          <a:blip r:embed="rId1"/>
          <a:stretch/>
        </p:blipFill>
        <p:spPr>
          <a:xfrm>
            <a:off x="1752480" y="2971800"/>
            <a:ext cx="5639040" cy="1535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0044b"/>
          <p:cNvPicPr/>
          <p:nvPr/>
        </p:nvPicPr>
        <p:blipFill>
          <a:blip r:embed="rId2"/>
          <a:stretch/>
        </p:blipFill>
        <p:spPr>
          <a:xfrm>
            <a:off x="1447920" y="4572000"/>
            <a:ext cx="6248160" cy="1811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3976-1666-474A-A212-9D126B360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3048120" y="1666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1066680"/>
            <a:ext cx="8686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bbene ogni oggetto abbia la propria immagine speculare, le immagini speculari possono o non possono essere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vrapponibi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molecole sono come le mani. La mano destra e la mano sinistra sono una l’immagine speculare dell’altra, ma non sono identiche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vrapponibi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4920" y="3747960"/>
            <a:ext cx="80010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76BE-1786-42C0-9FAD-6F33ECB87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76320" y="7621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antiomeri e senso dell’olfatt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28600" y="1227240"/>
            <a:ext cx="8686800" cy="19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cerca suggerisce che l’odore di una particolare molecola è determinato più dalla sua forma che dalla presenza di particolari gruppi funzional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gli enantiomeri interagiscono con i recettori dell’olfatto, alcuni enantiomeri hanno odore diver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2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73533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2B08-F736-4EE8-9BD7-802667CE3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76320" y="762120"/>
            <a:ext cx="8762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antiomeri e Senso dell’Olfatto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145440" y="1371600"/>
            <a:ext cx="24238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hape of molecules 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ense of smel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777240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E0F7-5030-4736-9352-34EB8639A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3048120" y="16668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2280" y="1143000"/>
            <a:ext cx="5029200" cy="56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re molecole sono come le calze. Due calze formano una coppia di immagini speculari che sono sovrapponibili. Una calza e la sua immagine speculare sono dunque ident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o un oggetto che è sovrapponibile alla sua immagine speculare è dett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chir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o un oggetto che non è sovrapponibile alla sua immagine speculare è detta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0006"/>
          <p:cNvPicPr/>
          <p:nvPr/>
        </p:nvPicPr>
        <p:blipFill>
          <a:blip r:embed="rId1"/>
          <a:stretch/>
        </p:blipFill>
        <p:spPr>
          <a:xfrm>
            <a:off x="5481720" y="1600200"/>
            <a:ext cx="34336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A296-B4F8-4E93-A0CF-45FEC82FA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3048120" y="7632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iamo alcune molecole per determinare se sono o non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ira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52280" y="762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007a"/>
          <p:cNvPicPr/>
          <p:nvPr/>
        </p:nvPicPr>
        <p:blipFill>
          <a:blip r:embed="rId1"/>
          <a:stretch/>
        </p:blipFill>
        <p:spPr>
          <a:xfrm>
            <a:off x="1523880" y="2306520"/>
            <a:ext cx="609624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389D-DC45-4779-A6C5-30C149A10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2971800" y="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28600" y="762120"/>
            <a:ext cx="86868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molecola A e la sua immagine speculare B non sono sovrapponibili. Non importa come A e B siano ruotati, non sarà mai possibile sovrapporre tutti i loro atomi. Inoltre, CHBrClF è una molecola chirale, e A e B sono composti different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e B sono stereoisomeri—più precisament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anti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atomo di carbonio legato a quattro gruppi differenti è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ent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gen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traed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2280" y="425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1114560" y="4191120"/>
            <a:ext cx="673416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699B-05F8-4CC7-9B2A-6AA40D3DA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841400"/>
            <a:ext cx="86868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e, una molecola senza centri stereogenici non è chirale. Esistono tuttavia alcune eccezioni a questa generalizz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un centro stereogenico tetraedrico, la molecola è sempre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due o più centri stereogenici, una molecola può essere o non essere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achirali contengono un pi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 simmet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entre quelle chirali 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Un piano di simmetria è un pia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 taglia la molecola a metà, in modo tale che una metà è il riflesso dell’alt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19T15:55:31Z</dcterms:modified>
  <cp:revision>600</cp:revision>
  <dc:subject/>
  <dc:title>PowerPoint Presentation</dc:title>
</cp:coreProperties>
</file>