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42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3.jpeg" ContentType="image/jpeg"/>
  <Override PartName="/ppt/media/image40.jpeg" ContentType="image/jpeg"/>
  <Override PartName="/ppt/media/image44.jpeg" ContentType="image/jpeg"/>
  <Override PartName="/ppt/media/image43.png" ContentType="image/png"/>
  <Override PartName="/ppt/media/image53.jpeg" ContentType="image/jpeg"/>
  <Override PartName="/ppt/media/image34.jpeg" ContentType="image/jpeg"/>
  <Override PartName="/ppt/media/image46.png" ContentType="image/png"/>
  <Override PartName="/ppt/media/image11.png" ContentType="image/png"/>
  <Override PartName="/ppt/media/image55.png" ContentType="image/png"/>
  <Override PartName="/ppt/media/image45.jpeg" ContentType="image/jpeg"/>
  <Override PartName="/ppt/media/image37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51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54.jpeg" ContentType="image/jpeg"/>
  <Override PartName="/ppt/media/image56.png" ContentType="image/png"/>
  <Override PartName="/ppt/media/image41.png" ContentType="image/png"/>
  <Override PartName="/ppt/media/image47.png" ContentType="image/png"/>
  <Override PartName="/ppt/media/image35.jpeg" ContentType="image/jpeg"/>
  <Override PartName="/ppt/media/image10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2.png" ContentType="image/png"/>
  <Override PartName="/ppt/media/image8.jpeg" ContentType="image/jpeg"/>
  <Override PartName="/ppt/media/image38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5803-24EC-49D3-B4A4-5E486A3CD9C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904C-7E88-48A7-95FC-4527FBCEF96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27FB-E1DE-4D20-A0CD-E90EE124C82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CB46-AE93-4489-9CCF-3DEF8417B4F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6181-C131-47D0-8A84-A01CC4EDE67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3048-A57E-4E41-9D7E-BDE58CE647E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9CB2-5291-4D9D-A973-7B7D16FF5FE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FAC7-0403-45F7-864B-80F8ABA596E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9DC9-53CA-45BD-B1EB-912D0A371F3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CDDB-9D50-403B-BD95-7961D3772D1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2D13-BB08-48B1-A004-E4B9A34C140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B9FB-5552-41CB-A69A-DA3C89EB8FA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90EB-5C91-48AD-BBB8-BDE68A56BCC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D75E-38BB-4270-B79D-602EC1DC2C4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A4CE-09AC-4600-B24E-036FD3E1A28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2F8B-F73F-4D39-B77D-DFAD70A793A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AE50-B14A-4840-9FB1-07F15151A43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4BD1-3064-47CD-A113-599A7FA7D6C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8D5A-96CA-4871-909F-A7F0967FC80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DA63-C8F0-4BF4-93A3-9FBFA8C7C45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041A-85F9-4634-A747-E64CF9A71FE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CEA3-28DA-4175-AD75-FF1B2CA4C97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60F3-DE2E-4E6D-AD1C-7BC39E101FE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863F-4FBF-4E77-B2D1-82909B7388B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EF80-864F-4236-B016-33D488B4395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B162-64B7-48F2-B600-6C5780F01CD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9136-DA3C-46B7-8C01-DC8E4D6ADC5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1DF1-8328-47FD-B56E-3646F594BE2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AD1F-2C10-4BE2-AE4A-C952CE0D8D9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B6DF-1F9A-4851-A0EB-5F3CC45ED63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0A8F-4CB2-4969-B207-A94276E2485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108B-11BE-4DEC-8743-8F48EC64CE9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8A7D-90C5-4795-9670-8105DB32C0D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60FF-8332-4DF2-B8AF-2734F238E69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9EA7-7B3F-4B26-857B-320F437236D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FAEA-90C0-4672-961B-2F375A059E2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9DFC-A6D5-46AD-B504-AD31A3DCF27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5969-41D9-4A99-A710-369F8D6CED6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BFD9-7374-470B-BEA2-A0CEE59416A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8F31-34E0-4BE1-81F8-B620A09E337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E842-CD8B-4E41-B02D-AE31CE0EF75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EAF4-D4A2-4B8D-82B2-3A39B73553C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4F1F-CB39-430A-9C73-887932E2B91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C009-9B32-44DD-B3AA-338CD9C41E6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3DFA-9864-49FE-9FA2-EECE156734A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5172-BAE6-4673-856E-3152B477F19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01F3-51C5-477F-8F47-83802FC293D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6A36-BDD4-427F-841A-0DC1657EF35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923A-ADD7-4A7D-9B4A-ACE79A00673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4975-3699-4D53-8D24-61BABCDBD92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A3B8-15CD-414D-9E7E-C34A616F0F3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603A-D6C9-467B-89DE-B6F9450F0AA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5FB1-DE35-4C81-B896-6B544723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85EE-A754-43D2-83A1-94A418C2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2CD1-89CC-4A52-B098-1704B560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6E1-9F06-42BB-ABF4-BEEC6FFD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5F01-8D30-4B06-96A4-7BFBFBB3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4E47-F35B-4C0C-B5EA-E5D5D835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3520-7DDF-4E7E-867C-B476BD63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84E2-D8A3-4B9C-BC24-89222F6F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D48A-A239-48EC-AC17-41999D51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030C-DC28-4DFF-9A60-8A9F2D25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58E7-C40D-4F67-A49A-8F7C93F3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FDFC-4440-46F3-A304-EB36596F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0D9D-88FE-4219-A513-47963F0D9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4FAB-E69B-47B6-9C2B-CD27DEEB9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10752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856600" y="3809880"/>
            <a:ext cx="364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1D38-78CE-4B4C-970C-B6E3F9481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048120" y="6238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52280" y="14158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0008"/>
          <p:cNvPicPr/>
          <p:nvPr/>
        </p:nvPicPr>
        <p:blipFill>
          <a:blip r:embed="rId1"/>
          <a:stretch/>
        </p:blipFill>
        <p:spPr>
          <a:xfrm>
            <a:off x="762120" y="2286000"/>
            <a:ext cx="76197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4123-EAA9-461A-AE43-3E4987DB7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3048120" y="6238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52280" y="12952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iassunto dei Principi Basilari della Chiralità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8600" y="2125800"/>
            <a:ext cx="8686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oggetto ha la propria immagine speculare. La domanda fondamentale è se una molecola e la sua immagine speculare sono sovrappon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una molecola e la sua immagine speculare non sono sovrapponbili, la molecola e la sua immagine speculare sono chir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termini centro stereogenico e molecola chirale sono correlati ma distinti. In generale, una molecola chirale deve avere uno o più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presenza di un piano di simmetria indica che la molecola   è  a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349F-918B-428D-AE59-FD911878F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300320"/>
            <a:ext cx="8686800" cy="28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individuare un centro stereogenico, considerare ogni carbonio tetraedrico di una  molecola e guardare i quattro gruppi — non i quattro atomi — a esso lega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includere mai tutti gli atomi di C che non possono essere centri stereogenici tetraedrici. Tra quest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gruppi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C ibrida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3"/>
          <a:stretch/>
        </p:blipFill>
        <p:spPr>
          <a:xfrm>
            <a:off x="230040" y="4368960"/>
            <a:ext cx="83804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F39F-E0DA-4B30-8FF0-600D00972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048120" y="5475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8600" y="2073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organiche più grandi possono avere due, tre o anche cento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2280" y="1339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228600" y="3303720"/>
            <a:ext cx="85345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861E-35B4-44E8-B760-48423339D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28600" y="914400"/>
            <a:ext cx="86868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crivere entrambi gli enantiomeri di un composto chirale, come il 2-butanolo, usare la tipica convenzione per rappresentare il tetraedro: scrivere due legami nel piano, poi uno sopra al piano (a cuneo) ed uno sotto al piano (a tratteggio). Quindi, per formare il primo enantiomero, sistemare i gruppi H, OH,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rbitrariamente, su ciascun legame del centro stereogenico. Quindi scrivere l’immagine specul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4572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13"/>
          <p:cNvPicPr/>
          <p:nvPr/>
        </p:nvPicPr>
        <p:blipFill>
          <a:blip r:embed="rId1"/>
          <a:stretch/>
        </p:blipFill>
        <p:spPr>
          <a:xfrm>
            <a:off x="1066680" y="4038480"/>
            <a:ext cx="70866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AF5F-DCA8-4681-8876-A09D32DD7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28600" y="914400"/>
            <a:ext cx="86868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atomi di carbonio che fanno parte di un anello possono essere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trovare i centri stereogenici sui carboni dell’anello, disegnare sempre il ciclo come un poligono piatto, e cercare i carboni tetraedrici che sono legati a  quattro gruppi divers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52280" y="3808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0015a"/>
          <p:cNvPicPr/>
          <p:nvPr/>
        </p:nvPicPr>
        <p:blipFill>
          <a:blip r:embed="rId1"/>
          <a:stretch/>
        </p:blipFill>
        <p:spPr>
          <a:xfrm>
            <a:off x="1143000" y="3195720"/>
            <a:ext cx="7086600" cy="1985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0015b"/>
          <p:cNvPicPr/>
          <p:nvPr/>
        </p:nvPicPr>
        <p:blipFill>
          <a:blip r:embed="rId2"/>
          <a:stretch/>
        </p:blipFill>
        <p:spPr>
          <a:xfrm>
            <a:off x="838080" y="5375160"/>
            <a:ext cx="7391520" cy="1406520"/>
          </a:xfrm>
          <a:prstGeom prst="rect">
            <a:avLst/>
          </a:prstGeom>
          <a:ln w="0">
            <a:noFill/>
          </a:ln>
        </p:spPr>
      </p:pic>
      <p:sp>
        <p:nvSpPr>
          <p:cNvPr id="123" name="Line 8"/>
          <p:cNvSpPr/>
          <p:nvPr/>
        </p:nvSpPr>
        <p:spPr>
          <a:xfrm>
            <a:off x="457200" y="51814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7B15-199B-4790-9863-755B8B72A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28600" y="163188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3-metilcicloesene, i sostituenti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H, che sono sopra e sotto al piano dell’anello, sono disegnati con cunei e linee tratteggiat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0017a"/>
          <p:cNvPicPr/>
          <p:nvPr/>
        </p:nvPicPr>
        <p:blipFill>
          <a:blip r:embed="rId1"/>
          <a:stretch/>
        </p:blipFill>
        <p:spPr>
          <a:xfrm>
            <a:off x="1371600" y="3595680"/>
            <a:ext cx="67057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8777-67C0-433E-9F6D-A1C3B14CE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1295280"/>
            <a:ext cx="2895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ti composti biologicamente attivi contengono uno o più centri stereogenici sui carboni d’anell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0017b"/>
          <p:cNvPicPr/>
          <p:nvPr/>
        </p:nvPicPr>
        <p:blipFill>
          <a:blip r:embed="rId1"/>
          <a:stretch/>
        </p:blipFill>
        <p:spPr>
          <a:xfrm>
            <a:off x="3048120" y="1295280"/>
            <a:ext cx="5410080" cy="2278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0017c"/>
          <p:cNvPicPr/>
          <p:nvPr/>
        </p:nvPicPr>
        <p:blipFill>
          <a:blip r:embed="rId2"/>
          <a:stretch/>
        </p:blipFill>
        <p:spPr>
          <a:xfrm>
            <a:off x="2209680" y="4010040"/>
            <a:ext cx="67057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1B4B-D59A-4E48-A900-08B707E02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28600" y="1098720"/>
            <a:ext cx="86868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 momento che gli enantiomeri sono due composti diversi, dobbiamo essere in grado di distinguerli con un nome. Questo viene fatto aggiungendo il prefiss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 nome IUPAC dell’enantiome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nomenclatura degli enantiomeri con i prefiss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chiamato il sistema d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hn-Ingold-Prel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isegnare un enantiomero com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rima bisogna assegnare la priorità a ciascun gruppo legato al centro stereogenico, in base al numero atomico descrescente. L’atomo con il più alto numero atomico ha la priorità maggiore (1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0019a"/>
          <p:cNvPicPr/>
          <p:nvPr/>
        </p:nvPicPr>
        <p:blipFill>
          <a:blip r:embed="rId1"/>
          <a:stretch/>
        </p:blipFill>
        <p:spPr>
          <a:xfrm>
            <a:off x="3276720" y="5611680"/>
            <a:ext cx="236196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F59D-F23F-450B-B509-F61876735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048120" y="471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16477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due atomi su un centro stereogenico sono uguali, assegnare la priorità in base al numero atomico legato a questi atomi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a numero atomico maggiore determina priorità maggio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0019b"/>
          <p:cNvPicPr/>
          <p:nvPr/>
        </p:nvPicPr>
        <p:blipFill>
          <a:blip r:embed="rId1"/>
          <a:srcRect l="0" t="1373" r="0" b="0"/>
          <a:stretch/>
        </p:blipFill>
        <p:spPr>
          <a:xfrm>
            <a:off x="152280" y="3597120"/>
            <a:ext cx="88394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DED1-8BB3-4651-A456-A7FFB6231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3124080" y="763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28600" y="457200"/>
            <a:ext cx="86868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la stereochimica indaga la struttura tridimensionale delle molecole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e conseguenza della stereochimica, si ha che differenze apparentemente insignificanti nella struttura 3-D possono causare proprietà molto differenti. Si può osservare questo considerando amido e cellulosa, due polimeri composti dalla stessa unità, che si ripe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"/>
          <p:cNvPicPr/>
          <p:nvPr/>
        </p:nvPicPr>
        <p:blipFill>
          <a:blip r:embed="rId1"/>
          <a:stretch/>
        </p:blipFill>
        <p:spPr>
          <a:xfrm>
            <a:off x="533520" y="2979720"/>
            <a:ext cx="853416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5C5D-1477-469C-971C-372839280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3048120" y="471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8600" y="20289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due isotopi sono legati al centro stereogenico, assegnare le priorità secondo il numero di massa decrescente. Confrontando i tre isotopi dell’idrogeno, l’ordine di priorità è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52280" y="1339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0019c"/>
          <p:cNvPicPr/>
          <p:nvPr/>
        </p:nvPicPr>
        <p:blipFill>
          <a:blip r:embed="rId1"/>
          <a:stretch/>
        </p:blipFill>
        <p:spPr>
          <a:xfrm>
            <a:off x="533520" y="4105440"/>
            <a:ext cx="77724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73C4-3FB0-4833-83A8-759A44D57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28600" y="100656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assegnare la priorità ad un atomo che fa parte di legami multipli, considerare come se fosse legato con un equivalente numero di legami singoli. Per esempio, il C di un gruppo C=O è considerato essere legato con un legame singolo a due atomi di 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0019d"/>
          <p:cNvPicPr/>
          <p:nvPr/>
        </p:nvPicPr>
        <p:blipFill>
          <a:blip r:embed="rId1"/>
          <a:stretch/>
        </p:blipFill>
        <p:spPr>
          <a:xfrm>
            <a:off x="2971800" y="2590920"/>
            <a:ext cx="4800600" cy="15271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228600" y="42210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ri tipi di legami multipli ricorrenti sono riportati di seguit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0019e"/>
          <p:cNvPicPr/>
          <p:nvPr/>
        </p:nvPicPr>
        <p:blipFill>
          <a:blip r:embed="rId2"/>
          <a:stretch/>
        </p:blipFill>
        <p:spPr>
          <a:xfrm>
            <a:off x="152280" y="4859280"/>
            <a:ext cx="876312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8ECB-70EC-4812-A737-3323D4E07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65960" y="1828800"/>
            <a:ext cx="2565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empi di assegnazio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priorità a centri stereogeni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2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61048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5DF4-E42B-4EC5-A148-53CEDC2D4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195120" y="1676520"/>
            <a:ext cx="87202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4DE7-E18A-4EAB-A1A7-0A5DB30A0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320" y="8827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isegnare i Centri Stereogenici con R o 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1"/>
          <a:stretch/>
        </p:blipFill>
        <p:spPr>
          <a:xfrm>
            <a:off x="228600" y="1468440"/>
            <a:ext cx="88390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5EB7-A455-4826-B69A-C3E2AF814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76320" y="8827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isegnare i Centri Stereogenici con R o 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1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73288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C744-2ADE-41A0-9B3C-756FD28D4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3048120" y="24300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76320" y="7621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183240" y="1447920"/>
            <a:ext cx="2949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orientare correttament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gruppo a priorità minore: Esemp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"/>
          <p:cNvPicPr/>
          <p:nvPr/>
        </p:nvPicPr>
        <p:blipFill>
          <a:blip r:embed="rId1"/>
          <a:stretch/>
        </p:blipFill>
        <p:spPr>
          <a:xfrm>
            <a:off x="501480" y="2286000"/>
            <a:ext cx="78044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C964-DAAD-483D-A1BB-5AAC5A9C0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048120" y="4255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76320" y="14637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una molecola co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entri stereogenici, il numero massimo di stereoisomeri è 2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Consideriamo un procedura a stadi per trovare tutti i possibili stereoisomeri del 2,3-dibromopent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6320" y="9907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1"/>
          <a:stretch/>
        </p:blipFill>
        <p:spPr>
          <a:xfrm>
            <a:off x="380880" y="3205080"/>
            <a:ext cx="815832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F298-825B-40CC-92EF-E26C53822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048120" y="3049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6320" y="129528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 è stato scritto correttamente il composto e la sua immagine speculare, si devono fare solo due cose per vedere se gli atomi si allineano: sistemare B direttamente su A, quindi ruotare B a 18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er vedere se gli atomi si allineano con 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76320" y="83808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ht05_02a"/>
          <p:cNvPicPr/>
          <p:nvPr/>
        </p:nvPicPr>
        <p:blipFill>
          <a:blip r:embed="rId1"/>
          <a:srcRect l="27563" t="64546" r="15022" b="6999"/>
          <a:stretch/>
        </p:blipFill>
        <p:spPr>
          <a:xfrm>
            <a:off x="1828800" y="2849400"/>
            <a:ext cx="5715000" cy="21034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76320" y="51213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questo caso gli atomi di A e B non si allineano, e pertanto A e B non sono immagini speculari sovrapponibili—cioè sono enantiomeri. A e B sono perciò due dei quattro possibili stereoisomeri del 2,3-dibromopent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6D94-51F3-4418-82EC-61194FAEE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6320" y="911160"/>
            <a:ext cx="8686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cambiando la posizione di H e Br (o di altri due gruppi) sul centro stereogenico di A (oppure di B) si forma un nuovo stereoisomero (indicato con C), che è differente sia da A che da B. L’immagine speculare di C è indicata con D. C e D sono enantiome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76320" y="45720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76320" y="586728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li stereoisomeri che non sono immagini speculari l’uno dell’altro son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diastereoisomer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Per esempio, A e C sono diastereoisome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1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53452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F6F4-28B0-48BC-9BBD-1FBCF314A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52280" y="1066680"/>
            <a:ext cx="86868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isomeri sono composti diversi aventi la stessa formula molecol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due principali classi di isomeri sono gli isomer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stituziona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gli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ereo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stituzionali (o strutturali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no nomi IUPAC differenti, gruppi funzionali uguali o diversi,  diverse proprietà fisiche e diverse proprietà chim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stereo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fferiscono solo per il modo in cui gli atomi sono disposti nello spazio. Hanno identici nomi IUPAC (eccetto per il prefiss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Hanno sempre gli stessi gruppi funzion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particolare disposizione tridimensionale è chiamat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figuraz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stereoisomeri hanno differenti configurazion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due Principali Classi di Isomer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F07F-991D-4BB3-9B57-F73EE2BC1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0" descr=""/>
          <p:cNvPicPr/>
          <p:nvPr/>
        </p:nvPicPr>
        <p:blipFill>
          <a:blip r:embed="rId1"/>
          <a:stretch/>
        </p:blipFill>
        <p:spPr>
          <a:xfrm>
            <a:off x="762120" y="2519280"/>
            <a:ext cx="7804080" cy="30434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"/>
          <p:cNvSpPr/>
          <p:nvPr/>
        </p:nvSpPr>
        <p:spPr>
          <a:xfrm>
            <a:off x="3048120" y="27288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76320" y="83808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304920" y="48006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9920" y="1523880"/>
            <a:ext cx="189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epilogo: i quattro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reoisomeri del 2,3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bromopentan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9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364968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C340-47BA-4455-8AC4-1114805F5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76320" y="91116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ideriamo gli stereoisomeri del 2,3-dibromobutano. Poichè questa molecola ha due centri stereogenici, il numero massimo di stereoisomeri è 4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76320" y="5335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ti Mes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76320" y="327672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ovare tutti gli stereoisomeri del 2,3-dibromobutano, aggiungere arbitrariamente i gruppi H, Br e CH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i centri stereogenici, formando così lo stereoisomero A, e quindi disegnare la sua immagine speculare B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0026"/>
          <p:cNvPicPr/>
          <p:nvPr/>
        </p:nvPicPr>
        <p:blipFill>
          <a:blip r:embed="rId1"/>
          <a:stretch/>
        </p:blipFill>
        <p:spPr>
          <a:xfrm>
            <a:off x="3733920" y="1905120"/>
            <a:ext cx="1981080" cy="1306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0010"/>
          <p:cNvPicPr/>
          <p:nvPr/>
        </p:nvPicPr>
        <p:blipFill>
          <a:blip r:embed="rId2"/>
          <a:stretch/>
        </p:blipFill>
        <p:spPr>
          <a:xfrm>
            <a:off x="1066680" y="4800600"/>
            <a:ext cx="693432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965F-BF79-4419-B7D8-D271311CC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76320" y="911160"/>
            <a:ext cx="8686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ovare gli altri due stereoisomeri (se esistono), scambiare le posizioni dei due gruppi sullo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stess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entro stereogenico di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un sol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nantiomero. In questo caso, scambiando la posizione di H e Br su un centro stereogenico di A, si forma C, che è differente sia da A che da B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76320" y="45720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76320" y="6019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compost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mes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un composto achirale che contiene centri stereogenici tetraedrici. C è un composto mes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0029"/>
          <p:cNvPicPr/>
          <p:nvPr/>
        </p:nvPicPr>
        <p:blipFill>
          <a:blip r:embed="rId1"/>
          <a:stretch/>
        </p:blipFill>
        <p:spPr>
          <a:xfrm>
            <a:off x="1066680" y="2540160"/>
            <a:ext cx="69343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9C06-BE92-445F-BF31-9D03B1758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600" y="1066680"/>
            <a:ext cx="86868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composto C contiene un piano si simmetria, e quindi è achira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 composti meso contengono un piano di simmet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perciò sono caratterizzati da due metà ident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0030"/>
          <p:cNvPicPr/>
          <p:nvPr/>
        </p:nvPicPr>
        <p:blipFill>
          <a:blip r:embed="rId1"/>
          <a:stretch/>
        </p:blipFill>
        <p:spPr>
          <a:xfrm>
            <a:off x="3505320" y="2749680"/>
            <a:ext cx="2100240" cy="2889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228600" y="5594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uno stereoisomero del 2,3-dibromobutano è sovrapponibile alla sua immagine speculare, ci sono solo tre stereoisomeri, non quatt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ADE5-45DF-4BDE-92CD-185E10E23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3" descr=""/>
          <p:cNvPicPr/>
          <p:nvPr/>
        </p:nvPicPr>
        <p:blipFill>
          <a:blip r:embed="rId1"/>
          <a:stretch/>
        </p:blipFill>
        <p:spPr>
          <a:xfrm>
            <a:off x="669960" y="2451240"/>
            <a:ext cx="7804080" cy="34923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"/>
          <p:cNvSpPr/>
          <p:nvPr/>
        </p:nvSpPr>
        <p:spPr>
          <a:xfrm>
            <a:off x="3048120" y="1666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429840" y="1371600"/>
            <a:ext cx="16772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epilogo: i t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reoisomeri d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,3-dibromobutan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4" descr=""/>
          <p:cNvPicPr/>
          <p:nvPr/>
        </p:nvPicPr>
        <p:blipFill>
          <a:blip r:embed="rId2"/>
          <a:stretch/>
        </p:blipFill>
        <p:spPr>
          <a:xfrm>
            <a:off x="76320" y="5638680"/>
            <a:ext cx="251460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58DC-0A3A-42A9-BBD5-EF16C97D3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3048120" y="1666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un composto ha più di un centro stereogenico, la configurazio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 essere assegnata a ciascuno di ess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52280" y="71424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segnazione di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n composti con due o più Centri Stereogenici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0031"/>
          <p:cNvPicPr/>
          <p:nvPr/>
        </p:nvPicPr>
        <p:blipFill>
          <a:blip r:embed="rId1"/>
          <a:stretch/>
        </p:blipFill>
        <p:spPr>
          <a:xfrm>
            <a:off x="2362320" y="2792520"/>
            <a:ext cx="4952880" cy="14745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0"/>
          <p:cNvSpPr/>
          <p:nvPr/>
        </p:nvSpPr>
        <p:spPr>
          <a:xfrm>
            <a:off x="2743200" y="423540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o stereoisomero del 2,3-dibromopenta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2666880" y="46162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Nome completo: (2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,3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)-2,3-dibromopenta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4" descr=""/>
          <p:cNvPicPr/>
          <p:nvPr/>
        </p:nvPicPr>
        <p:blipFill>
          <a:blip r:embed="rId2"/>
          <a:stretch/>
        </p:blipFill>
        <p:spPr>
          <a:xfrm>
            <a:off x="152280" y="5102280"/>
            <a:ext cx="87631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3F01-F3EF-466A-A118-5569DCED7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28600" y="83808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deriamo l’1,3-dibromociclopentano. Dal momento che ha due centri stereogenici, questa molecola ha un numero massimo di quattro stereoisomer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9" descr="0033a"/>
          <p:cNvPicPr/>
          <p:nvPr/>
        </p:nvPicPr>
        <p:blipFill>
          <a:blip r:embed="rId1"/>
          <a:stretch/>
        </p:blipFill>
        <p:spPr>
          <a:xfrm>
            <a:off x="3352680" y="2101680"/>
            <a:ext cx="2438640" cy="11750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0"/>
          <p:cNvSpPr/>
          <p:nvPr/>
        </p:nvSpPr>
        <p:spPr>
          <a:xfrm>
            <a:off x="228600" y="329256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un cicloalcano disostituito può avere i due sostituenti dalla stessa parte dell’anello (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indicato con A) o da parti opposte (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indicato con B). Questi composti sono stereoisomeri, ma non reciproca immagine specular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3" descr=""/>
          <p:cNvPicPr/>
          <p:nvPr/>
        </p:nvPicPr>
        <p:blipFill>
          <a:blip r:embed="rId2"/>
          <a:stretch/>
        </p:blipFill>
        <p:spPr>
          <a:xfrm>
            <a:off x="3192480" y="4921200"/>
            <a:ext cx="427500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04A7-FC15-49F4-A8A9-CF6EBFE6D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228600" y="15699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Per trovare gli altri due stereoisomeri (se esistono)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egnare l’immagine speculare di ciascun composto e determinare se il composto e la propria immagine speculare sono sovrapponibi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228600" y="533412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è sovrapponibile alla sua immagine speculare, e perciò le due molecole sono identiche. Quindi A è un composto achirale mes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0033c"/>
          <p:cNvPicPr/>
          <p:nvPr/>
        </p:nvPicPr>
        <p:blipFill>
          <a:blip r:embed="rId1"/>
          <a:stretch/>
        </p:blipFill>
        <p:spPr>
          <a:xfrm>
            <a:off x="533520" y="2949480"/>
            <a:ext cx="822960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4608-ECA9-4FE4-BEB5-12563820E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28600" y="156996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on è sovrapponibile alla sua immagine speculare, indicata con C, e perciò B e C sono composti differenti. B e  C sono enantiomer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28600" y="533412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ichè uno stereoisomero dell’1,3-dibromociclopentano è sovrapponibile alla sua immagine speculare, ci sono solo tre stereoisomeri, non quattr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0033d"/>
          <p:cNvPicPr/>
          <p:nvPr/>
        </p:nvPicPr>
        <p:blipFill>
          <a:blip r:embed="rId1"/>
          <a:stretch/>
        </p:blipFill>
        <p:spPr>
          <a:xfrm>
            <a:off x="762120" y="2743200"/>
            <a:ext cx="7696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A73D-7DCC-4ABF-814A-B90CA2A9A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203760" y="1143000"/>
            <a:ext cx="2413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mari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 I tipi di 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3" descr=""/>
          <p:cNvPicPr/>
          <p:nvPr/>
        </p:nvPicPr>
        <p:blipFill>
          <a:blip r:embed="rId1"/>
          <a:stretch/>
        </p:blipFill>
        <p:spPr>
          <a:xfrm>
            <a:off x="380880" y="1771560"/>
            <a:ext cx="78044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D232-3D0B-40E0-A0AA-60858DCDD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3124080" y="380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21040" y="1371600"/>
            <a:ext cx="2475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ronto tra 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stituzionali e stereo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78044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6EB0-3C5B-4E41-BAAD-C43C16E8B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26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33"/>
          <p:cNvSpPr/>
          <p:nvPr/>
        </p:nvSpPr>
        <p:spPr>
          <a:xfrm>
            <a:off x="44280" y="625320"/>
            <a:ext cx="23248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determinare l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zione tra due molecol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 identich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035" descr=""/>
          <p:cNvPicPr/>
          <p:nvPr/>
        </p:nvPicPr>
        <p:blipFill>
          <a:blip r:embed="rId1"/>
          <a:stretch/>
        </p:blipFill>
        <p:spPr>
          <a:xfrm>
            <a:off x="762120" y="1690560"/>
            <a:ext cx="727056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9BBB-B9F1-4FB7-80D5-27BFC8537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28600" y="1143000"/>
            <a:ext cx="86868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proprietà chimiche e fisiche di due enantiomeri sono identiche eccetto che nella loro interazione con altre sostenze chirali. Hanno identiche proprietà fisiche, eccetto che per il modo con cui interagiscono con l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uce piano-polarizz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ce piano-polarizzat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 luce polarizzata)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la luce che possiede un vettore elettrico oscillante in un solo piano. La luce piano-polarizzata deriva dal passaggio della luce ordinaria attraverso un polarizzator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larimetr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uno strumento che consente alla luce polarizzata di attraversare un tubo porta-campione contenente un composto organico. Permette quindi la misura dell’angolo (in gradi) di cui un composto organico ruota il piano della luce polarizz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ED5A-6FF3-4B40-BF71-FCF60DC9B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28600" y="13273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composti achirali, la luce che esce dal porta-campione non risulta modificata. Un composto che non modifica il piano della luce polarizzata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tticamente inattiv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0036b"/>
          <p:cNvPicPr/>
          <p:nvPr/>
        </p:nvPicPr>
        <p:blipFill>
          <a:blip r:embed="rId1"/>
          <a:srcRect l="0" t="212" r="0" b="0"/>
          <a:stretch/>
        </p:blipFill>
        <p:spPr>
          <a:xfrm>
            <a:off x="380880" y="2852640"/>
            <a:ext cx="8305920" cy="36244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152280" y="66996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B011-1D34-4DD4-9770-0A2FCEA68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228600" y="1125360"/>
            <a:ext cx="868680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 composti chirali, il piano della luce polarizzata viene invece ruotato di un angolo 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L’angolo 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è misurato in gradi 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, ed è chiamat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rotazione osservat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 composto che ruota il piano della luce polarizzata è dett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otticamente attiv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0037"/>
          <p:cNvPicPr/>
          <p:nvPr/>
        </p:nvPicPr>
        <p:blipFill>
          <a:blip r:embed="rId1"/>
          <a:stretch/>
        </p:blipFill>
        <p:spPr>
          <a:xfrm>
            <a:off x="533520" y="2936880"/>
            <a:ext cx="8153280" cy="36352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7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5FDA-1EE1-4603-8A6F-03FE80318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048120" y="903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228600" y="1143000"/>
            <a:ext cx="868680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rotazione della luce polarizzata può essere in senso orario o antiora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la rotazione è in senso orario (verso destra rispetto alle ore 12), il composto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strorotato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rotazione è indicata con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la rotazione è in senso antiorario (verso sinistra rispetto alle 12), il composto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vorotato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rotazione è indicata con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ue enantiomeri ruotano la luce piano-polarizzata di un valore uguale, ma nella direzione oppost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Perciò, se l’enantiomero A ruota la luce polarizzata di +5°, allora la stessa concentrazione dell’enantiomero B ruota di  -5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on esiste nessuna relazione fra i prefissi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e le designazioni (+) e (-), che indicano la rotazione ott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1DA2-F4E0-4BAD-AC8F-32318584C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048120" y="228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28600" y="1506600"/>
            <a:ext cx="86868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na quantità uguale di due enantiomeri è chiamata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miscela racemic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racemat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a miscela racemica è otticamente inattiva. Poichè due enantiomeri ruotano la luce piano-polarizzata di un valore uguale, ma in direzioni opposte, le rotazioni si annullano, e non viene osservata nessuna rotazione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52280" y="8380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-Miscele racemiche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phyiscal_properties_tb_764"/>
          <p:cNvPicPr/>
          <p:nvPr/>
        </p:nvPicPr>
        <p:blipFill>
          <a:blip r:embed="rId1"/>
          <a:stretch/>
        </p:blipFill>
        <p:spPr>
          <a:xfrm>
            <a:off x="533520" y="3933720"/>
            <a:ext cx="800100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9A09-C4A3-4E32-BD4F-96EA232C1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228600" y="1603440"/>
            <a:ext cx="86868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a rotazione specific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è una costante fisica standardizzata ed è funzione della concentrazione. La rotazione specifica è indicata con il simbolo [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] e tiene conto della lunghezza del tubo porta-campione (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in dm), della concentrazione (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 g/mL), della temperatura (25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) e della lunghezza d’onda della radiazione utilizzata (589 nm)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0041"/>
          <p:cNvPicPr/>
          <p:nvPr/>
        </p:nvPicPr>
        <p:blipFill>
          <a:blip r:embed="rId1"/>
          <a:stretch/>
        </p:blipFill>
        <p:spPr>
          <a:xfrm>
            <a:off x="533520" y="4565520"/>
            <a:ext cx="8076960" cy="16830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7"/>
          <p:cNvSpPr/>
          <p:nvPr/>
        </p:nvSpPr>
        <p:spPr>
          <a:xfrm>
            <a:off x="152280" y="974880"/>
            <a:ext cx="883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-Miscele Racemiche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4A15-97A9-4671-9486-54A73EB4B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228600" y="1143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eccesso enantiomerico (purezza ottic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a misura di quanto un enantiomero è presente in eccesso rispetto alla miscela racemica. E’ indicato con il simbol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52280" y="654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prietà fisiche degli stereoisomeri—Purezza Ott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533520" y="2362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% di un enantiomero - % dell’altro enantiome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228600" y="2895480"/>
            <a:ext cx="8686800" cy="30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iamo il seguente esempi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 una miscela contiene il 75% di un enantiomero e il 25% dell’altro, l’eccesso enantiomerico 75% - 25% = 50%. Perciò, c’è un 50% di eccesso di un enantiomero rispetto alla miscela racem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eccesso enantiomerico può essere anche calcolato se sono note la rotazione specifica [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di una miscela e la rotazione specifica [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dell’enantiomero pu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90720" y="60958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] miscela / [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] enantiomero puro) x 10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C089-4BAD-474C-8E45-651B4ECE3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228600" y="838080"/>
            <a:ext cx="86868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chè due enantiomeri hanno identiche proprietà fisiche, essi non possono essere separati mediante le comuni tecniche fisiche, come la distillazio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 diastereoisomeri e gli isomeri costituzionali hanno differenti proprietà fisic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 perciò possono essere separati mediante le comuni tecniche fisich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52280" y="45720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prietà fisiche degli stereoisomeri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903600" y="3368520"/>
            <a:ext cx="18007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rietà fisiche de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stereoisomer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l’ acido tartar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3498840" y="2573280"/>
            <a:ext cx="47307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D686-8F4F-4394-A07D-5CC53B1EF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228600" y="914400"/>
            <a:ext cx="86868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enantiomeri hanno esattamente le stesse proprietà chimiche, eccetto che per le reazioni con reagenti chirali non-racemic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ti farmaci sono chirali e spesso, per svolgere la loro azione terapeutica, devono interagire con recettori o enzimi chirali. Un enantiomero di un farmaco può curare efficacemente una malattia, mentre la sua  immagine speculare può essere inefficace o tossic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152280" y="54756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prietà chimiche degli Enantiomeri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0044a"/>
          <p:cNvPicPr/>
          <p:nvPr/>
        </p:nvPicPr>
        <p:blipFill>
          <a:blip r:embed="rId1"/>
          <a:stretch/>
        </p:blipFill>
        <p:spPr>
          <a:xfrm>
            <a:off x="1752480" y="2971800"/>
            <a:ext cx="5639040" cy="15350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0044b"/>
          <p:cNvPicPr/>
          <p:nvPr/>
        </p:nvPicPr>
        <p:blipFill>
          <a:blip r:embed="rId2"/>
          <a:stretch/>
        </p:blipFill>
        <p:spPr>
          <a:xfrm>
            <a:off x="1447920" y="4572000"/>
            <a:ext cx="6248160" cy="18111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8756-1B16-4663-B1F1-1425494E7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3048120" y="1666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1066680"/>
            <a:ext cx="86868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bbene ogni oggetto abbia la propria immagine speculare, le immagini speculari possono o non possono essere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vrapponibi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une molecole sono come le mani. La mano destra e la mano sinistra sono una l’immagine speculare dell’altra, ma non sono identiche,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vrapponibi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04920" y="3747960"/>
            <a:ext cx="80010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6C24-6484-4424-B2A3-BB015A80E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76320" y="7621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antiomeri e senso dell’olfatt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28600" y="1227240"/>
            <a:ext cx="8686800" cy="19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cerca suggerisce che l’odore di una particolare molecola è determinato più dalla sua forma che dalla presenza di particolari gruppi funzional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gli enantiomeri interagiscono con i recettori dell’olfatto, alcuni enantiomeri hanno odore divers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2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73533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7C9E-6F51-46FA-B5A1-D418A03FF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76320" y="762120"/>
            <a:ext cx="8762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antiomeri e Senso dell’Olfatto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145440" y="1371600"/>
            <a:ext cx="24238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hape of molecules 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ense of smel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777240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36C8-2C6D-404C-A551-50B74020A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3048120" y="16668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52280" y="1143000"/>
            <a:ext cx="5029200" cy="56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re molecole sono come le calze. Due calze formano una coppia di immagini speculari che sono sovrapponibili. Una calza e la sua immagine speculare sono dunque ident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o un oggetto che è sovrapponibile alla sua immagine speculare è dett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chir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o un oggetto che non è sovrapponibile alla sua immagine speculare è detta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0006"/>
          <p:cNvPicPr/>
          <p:nvPr/>
        </p:nvPicPr>
        <p:blipFill>
          <a:blip r:embed="rId1"/>
          <a:stretch/>
        </p:blipFill>
        <p:spPr>
          <a:xfrm>
            <a:off x="5481720" y="1600200"/>
            <a:ext cx="34336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0D78-6886-45FA-B200-9374E75B2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3048120" y="7632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iamo alcune molecole per determinare se sono o non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hira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52280" y="762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007a"/>
          <p:cNvPicPr/>
          <p:nvPr/>
        </p:nvPicPr>
        <p:blipFill>
          <a:blip r:embed="rId1"/>
          <a:stretch/>
        </p:blipFill>
        <p:spPr>
          <a:xfrm>
            <a:off x="1523880" y="2306520"/>
            <a:ext cx="609624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9D7D-6403-465B-853F-BDDD42844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2971800" y="0"/>
            <a:ext cx="30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28600" y="762120"/>
            <a:ext cx="86868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molecola A e la sua immagine speculare B non sono sovrapponibili. Non importa come A e B siano ruotati, non sarà mai possibile sovrapporre tutti i loro atomi. Inoltre, CHBrClF è una molecola chirale, e A e B sono composti different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e B sono stereoisomeri—più precisamente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anti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atomo di carbonio legato a quattro gruppi differenti è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ent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ereogenic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traed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2280" y="425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1"/>
          <a:stretch/>
        </p:blipFill>
        <p:spPr>
          <a:xfrm>
            <a:off x="1114560" y="4191120"/>
            <a:ext cx="6734160" cy="27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9975-6AC1-491E-B8F0-0FDD986EC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1841400"/>
            <a:ext cx="86868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e, una molecola senza centri stereogenici non è chirale. Esistono tuttavia alcune eccezioni a questa generalizz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un centro stereogenico tetraedrico, la molecola è sempre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due o più centri stereogenici, una molecola può essere o non essere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molecole achirali contengono un pia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 simmet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mentre quelle chirali n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Un piano di simmetria è un pian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 taglia la molecola a metà, in modo tale che una metà è il riflesso dell’alt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19T15:55:31Z</dcterms:modified>
  <cp:revision>600</cp:revision>
  <dc:subject/>
  <dc:title>PowerPoint Presentation</dc:title>
</cp:coreProperties>
</file>