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19.jpeg" ContentType="image/jpeg"/>
  <Override PartName="/ppt/media/image42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21.jpeg" ContentType="image/jpeg"/>
  <Override PartName="/ppt/media/image2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23.jpeg" ContentType="image/jpeg"/>
  <Override PartName="/ppt/media/image12.png" ContentType="image/png"/>
  <Override PartName="/ppt/media/image2.jpeg" ContentType="image/jpeg"/>
  <Override PartName="/ppt/media/image36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13.jpeg" ContentType="image/jpeg"/>
  <Override PartName="/ppt/media/image40.jpeg" ContentType="image/jpeg"/>
  <Override PartName="/ppt/media/image44.jpeg" ContentType="image/jpeg"/>
  <Override PartName="/ppt/media/image43.png" ContentType="image/png"/>
  <Override PartName="/ppt/media/image53.jpeg" ContentType="image/jpeg"/>
  <Override PartName="/ppt/media/image34.jpeg" ContentType="image/jpeg"/>
  <Override PartName="/ppt/media/image46.png" ContentType="image/png"/>
  <Override PartName="/ppt/media/image11.png" ContentType="image/png"/>
  <Override PartName="/ppt/media/image55.png" ContentType="image/png"/>
  <Override PartName="/ppt/media/image45.jpeg" ContentType="image/jpeg"/>
  <Override PartName="/ppt/media/image37.jpeg" ContentType="image/jpeg"/>
  <Override PartName="/ppt/media/image50.jpeg" ContentType="image/jpeg"/>
  <Override PartName="/ppt/media/image52.png" ContentType="image/png"/>
  <Override PartName="/ppt/media/image30.jpeg" ContentType="image/jpeg"/>
  <Override PartName="/ppt/media/image51.jpeg" ContentType="image/jpeg"/>
  <Override PartName="/ppt/media/image48.jpeg" ContentType="image/jpeg"/>
  <Override PartName="/ppt/media/image49.jpeg" ContentType="image/jpeg"/>
  <Override PartName="/ppt/media/image20.jpeg" ContentType="image/jpeg"/>
  <Override PartName="/ppt/media/image54.jpeg" ContentType="image/jpeg"/>
  <Override PartName="/ppt/media/image56.png" ContentType="image/png"/>
  <Override PartName="/ppt/media/image41.png" ContentType="image/png"/>
  <Override PartName="/ppt/media/image47.png" ContentType="image/png"/>
  <Override PartName="/ppt/media/image35.jpeg" ContentType="image/jpeg"/>
  <Override PartName="/ppt/media/image10.jpeg" ContentType="image/jpeg"/>
  <Override PartName="/ppt/media/image5.png" ContentType="image/png"/>
  <Override PartName="/ppt/media/image7.jpeg" ContentType="image/jpeg"/>
  <Override PartName="/ppt/media/image28.png" ContentType="image/png"/>
  <Override PartName="/ppt/media/image32.png" ContentType="image/png"/>
  <Override PartName="/ppt/media/image8.jpeg" ContentType="image/jpeg"/>
  <Override PartName="/ppt/media/image38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68560" y="685440"/>
            <a:ext cx="46735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2732B-25DC-4154-9FD9-CFD1BDB8009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7648E-F55B-46CF-B415-E34F45F2683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40C06-2A04-4B09-81B8-D7388223218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6FEA4-5F54-4686-A07A-246CE211AA5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D4740-08D9-453C-B24B-9B671D5EE54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1CF9E-6CBC-4569-AC12-056C7251851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27EED-48D6-4758-8601-109FFF77626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73621-175D-4725-9270-574B1A0AD02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4C3D7-A0DA-4CA8-A6AB-FF0A5E58780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8D0E8-BD44-4C2F-AE59-0B71A5D02DD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4E6A6-A4BB-413A-8C92-E81B4B02D75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91C7C-A516-4752-81EB-69685C1062F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A5BB1-2D93-4C06-B435-0CB8A770559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EF7F6-01B6-4957-939B-539D30CE55E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0DC8C-E563-4DB3-BB19-A58EF24FD51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C26C1-B9D1-4A53-A6BC-35EC4EA97B4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D197A-2DE5-4FC5-AEC3-16336AB8624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4CBFD-CF71-45C0-8E3C-9C533A8EFEC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35E63-02AA-45FD-AF32-23F88F0D1BE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ADE93-5B92-4113-B57C-B7813CC1368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D0D7-EB6A-46B8-85EF-635CD4E4095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36FB9-EFD7-4095-8D41-47581733D87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9F1C2-6FB3-4723-9A72-E098DCF7D1C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14C4B-3F9C-4EFC-8F9E-52EE4BC0032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5E8FE-2CFC-428F-B151-F9A4103AEC9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B4B89-DF47-4DBB-AEF8-2B139CD1E84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6E3F7-895A-47C8-B5A5-7C7E7AB0199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07DA3-8048-4EA4-BFE4-2E60A30C9E8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3D168-9122-4EC7-B629-60F6AC25694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ECD06-4D1A-4E4F-A76E-EF80D921EE9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DC27F-F622-47B9-8967-555B0BF6921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18FFE-3901-4657-9D9E-E5DE7ABBB63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FE69E-469F-41A2-AB87-FFD7B754A92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868F2-992F-4475-8614-9553E497546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28F09-F167-4861-BA70-636BFE31A5B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B60F8-01B3-4BB2-89C1-F3E98ABB0E2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632B3-9623-46D3-9532-A079D4D0F45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67178-4F5E-40FC-9376-0D700BB4F29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5F8F7-4CE6-48F9-A514-4423AA43882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E45EF-0E4A-400C-A4D2-B6A7219CEAA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C3A2-B0D1-4669-B256-CDA9FCAEEEA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33110-25AE-4173-9515-B487E2E14B1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7DF36-6F1C-447A-A813-4582C28238A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2C168-2211-4BF8-99BC-2452D105782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C98A9-C016-4643-A717-84179A72DA8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D2CBE-20D9-4A77-BAE5-9A9CB700521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08ED2-93DD-437F-B751-CFC782E6669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CF338-08FA-4597-8299-A0F95699929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244A8-326C-4A9F-B5B1-0626499E986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7AD95-5AC9-4D52-9741-0EA4D6F212E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C3BBE-A1A9-4E4D-9EC7-5430754AD32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743D2-96ED-4B0E-9919-3EF6586C6F0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C76B-5BEF-4840-B356-6E3D42522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C874-76AB-4D3D-AA07-99105B8FC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66A1-B89D-4516-8E9F-C85727B81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538F-EF9F-484E-86AE-3CDEE38C8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DB2F-44EE-47A9-968E-E0DDE037D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17CC-48D3-4DE8-ABD6-71001C4CE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E64D-6764-48F6-8113-63543494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702E-E994-4FF4-A635-4A3704BC4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5CF3-0D13-4011-A8F9-4144F814C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D523-EB97-4F14-A88B-26606980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8BB5-B3DC-4A62-BBCF-90732D82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B41A-4257-4B18-BEE6-99E5A0D0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9026A-BCE7-4C52-B64E-19E15BA2F9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-7920" y="6423120"/>
            <a:ext cx="2120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Fondamenti di chimica organica</a:t>
            </a:r>
            <a:br>
              <a:rPr sz="1100"/>
            </a:b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324400" y="6508800"/>
            <a:ext cx="3372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Copyright © 2009 – The McGraw-Hill Companies sr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729640" y="6400800"/>
            <a:ext cx="414360" cy="4572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8440560" y="0"/>
            <a:ext cx="70344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6A50D-EE68-41E6-9721-35C7482F16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992520" y="1020600"/>
            <a:ext cx="71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ndamenti di chimica organic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3107520" y="2682720"/>
            <a:ext cx="330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niversity of Hawai’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1981080" y="6172200"/>
            <a:ext cx="5486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The McGraw-Hill Companies, Inc. Permission required for reproduction or display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2856600" y="3809880"/>
            <a:ext cx="364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pitolo 5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2938320" y="5257800"/>
            <a:ext cx="3691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pared by Rabi Ann Musa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e University of New York at Alban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62FD8-C92C-456F-A8DD-C04427B80E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3048120" y="623880"/>
            <a:ext cx="3047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52280" y="14158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olecole Chirali e Achiral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0008"/>
          <p:cNvPicPr/>
          <p:nvPr/>
        </p:nvPicPr>
        <p:blipFill>
          <a:blip r:embed="rId1"/>
          <a:stretch/>
        </p:blipFill>
        <p:spPr>
          <a:xfrm>
            <a:off x="762120" y="2286000"/>
            <a:ext cx="7619760" cy="30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72057-94B4-41C4-A507-72CD0660C9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3048120" y="623880"/>
            <a:ext cx="3047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52280" y="12952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iassunto dei Principi Basilari della Chiralità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228600" y="2125800"/>
            <a:ext cx="8686800" cy="42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gni oggetto ha la propria immagine speculare. La domanda fondamentale è se una molecola e la sua immagine speculare sono sovrapponbi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una molecola e la sua immagine speculare non sono sovrapponbili, la molecola e la sua immagine speculare sono chira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termini centro stereogenico e molecola chirale sono correlati ma distinti. In generale, una molecola chirale deve avere uno o più centri stereogenic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presenza di un piano di simmetria indica che la molecola   è  achira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AE19D-066C-467A-BA19-DDF518C546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228600" y="1300320"/>
            <a:ext cx="8686800" cy="28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individuare un centro stereogenico, considerare ogni carbonio tetraedrico di una  molecola e guardare i quattro gruppi — non i quattro atomi — a esso legat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 includere mai tutti gli atomi di C che non possono essere centri stereogenici tetraedrici. Tra questi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 algn="just">
              <a:lnSpc>
                <a:spcPct val="100000"/>
              </a:lnSpc>
              <a:spcBef>
                <a:spcPts val="45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gruppi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 algn="just">
              <a:lnSpc>
                <a:spcPct val="100000"/>
              </a:lnSpc>
              <a:spcBef>
                <a:spcPts val="45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gni C ibridat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entri Stereogen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"/>
          <p:cNvPicPr/>
          <p:nvPr/>
        </p:nvPicPr>
        <p:blipFill>
          <a:blip r:embed="rId3"/>
          <a:stretch/>
        </p:blipFill>
        <p:spPr>
          <a:xfrm>
            <a:off x="230040" y="4368960"/>
            <a:ext cx="838044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D2E4F-6EBB-492F-8C21-56C5E8B342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3048120" y="54756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228600" y="207324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lecole organiche più grandi possono avere due, tre o anche cento centri stereogenic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52280" y="13399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entri Stereogen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1"/>
          <a:stretch/>
        </p:blipFill>
        <p:spPr>
          <a:xfrm>
            <a:off x="228600" y="3303720"/>
            <a:ext cx="853452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DB62A-7EE4-4884-A866-5C097F5E51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228600" y="914400"/>
            <a:ext cx="868680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scrivere entrambi gli enantiomeri di un composto chirale, come il 2-butanolo, usare la tipica convenzione per rappresentare il tetraedro: scrivere due legami nel piano, poi uno sopra al piano (a cuneo) ed uno sotto al piano (a tratteggio). Quindi, per formare il primo enantiomero, sistemare i gruppi H, OH,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rbitrariamente, su ciascun legame del centro stereogenico. Quindi scrivere l’immagine specula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52280" y="45720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tri Stereogenic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0013"/>
          <p:cNvPicPr/>
          <p:nvPr/>
        </p:nvPicPr>
        <p:blipFill>
          <a:blip r:embed="rId1"/>
          <a:stretch/>
        </p:blipFill>
        <p:spPr>
          <a:xfrm>
            <a:off x="1066680" y="4038480"/>
            <a:ext cx="708660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8E8B6-A5E2-48B0-B35F-4C2DEF12C5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3048120" y="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228600" y="914400"/>
            <a:ext cx="8686800" cy="23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i atomi di carbonio che fanno parte di un anello possono essere centri stereogenic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trovare i centri stereogenici sui carboni dell’anello, disegnare sempre il ciclo come un poligono piatto, e cercare i carboni tetraedrici che sono legati a  quattro gruppi diversi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52280" y="3808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entri Stereogen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0015a"/>
          <p:cNvPicPr/>
          <p:nvPr/>
        </p:nvPicPr>
        <p:blipFill>
          <a:blip r:embed="rId1"/>
          <a:stretch/>
        </p:blipFill>
        <p:spPr>
          <a:xfrm>
            <a:off x="1143000" y="3195720"/>
            <a:ext cx="7086600" cy="1985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0015b"/>
          <p:cNvPicPr/>
          <p:nvPr/>
        </p:nvPicPr>
        <p:blipFill>
          <a:blip r:embed="rId2"/>
          <a:stretch/>
        </p:blipFill>
        <p:spPr>
          <a:xfrm>
            <a:off x="838080" y="5375160"/>
            <a:ext cx="7391520" cy="1406520"/>
          </a:xfrm>
          <a:prstGeom prst="rect">
            <a:avLst/>
          </a:prstGeom>
          <a:ln w="0">
            <a:noFill/>
          </a:ln>
        </p:spPr>
      </p:pic>
      <p:sp>
        <p:nvSpPr>
          <p:cNvPr id="123" name="Line 8"/>
          <p:cNvSpPr/>
          <p:nvPr/>
        </p:nvSpPr>
        <p:spPr>
          <a:xfrm>
            <a:off x="457200" y="5181480"/>
            <a:ext cx="8229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33A47-14AE-42F2-A17E-57189FF503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228600" y="1631880"/>
            <a:ext cx="86868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l 3-metilcicloesene, i sostituenti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H, che sono sopra e sotto al piano dell’anello, sono disegnati con cunei e linee tratteggiat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152280" y="806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entri Stereogen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0017a"/>
          <p:cNvPicPr/>
          <p:nvPr/>
        </p:nvPicPr>
        <p:blipFill>
          <a:blip r:embed="rId1"/>
          <a:stretch/>
        </p:blipFill>
        <p:spPr>
          <a:xfrm>
            <a:off x="1371600" y="3595680"/>
            <a:ext cx="670572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A0C7C-1DA3-438E-9E94-541142A5F9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52280" y="577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entri Stereogen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0" y="1295280"/>
            <a:ext cx="2895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ti composti biologicamente attivi contengono uno o più centri stereogenici sui carboni d’anello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0017b"/>
          <p:cNvPicPr/>
          <p:nvPr/>
        </p:nvPicPr>
        <p:blipFill>
          <a:blip r:embed="rId1"/>
          <a:stretch/>
        </p:blipFill>
        <p:spPr>
          <a:xfrm>
            <a:off x="3048120" y="1295280"/>
            <a:ext cx="5410080" cy="2278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0017c"/>
          <p:cNvPicPr/>
          <p:nvPr/>
        </p:nvPicPr>
        <p:blipFill>
          <a:blip r:embed="rId2"/>
          <a:stretch/>
        </p:blipFill>
        <p:spPr>
          <a:xfrm>
            <a:off x="2209680" y="4010040"/>
            <a:ext cx="670572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E7C43-8B8A-4AD4-9E6F-4DCCE7C5DC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228600" y="1098720"/>
            <a:ext cx="868680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l momento che gli enantiomeri sono due composti diversi, dobbiamo essere in grado di distinguerli con un nome. Questo viene fatto aggiungendo il prefisso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l nome IUPAC dell’enantiomer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nomenclatura degli enantiomeri con i prefiss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chiamato il sistema di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ahn-Ingold-Prelo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disegnare un enantiomero com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prima bisogna assegnare la priorità a ciascun gruppo legato al centro stereogenico, in base al numero atomico descrescente. L’atomo con il più alto numero atomico ha la priorità maggiore (1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152280" y="577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segnare i Centri Stereogenici con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0019a"/>
          <p:cNvPicPr/>
          <p:nvPr/>
        </p:nvPicPr>
        <p:blipFill>
          <a:blip r:embed="rId1"/>
          <a:stretch/>
        </p:blipFill>
        <p:spPr>
          <a:xfrm>
            <a:off x="3276720" y="5611680"/>
            <a:ext cx="236196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E536D-08BE-41EF-BD5A-DAE764F9E9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3048120" y="47160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28600" y="164772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due atomi su un centro stereogenico sono uguali, assegnare la priorità in base al numero atomico legato a questi atomi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omo a numero atomico maggiore determina priorità maggio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52280" y="11113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segnare i Centri Stereogenici con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0019b"/>
          <p:cNvPicPr/>
          <p:nvPr/>
        </p:nvPicPr>
        <p:blipFill>
          <a:blip r:embed="rId1"/>
          <a:srcRect l="0" t="1373" r="0" b="0"/>
          <a:stretch/>
        </p:blipFill>
        <p:spPr>
          <a:xfrm>
            <a:off x="152280" y="3597120"/>
            <a:ext cx="883944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894C8-C00C-446B-AD8A-4E973B5670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3124080" y="763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228600" y="457200"/>
            <a:ext cx="8686800" cy="24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icordare che la stereochimica indaga la struttura tridimensionale delle molecole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e conseguenza della stereochimica, si ha che differenze apparentemente insignificanti nella struttura 3-D possono causare proprietà molto differenti. Si può osservare questo considerando amido e cellulosa, due polimeri composti dalla stessa unità, che si ripet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"/>
          <p:cNvPicPr/>
          <p:nvPr/>
        </p:nvPicPr>
        <p:blipFill>
          <a:blip r:embed="rId1"/>
          <a:stretch/>
        </p:blipFill>
        <p:spPr>
          <a:xfrm>
            <a:off x="533520" y="2979720"/>
            <a:ext cx="853416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62E2A-6661-4517-A11E-AA11BC7990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"/>
          <p:cNvSpPr/>
          <p:nvPr/>
        </p:nvSpPr>
        <p:spPr>
          <a:xfrm>
            <a:off x="3048120" y="47160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228600" y="202896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due isotopi sono legati al centro stereogenico, assegnare le priorità secondo il numero di massa decrescente. Confrontando i tre isotopi dell’idrogeno, l’ordine di priorità è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152280" y="13399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segnare i Centri Stereogenici con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0019c"/>
          <p:cNvPicPr/>
          <p:nvPr/>
        </p:nvPicPr>
        <p:blipFill>
          <a:blip r:embed="rId1"/>
          <a:stretch/>
        </p:blipFill>
        <p:spPr>
          <a:xfrm>
            <a:off x="533520" y="4105440"/>
            <a:ext cx="77724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E91D3-F498-4C34-B336-233E25DB1D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228600" y="1006560"/>
            <a:ext cx="86868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 assegnare la priorità ad un atomo che fa parte di legami multipli, considerare come se fosse legato con un equivalente numero di legami singoli. Per esempio, il C di un gruppo C=O è considerato essere legato con un legame singolo a due atomi di 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52280" y="6094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egnare i Centri Stereogenici co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" descr="0019d"/>
          <p:cNvPicPr/>
          <p:nvPr/>
        </p:nvPicPr>
        <p:blipFill>
          <a:blip r:embed="rId1"/>
          <a:stretch/>
        </p:blipFill>
        <p:spPr>
          <a:xfrm>
            <a:off x="2971800" y="2590920"/>
            <a:ext cx="4800600" cy="15271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7"/>
          <p:cNvSpPr/>
          <p:nvPr/>
        </p:nvSpPr>
        <p:spPr>
          <a:xfrm>
            <a:off x="228600" y="422100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ri tipi di legami multipli ricorrenti sono riportati di seguito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8" descr="0019e"/>
          <p:cNvPicPr/>
          <p:nvPr/>
        </p:nvPicPr>
        <p:blipFill>
          <a:blip r:embed="rId2"/>
          <a:stretch/>
        </p:blipFill>
        <p:spPr>
          <a:xfrm>
            <a:off x="152280" y="4859280"/>
            <a:ext cx="876312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6A8F9-3FA0-4F06-9F1A-A0B7B14717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"/>
          <p:cNvSpPr/>
          <p:nvPr/>
        </p:nvSpPr>
        <p:spPr>
          <a:xfrm>
            <a:off x="3048120" y="24300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152280" y="8827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egnare i Centri Stereogenici co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165960" y="1828800"/>
            <a:ext cx="25657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5.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empi di assegnazion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 priorità a centri stereogenic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2" descr=""/>
          <p:cNvPicPr/>
          <p:nvPr/>
        </p:nvPicPr>
        <p:blipFill>
          <a:blip r:embed="rId1"/>
          <a:stretch/>
        </p:blipFill>
        <p:spPr>
          <a:xfrm>
            <a:off x="304920" y="2666880"/>
            <a:ext cx="8610480" cy="33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49121-95B0-4E39-87CC-1E36F3E36A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3048120" y="24300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152280" y="882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segnare i Centri Stereogenici con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"/>
          <p:cNvPicPr/>
          <p:nvPr/>
        </p:nvPicPr>
        <p:blipFill>
          <a:blip r:embed="rId1"/>
          <a:stretch/>
        </p:blipFill>
        <p:spPr>
          <a:xfrm>
            <a:off x="195120" y="1676520"/>
            <a:ext cx="872028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5867-9389-4264-BC16-991F84D196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3048120" y="24300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76320" y="882720"/>
            <a:ext cx="8762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Disegnare i Centri Stereogenici con R o 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"/>
          <p:cNvPicPr/>
          <p:nvPr/>
        </p:nvPicPr>
        <p:blipFill>
          <a:blip r:embed="rId1"/>
          <a:stretch/>
        </p:blipFill>
        <p:spPr>
          <a:xfrm>
            <a:off x="228600" y="1468440"/>
            <a:ext cx="883908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52C56-BD7F-4CA4-B53E-45ABF598BF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048120" y="24300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76320" y="882720"/>
            <a:ext cx="8762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Disegnare i Centri Stereogenici con R o 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1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732880" cy="49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0ABB4-C699-4511-B0C9-7148856ACD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"/>
          <p:cNvSpPr/>
          <p:nvPr/>
        </p:nvSpPr>
        <p:spPr>
          <a:xfrm>
            <a:off x="3048120" y="243000"/>
            <a:ext cx="304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76320" y="762120"/>
            <a:ext cx="8762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segnare i Centri Stereogenici con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183240" y="1447920"/>
            <a:ext cx="2949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e 5.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e orientare correttament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l gruppo a priorità minore: Esemp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1" descr=""/>
          <p:cNvPicPr/>
          <p:nvPr/>
        </p:nvPicPr>
        <p:blipFill>
          <a:blip r:embed="rId1"/>
          <a:stretch/>
        </p:blipFill>
        <p:spPr>
          <a:xfrm>
            <a:off x="501480" y="2286000"/>
            <a:ext cx="780444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35484-A9BB-49D8-A6C5-EF2E1ECF1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"/>
          <p:cNvSpPr/>
          <p:nvPr/>
        </p:nvSpPr>
        <p:spPr>
          <a:xfrm>
            <a:off x="3048120" y="425520"/>
            <a:ext cx="304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76320" y="146376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 una molecola con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centri stereogenici, il numero massimo di stereoisomeri è 2</a:t>
            </a:r>
            <a:r>
              <a:rPr b="1" i="1" lang="en-US" sz="2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Consideriamo un procedura a stadi per trovare tutti i possibili stereoisomeri del 2,3-dibromopentan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76320" y="990720"/>
            <a:ext cx="87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stereoisomer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0" descr=""/>
          <p:cNvPicPr/>
          <p:nvPr/>
        </p:nvPicPr>
        <p:blipFill>
          <a:blip r:embed="rId1"/>
          <a:stretch/>
        </p:blipFill>
        <p:spPr>
          <a:xfrm>
            <a:off x="380880" y="3205080"/>
            <a:ext cx="815832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44EE1-2387-4341-BD6D-D14F4DD647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3048120" y="304920"/>
            <a:ext cx="304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76320" y="1295280"/>
            <a:ext cx="86868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 è stato scritto correttamente il composto e la sua immagine speculare, si devono fare solo due cose per vedere se gli atomi si allineano: sistemare B direttamente su A, quindi ruotare B a 180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per vedere se gli atomi si allineano con A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76320" y="838080"/>
            <a:ext cx="87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stereoisomer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6" descr="ht05_02a"/>
          <p:cNvPicPr/>
          <p:nvPr/>
        </p:nvPicPr>
        <p:blipFill>
          <a:blip r:embed="rId1"/>
          <a:srcRect l="27563" t="64546" r="15022" b="6999"/>
          <a:stretch/>
        </p:blipFill>
        <p:spPr>
          <a:xfrm>
            <a:off x="1828800" y="2849400"/>
            <a:ext cx="5715000" cy="210348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7"/>
          <p:cNvSpPr/>
          <p:nvPr/>
        </p:nvSpPr>
        <p:spPr>
          <a:xfrm>
            <a:off x="76320" y="512136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questo caso gli atomi di A e B non si allineano, e pertanto A e B non sono immagini speculari sovrapponibili—cioè sono enantiomeri. A e B sono perciò due dei quattro possibili stereoisomeri del 2,3-dibromopentan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E6B74-D3AB-4F7F-8FD3-BD72924CAD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3048120" y="76320"/>
            <a:ext cx="304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76320" y="911160"/>
            <a:ext cx="868680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cambiando la posizione di H e Br (o di altri due gruppi) sul centro stereogenico di A (oppure di B) si forma un nuovo stereoisomero (indicato con C), che è differente sia da A che da B. L’immagine speculare di C è indicata con D. C e D sono enantiomer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76320" y="457200"/>
            <a:ext cx="87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stereoisomer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76320" y="5867280"/>
            <a:ext cx="8686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Gli stereoisomeri che non sono immagini speculari l’uno dell’altro sono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diastereoisomeri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 Per esempio, A e C sono diastereoisomer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1" descr=""/>
          <p:cNvPicPr/>
          <p:nvPr/>
        </p:nvPicPr>
        <p:blipFill>
          <a:blip r:embed="rId1"/>
          <a:stretch/>
        </p:blipFill>
        <p:spPr>
          <a:xfrm>
            <a:off x="228600" y="2590920"/>
            <a:ext cx="8534520" cy="34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20CEB-4DD6-4727-9494-9AAF2EFAEA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52280" y="1066680"/>
            <a:ext cx="8686800" cy="58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i isomeri sono composti diversi aventi la stessa formula molecola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due principali classi di isomeri sono gli isomeri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stituzional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gli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tereoisomer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 algn="just">
              <a:lnSpc>
                <a:spcPct val="100000"/>
              </a:lnSpc>
              <a:spcBef>
                <a:spcPts val="45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Gli isomer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stituzionali (o strutturali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no nomi IUPAC differenti, gruppi funzionali uguali o diversi,  diverse proprietà fisiche e diverse proprietà chimich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 algn="just">
              <a:lnSpc>
                <a:spcPct val="100000"/>
              </a:lnSpc>
              <a:spcBef>
                <a:spcPts val="45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Gli stereoisomer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ifferiscono solo per il modo in cui gli atomi sono disposti nello spazio. Hanno identici nomi IUPAC (eccetto per il prefiss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 Hanno sempre gli stessi gruppi funziona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particolare disposizione tridimensionale è chiamat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nfigurazio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Gli stereoisomeri hanno differenti configurazion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152280" y="5335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 due Principali Classi di Isomer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9C3B7-B405-470A-B790-A19718DC7B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0" descr=""/>
          <p:cNvPicPr/>
          <p:nvPr/>
        </p:nvPicPr>
        <p:blipFill>
          <a:blip r:embed="rId1"/>
          <a:stretch/>
        </p:blipFill>
        <p:spPr>
          <a:xfrm>
            <a:off x="762120" y="2519280"/>
            <a:ext cx="7804080" cy="304344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2"/>
          <p:cNvSpPr/>
          <p:nvPr/>
        </p:nvSpPr>
        <p:spPr>
          <a:xfrm>
            <a:off x="3048120" y="272880"/>
            <a:ext cx="304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76320" y="838080"/>
            <a:ext cx="87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stereoisomer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1"/>
          <p:cNvSpPr/>
          <p:nvPr/>
        </p:nvSpPr>
        <p:spPr>
          <a:xfrm>
            <a:off x="304920" y="480060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259920" y="1523880"/>
            <a:ext cx="189828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5.8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epilogo: i quattro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ereoisomeri del 2,3-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bromopentan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9" descr=""/>
          <p:cNvPicPr/>
          <p:nvPr/>
        </p:nvPicPr>
        <p:blipFill>
          <a:blip r:embed="rId2"/>
          <a:stretch/>
        </p:blipFill>
        <p:spPr>
          <a:xfrm>
            <a:off x="304920" y="5867280"/>
            <a:ext cx="3649680" cy="7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9454-6CF1-4F7A-AF00-8A8E0588BC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3048120" y="76320"/>
            <a:ext cx="304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76320" y="911160"/>
            <a:ext cx="8686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nsideriamo gli stereoisomeri del 2,3-dibromobutano. Poichè questa molecola ha due centri stereogenici, il numero massimo di stereoisomeri è 4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76320" y="533520"/>
            <a:ext cx="87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sti Mes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76320" y="3276720"/>
            <a:ext cx="8686800" cy="14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er trovare tutti gli stereoisomeri del 2,3-dibromobutano, aggiungere arbitrariamente i gruppi H, Br e CH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ai centri stereogenici, formando così lo stereoisomero A, e quindi disegnare la sua immagine speculare B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9" descr="0026"/>
          <p:cNvPicPr/>
          <p:nvPr/>
        </p:nvPicPr>
        <p:blipFill>
          <a:blip r:embed="rId1"/>
          <a:stretch/>
        </p:blipFill>
        <p:spPr>
          <a:xfrm>
            <a:off x="3733920" y="1905120"/>
            <a:ext cx="1981080" cy="13064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1" descr="0010"/>
          <p:cNvPicPr/>
          <p:nvPr/>
        </p:nvPicPr>
        <p:blipFill>
          <a:blip r:embed="rId2"/>
          <a:stretch/>
        </p:blipFill>
        <p:spPr>
          <a:xfrm>
            <a:off x="1066680" y="4800600"/>
            <a:ext cx="693432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AEBA8-353A-42E9-918E-192ABF3169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"/>
          <p:cNvSpPr/>
          <p:nvPr/>
        </p:nvSpPr>
        <p:spPr>
          <a:xfrm>
            <a:off x="3048120" y="76320"/>
            <a:ext cx="304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76320" y="911160"/>
            <a:ext cx="868680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er trovare gli altri due stereoisomeri (se esistono), scambiare le posizioni dei due gruppi sullo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stesso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entro stereogenico di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un sol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enantiomero. In questo caso, scambiando la posizione di H e Br su un centro stereogenico di A, si forma C, che è differente sia da A che da B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76320" y="457200"/>
            <a:ext cx="87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sti Mes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76320" y="601992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 composto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mes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è un composto achirale che contiene centri stereogenici tetraedrici. C è un composto mes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8" descr="0029"/>
          <p:cNvPicPr/>
          <p:nvPr/>
        </p:nvPicPr>
        <p:blipFill>
          <a:blip r:embed="rId1"/>
          <a:stretch/>
        </p:blipFill>
        <p:spPr>
          <a:xfrm>
            <a:off x="1066680" y="2540160"/>
            <a:ext cx="693432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6A578-7F25-436D-A0E1-532966C894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228600" y="1066680"/>
            <a:ext cx="8686800" cy="16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composto C contiene un piano si simmetria, e quindi è achiral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 composti meso contengono un piano di simmetr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e perciò sono caratterizzati da due metà identich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152280" y="5335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mposti Meso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7" descr="0030"/>
          <p:cNvPicPr/>
          <p:nvPr/>
        </p:nvPicPr>
        <p:blipFill>
          <a:blip r:embed="rId1"/>
          <a:stretch/>
        </p:blipFill>
        <p:spPr>
          <a:xfrm>
            <a:off x="3505320" y="2749680"/>
            <a:ext cx="2100240" cy="28890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8"/>
          <p:cNvSpPr/>
          <p:nvPr/>
        </p:nvSpPr>
        <p:spPr>
          <a:xfrm>
            <a:off x="228600" y="55944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ichè uno stereoisomero del 2,3-dibromobutano è sovrapponibile alla sua immagine speculare, ci sono solo tre stereoisomeri, non quattr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211C5-598F-40DB-8AA4-F4B7E4E6F7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3" descr=""/>
          <p:cNvPicPr/>
          <p:nvPr/>
        </p:nvPicPr>
        <p:blipFill>
          <a:blip r:embed="rId1"/>
          <a:stretch/>
        </p:blipFill>
        <p:spPr>
          <a:xfrm>
            <a:off x="669960" y="2451240"/>
            <a:ext cx="7804080" cy="349236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2"/>
          <p:cNvSpPr/>
          <p:nvPr/>
        </p:nvSpPr>
        <p:spPr>
          <a:xfrm>
            <a:off x="3048120" y="1666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mposti Meso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429840" y="1371600"/>
            <a:ext cx="16772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5.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epilogo: i t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ereoisomeri d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,3-dibromobutan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4" descr=""/>
          <p:cNvPicPr/>
          <p:nvPr/>
        </p:nvPicPr>
        <p:blipFill>
          <a:blip r:embed="rId2"/>
          <a:stretch/>
        </p:blipFill>
        <p:spPr>
          <a:xfrm>
            <a:off x="76320" y="5638680"/>
            <a:ext cx="2514600" cy="11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3F43B-148D-4469-8526-C67660352D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"/>
          <p:cNvSpPr/>
          <p:nvPr/>
        </p:nvSpPr>
        <p:spPr>
          <a:xfrm>
            <a:off x="3048120" y="1666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228600" y="16765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do un composto ha più di un centro stereogenico, la configurazion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ve essere assegnata a ciascuno di ess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152280" y="714240"/>
            <a:ext cx="8763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segnazione di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ed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in composti con due o più Centri Stereogenici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7" descr="0031"/>
          <p:cNvPicPr/>
          <p:nvPr/>
        </p:nvPicPr>
        <p:blipFill>
          <a:blip r:embed="rId1"/>
          <a:stretch/>
        </p:blipFill>
        <p:spPr>
          <a:xfrm>
            <a:off x="2362320" y="2792520"/>
            <a:ext cx="4952880" cy="147456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10"/>
          <p:cNvSpPr/>
          <p:nvPr/>
        </p:nvSpPr>
        <p:spPr>
          <a:xfrm>
            <a:off x="2743200" y="4235400"/>
            <a:ext cx="441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o stereoisomero del 2,3-dibromopentan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2666880" y="4616280"/>
            <a:ext cx="510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Nome completo: (2</a:t>
            </a:r>
            <a:r>
              <a:rPr b="1" i="1" lang="en-US" sz="16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,3</a:t>
            </a:r>
            <a:r>
              <a:rPr b="1" i="1" lang="en-US" sz="1600" spc="-1" strike="noStrike">
                <a:solidFill>
                  <a:srgbClr val="3333cc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)-2,3-dibromopentan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4" descr=""/>
          <p:cNvPicPr/>
          <p:nvPr/>
        </p:nvPicPr>
        <p:blipFill>
          <a:blip r:embed="rId2"/>
          <a:stretch/>
        </p:blipFill>
        <p:spPr>
          <a:xfrm>
            <a:off x="152280" y="5102280"/>
            <a:ext cx="876312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93B9-9B15-4996-BF29-2E79E9DA54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3048120" y="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228600" y="838080"/>
            <a:ext cx="8686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deriamo l’1,3-dibromociclopentano. Dal momento che ha due centri stereogenici, questa molecola ha un numero massimo di quattro stereoisomer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152280" y="4572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icloalcani Disostituit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9" descr="0033a"/>
          <p:cNvPicPr/>
          <p:nvPr/>
        </p:nvPicPr>
        <p:blipFill>
          <a:blip r:embed="rId1"/>
          <a:stretch/>
        </p:blipFill>
        <p:spPr>
          <a:xfrm>
            <a:off x="3352680" y="2101680"/>
            <a:ext cx="2438640" cy="117504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10"/>
          <p:cNvSpPr/>
          <p:nvPr/>
        </p:nvSpPr>
        <p:spPr>
          <a:xfrm>
            <a:off x="228600" y="3292560"/>
            <a:ext cx="86868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icordare che un cicloalcano disostituito può avere i due sostituenti dalla stessa parte dell’anello (isomer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ci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indicato con A) o da parti opposte (isomer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indicato con B). Questi composti sono stereoisomeri, ma non reciproca immagine specular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3" descr=""/>
          <p:cNvPicPr/>
          <p:nvPr/>
        </p:nvPicPr>
        <p:blipFill>
          <a:blip r:embed="rId2"/>
          <a:stretch/>
        </p:blipFill>
        <p:spPr>
          <a:xfrm>
            <a:off x="3192480" y="4921200"/>
            <a:ext cx="427500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B02A3-79CA-43F9-88FF-33EFA97233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3048120" y="31896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228600" y="156996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Per trovare gli altri due stereoisomeri (se esistono),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segnare l’immagine speculare di ciascun composto e determinare se il composto e la propria immagine speculare sono sovrapponibil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152280" y="958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icloalcani Disostituit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228600" y="5334120"/>
            <a:ext cx="8686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’isomer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ci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è sovrapponibile alla sua immagine speculare, e perciò le due molecole sono identiche. Quindi A è un composto achirale mes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8" descr="0033c"/>
          <p:cNvPicPr/>
          <p:nvPr/>
        </p:nvPicPr>
        <p:blipFill>
          <a:blip r:embed="rId1"/>
          <a:stretch/>
        </p:blipFill>
        <p:spPr>
          <a:xfrm>
            <a:off x="533520" y="2949480"/>
            <a:ext cx="8229600" cy="21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32A75-20E2-4E69-9422-EBAB11792F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3048120" y="31896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228600" y="1569960"/>
            <a:ext cx="8686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’isomer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non è sovrapponibile alla sua immagine speculare, indicata con C, e perciò B e C sono composti differenti. B e  C sono enantiomer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152280" y="958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icloalcani Disostituit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228600" y="5334120"/>
            <a:ext cx="8686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ichè uno stereoisomero dell’1,3-dibromociclopentano è sovrapponibile alla sua immagine speculare, ci sono solo tre stereoisomeri, non quattro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7" descr="0033d"/>
          <p:cNvPicPr/>
          <p:nvPr/>
        </p:nvPicPr>
        <p:blipFill>
          <a:blip r:embed="rId1"/>
          <a:stretch/>
        </p:blipFill>
        <p:spPr>
          <a:xfrm>
            <a:off x="762120" y="2743200"/>
            <a:ext cx="769608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665D8-0F25-4BE4-8F07-C8A071DBD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3048120" y="31896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1"/>
          <p:cNvSpPr/>
          <p:nvPr/>
        </p:nvSpPr>
        <p:spPr>
          <a:xfrm>
            <a:off x="203760" y="1143000"/>
            <a:ext cx="24134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5.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mmario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— I tipi di isomer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3" descr=""/>
          <p:cNvPicPr/>
          <p:nvPr/>
        </p:nvPicPr>
        <p:blipFill>
          <a:blip r:embed="rId1"/>
          <a:stretch/>
        </p:blipFill>
        <p:spPr>
          <a:xfrm>
            <a:off x="380880" y="1771560"/>
            <a:ext cx="780444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E9DA3-18B6-4D7E-8CEB-5F8079D5FE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3124080" y="3808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221040" y="1371600"/>
            <a:ext cx="24757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e 5.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fronto tra isomer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stituzionali e stereoisomer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0" descr=""/>
          <p:cNvPicPr/>
          <p:nvPr/>
        </p:nvPicPr>
        <p:blipFill>
          <a:blip r:embed="rId1"/>
          <a:stretch/>
        </p:blipFill>
        <p:spPr>
          <a:xfrm>
            <a:off x="609480" y="2590920"/>
            <a:ext cx="780444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6EBD-1E5C-423B-8AC2-A2F0A1C770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026"/>
          <p:cNvSpPr/>
          <p:nvPr/>
        </p:nvSpPr>
        <p:spPr>
          <a:xfrm>
            <a:off x="3048120" y="1522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033"/>
          <p:cNvSpPr/>
          <p:nvPr/>
        </p:nvSpPr>
        <p:spPr>
          <a:xfrm>
            <a:off x="44280" y="625320"/>
            <a:ext cx="232488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5.8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e determinare la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azione tra due molecol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 identich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1035" descr=""/>
          <p:cNvPicPr/>
          <p:nvPr/>
        </p:nvPicPr>
        <p:blipFill>
          <a:blip r:embed="rId1"/>
          <a:stretch/>
        </p:blipFill>
        <p:spPr>
          <a:xfrm>
            <a:off x="762120" y="1690560"/>
            <a:ext cx="727056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359D1-0ABF-494C-94A3-FB4BB92847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228600" y="1143000"/>
            <a:ext cx="868680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proprietà chimiche e fisiche di due enantiomeri sono identiche eccetto che nella loro interazione con altre sostenze chirali. Hanno identiche proprietà fisiche, eccetto che per il modo con cui interagiscono con l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uce piano-polarizzat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a luce piano-polarizzat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o luce polarizzata)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è la luce che possiede un vettore elettrico oscillante in un solo piano. La luce piano-polarizzata deriva dal passaggio della luce ordinaria attraverso un polarizzator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olarimetr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è uno strumento che consente alla luce polarizzata di attraversare un tubo porta-campione contenente un composto organico. Permette quindi la misura dell’angolo (in gradi) di cui un composto organico ruota il piano della luce polarizzat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152280" y="609480"/>
            <a:ext cx="8763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prietà fisiche degli stereoisomeri— Attività Ottic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227B1-2FCD-4226-A4FC-CD35A32ED9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228600" y="132732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 composti achirali, la luce che esce dal porta-campione non risulta modificata. Un composto che non modifica il piano della luce polarizzata è dett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otticamente inattiv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5" descr="0036b"/>
          <p:cNvPicPr/>
          <p:nvPr/>
        </p:nvPicPr>
        <p:blipFill>
          <a:blip r:embed="rId1"/>
          <a:srcRect l="0" t="212" r="0" b="0"/>
          <a:stretch/>
        </p:blipFill>
        <p:spPr>
          <a:xfrm>
            <a:off x="380880" y="2852640"/>
            <a:ext cx="8305920" cy="362448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6"/>
          <p:cNvSpPr/>
          <p:nvPr/>
        </p:nvSpPr>
        <p:spPr>
          <a:xfrm>
            <a:off x="152280" y="669960"/>
            <a:ext cx="8763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prietà fisiche degli stereoisomeri— Attività Ottic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E50C0-2D20-46D7-88E1-3E66D2F619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228600" y="1125360"/>
            <a:ext cx="8686800" cy="18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on composti chirali, il piano della luce polarizzata viene invece ruotato di un angolo </a:t>
            </a:r>
            <a:r>
              <a:rPr b="1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 L’angolo </a:t>
            </a:r>
            <a:r>
              <a:rPr b="1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è misurato in gradi (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, ed è chiamato </a:t>
            </a: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rotazione osservat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 Un composto che ruota il piano della luce polarizzata è detto </a:t>
            </a: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otticamente attivo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6" descr="0037"/>
          <p:cNvPicPr/>
          <p:nvPr/>
        </p:nvPicPr>
        <p:blipFill>
          <a:blip r:embed="rId1"/>
          <a:stretch/>
        </p:blipFill>
        <p:spPr>
          <a:xfrm>
            <a:off x="533520" y="2936880"/>
            <a:ext cx="8153280" cy="363528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7"/>
          <p:cNvSpPr/>
          <p:nvPr/>
        </p:nvSpPr>
        <p:spPr>
          <a:xfrm>
            <a:off x="152280" y="609480"/>
            <a:ext cx="8763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prietà fisiche degli stereoisomeri— Attività Ottic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BB921-1F4E-4D22-B7EC-3F28092648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3048120" y="9036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228600" y="1143000"/>
            <a:ext cx="8686800" cy="54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a rotazione della luce polarizzata può essere in senso orario o antiorari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la rotazione è in senso orario (verso destra rispetto alle ore 12), il composto è dett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estrorotatori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La rotazione è indicata con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(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la rotazione è in senso antiorario (verso sinistra rispetto alle 12), il composto è dett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evorotatori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La rotazione è indicata con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(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ue enantiomeri ruotano la luce piano-polarizzata di un valore uguale, ma nella direzione opposta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Perciò, se l’enantiomero A ruota la luce polarizzata di +5°, allora la stessa concentrazione dell’enantiomero B ruota di  -5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Non esiste nessuna relazione fra i prefissi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o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e le designazioni (+) e (-), che indicano la rotazione ottic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152280" y="609480"/>
            <a:ext cx="8763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prietà fisiche degli stereoisomeri— Attività Ottic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767FE-BF2E-4072-A5F0-8E4A022F0F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"/>
          <p:cNvSpPr/>
          <p:nvPr/>
        </p:nvSpPr>
        <p:spPr>
          <a:xfrm>
            <a:off x="3048120" y="22860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228600" y="1506600"/>
            <a:ext cx="868680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Una quantità uguale di due enantiomeri è chiamata </a:t>
            </a: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miscela racemica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racemato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 Una miscela racemica è otticamente inattiva. Poichè due enantiomeri ruotano la luce piano-polarizzata di un valore uguale, ma in direzioni opposte, le rotazioni si annullano, e non viene osservata nessuna rotazione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152280" y="838080"/>
            <a:ext cx="8763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prietà fisiche degli stereoisomeri-Miscele racemiche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7" descr="phyiscal_properties_tb_764"/>
          <p:cNvPicPr/>
          <p:nvPr/>
        </p:nvPicPr>
        <p:blipFill>
          <a:blip r:embed="rId1"/>
          <a:stretch/>
        </p:blipFill>
        <p:spPr>
          <a:xfrm>
            <a:off x="533520" y="3933720"/>
            <a:ext cx="800100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66F5F-EFC7-43E4-9717-639E41163D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"/>
          <p:cNvSpPr/>
          <p:nvPr/>
        </p:nvSpPr>
        <p:spPr>
          <a:xfrm>
            <a:off x="3048120" y="31896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228600" y="1603440"/>
            <a:ext cx="868680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25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La rotazione specifica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è una costante fisica standardizzata ed è funzione della concentrazione. La rotazione specifica è indicata con il simbolo [</a:t>
            </a:r>
            <a:r>
              <a:rPr b="1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] e tiene conto della lunghezza del tubo porta-campione (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, in dm), della concentrazione (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in g/mL), della temperatura (25</a:t>
            </a:r>
            <a:r>
              <a:rPr b="1" lang="en-US" sz="2300" spc="-1" strike="noStrike" baseline="30000">
                <a:solidFill>
                  <a:srgbClr val="000000"/>
                </a:solidFill>
                <a:latin typeface="Arial"/>
              </a:rPr>
              <a:t>°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) e della lunghezza d’onda della radiazione utilizzata (589 nm)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6" descr="0041"/>
          <p:cNvPicPr/>
          <p:nvPr/>
        </p:nvPicPr>
        <p:blipFill>
          <a:blip r:embed="rId1"/>
          <a:stretch/>
        </p:blipFill>
        <p:spPr>
          <a:xfrm>
            <a:off x="533520" y="4565520"/>
            <a:ext cx="8076960" cy="168300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7"/>
          <p:cNvSpPr/>
          <p:nvPr/>
        </p:nvSpPr>
        <p:spPr>
          <a:xfrm>
            <a:off x="152280" y="974880"/>
            <a:ext cx="883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prietà fisiche degli stereoisomeri-Miscele Racemiche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C5423-1C5D-475F-9315-2A44D6C587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"/>
          <p:cNvSpPr/>
          <p:nvPr/>
        </p:nvSpPr>
        <p:spPr>
          <a:xfrm>
            <a:off x="3048120" y="1522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228600" y="11430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’eccesso enantiomerico (purezza ottica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una misura di quanto un enantiomero è presente in eccesso rispetto alla miscela racemica. E’ indicato con il simbolo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e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152280" y="6541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prietà fisiche degli stereoisomeri—Purezza Ottic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533520" y="23623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ee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= % di un enantiomero - % dell’altro enantiomer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7"/>
          <p:cNvSpPr/>
          <p:nvPr/>
        </p:nvSpPr>
        <p:spPr>
          <a:xfrm>
            <a:off x="228600" y="2895480"/>
            <a:ext cx="8686800" cy="30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iamo il seguente esempi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e una miscela contiene il 75% di un enantiomero e il 25% dell’altro, l’eccesso enantiomerico 75% - 25% = 50%. Perciò, c’è un 50% di eccesso di un enantiomero rispetto alla miscela racemic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eccesso enantiomerico può essere anche calcolato se sono note la rotazione specifica [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 di una miscela e la rotazione specifica [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 dell’enantiomero pur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8"/>
          <p:cNvSpPr/>
          <p:nvPr/>
        </p:nvSpPr>
        <p:spPr>
          <a:xfrm>
            <a:off x="990720" y="609588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ee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(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[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] miscela / [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] enantiomero puro) x 100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80028-1C84-4A6E-BFE8-6A5DA9B4C7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228600" y="838080"/>
            <a:ext cx="8686800" cy="19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ichè due enantiomeri hanno identiche proprietà fisiche, essi non possono essere separati mediante le comuni tecniche fisiche, come la distillazion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374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 diastereoisomeri e gli isomeri costituzionali hanno differenti proprietà fisic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e perciò possono essere separati mediante le comuni tecniche fisich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152280" y="457200"/>
            <a:ext cx="87631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roprietà fisiche degli stereoisomeri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7"/>
          <p:cNvSpPr/>
          <p:nvPr/>
        </p:nvSpPr>
        <p:spPr>
          <a:xfrm>
            <a:off x="3048120" y="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903600" y="3368520"/>
            <a:ext cx="18007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5.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prietà fisiche dei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e stereoisomeri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l’ acido tartaric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10" descr=""/>
          <p:cNvPicPr/>
          <p:nvPr/>
        </p:nvPicPr>
        <p:blipFill>
          <a:blip r:embed="rId1"/>
          <a:stretch/>
        </p:blipFill>
        <p:spPr>
          <a:xfrm>
            <a:off x="3498840" y="2573280"/>
            <a:ext cx="473076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9FC96-2899-471C-B62D-1C5930A75C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228600" y="914400"/>
            <a:ext cx="8686800" cy="19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e enantiomeri hanno esattamente le stesse proprietà chimiche, eccetto che per le reazioni con reagenti chirali non-racemici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lti farmaci sono chirali e spesso, per svolgere la loro azione terapeutica, devono interagire con recettori o enzimi chirali. Un enantiomero di un farmaco può curare efficacemente una malattia, mentre la sua  immagine speculare può essere inefficace o tossic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152280" y="547560"/>
            <a:ext cx="87631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roprietà chimiche degli Enantiomeri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6" descr="0044a"/>
          <p:cNvPicPr/>
          <p:nvPr/>
        </p:nvPicPr>
        <p:blipFill>
          <a:blip r:embed="rId1"/>
          <a:stretch/>
        </p:blipFill>
        <p:spPr>
          <a:xfrm>
            <a:off x="1752480" y="2971800"/>
            <a:ext cx="5639040" cy="15350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7" descr="0044b"/>
          <p:cNvPicPr/>
          <p:nvPr/>
        </p:nvPicPr>
        <p:blipFill>
          <a:blip r:embed="rId2"/>
          <a:stretch/>
        </p:blipFill>
        <p:spPr>
          <a:xfrm>
            <a:off x="1447920" y="4572000"/>
            <a:ext cx="6248160" cy="181116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8"/>
          <p:cNvSpPr/>
          <p:nvPr/>
        </p:nvSpPr>
        <p:spPr>
          <a:xfrm>
            <a:off x="3048120" y="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61F3-D6D2-4A56-B94D-08E6C8CAAF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3048120" y="166680"/>
            <a:ext cx="3047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228600" y="1066680"/>
            <a:ext cx="8686800" cy="23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bbene ogni oggetto abbia la propria immagine speculare, le immagini speculari possono o non possono essere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ovrapponibil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cune molecole sono come le mani. La mano destra e la mano sinistra sono una l’immagine speculare dell’altra, ma non sono identiche, 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ovrapponibil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52280" y="6094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lecole Chirali e Achiral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"/>
          <p:cNvPicPr/>
          <p:nvPr/>
        </p:nvPicPr>
        <p:blipFill>
          <a:blip r:embed="rId1"/>
          <a:stretch/>
        </p:blipFill>
        <p:spPr>
          <a:xfrm>
            <a:off x="304920" y="3747960"/>
            <a:ext cx="8001000" cy="31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2237-FA3E-4E16-8F2F-BA08651311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76320" y="762120"/>
            <a:ext cx="8762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nantiomeri e senso dell’olfatto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228600" y="1227240"/>
            <a:ext cx="8686800" cy="19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ricerca suggerisce che l’odore di una particolare molecola è determinato più dalla sua forma che dalla presenza di particolari gruppi funzionali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ichè gli enantiomeri interagiscono con i recettori dell’olfatto, alcuni enantiomeri hanno odore divers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0"/>
          <p:cNvSpPr/>
          <p:nvPr/>
        </p:nvSpPr>
        <p:spPr>
          <a:xfrm>
            <a:off x="3048120" y="1522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12" descr=""/>
          <p:cNvPicPr/>
          <p:nvPr/>
        </p:nvPicPr>
        <p:blipFill>
          <a:blip r:embed="rId1"/>
          <a:stretch/>
        </p:blipFill>
        <p:spPr>
          <a:xfrm>
            <a:off x="533520" y="3276720"/>
            <a:ext cx="735336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5E036-4B77-4CB8-B12B-67785A9204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"/>
          <p:cNvSpPr/>
          <p:nvPr/>
        </p:nvSpPr>
        <p:spPr>
          <a:xfrm>
            <a:off x="76320" y="762120"/>
            <a:ext cx="8762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antiomeri e Senso dell’Olfatto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3048120" y="1522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7"/>
          <p:cNvSpPr/>
          <p:nvPr/>
        </p:nvSpPr>
        <p:spPr>
          <a:xfrm>
            <a:off x="145440" y="1371600"/>
            <a:ext cx="24238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e 5.1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shape of molecules an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sense of smel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10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7772400" cy="42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2BD6A-5CA3-4E2B-A5B7-CAA703C340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3048120" y="166680"/>
            <a:ext cx="304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152280" y="1143000"/>
            <a:ext cx="5029200" cy="56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re molecole sono come le calze. Due calze formano una coppia di immagini speculari che sono sovrapponibili. Una calza e la sua immagine speculare sono dunque identich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molecola o un oggetto che è sovrapponibile alla sua immagine speculare è dett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chira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molecola o un oggetto che non è sovrapponibile alla sua immagine speculare è detta chira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152280" y="6094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lecole Chirali e Achiral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0006"/>
          <p:cNvPicPr/>
          <p:nvPr/>
        </p:nvPicPr>
        <p:blipFill>
          <a:blip r:embed="rId1"/>
          <a:stretch/>
        </p:blipFill>
        <p:spPr>
          <a:xfrm>
            <a:off x="5481720" y="1600200"/>
            <a:ext cx="343368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D89BD-542F-4151-BCCD-54DBFDB4E3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"/>
          <p:cNvSpPr/>
          <p:nvPr/>
        </p:nvSpPr>
        <p:spPr>
          <a:xfrm>
            <a:off x="3048120" y="76320"/>
            <a:ext cx="3047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228600" y="12351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iamo alcune molecole per determinare se sono o non son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hiral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152280" y="7621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olecole Chirali e Achiral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0007a"/>
          <p:cNvPicPr/>
          <p:nvPr/>
        </p:nvPicPr>
        <p:blipFill>
          <a:blip r:embed="rId1"/>
          <a:stretch/>
        </p:blipFill>
        <p:spPr>
          <a:xfrm>
            <a:off x="1523880" y="2306520"/>
            <a:ext cx="609624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96010-E420-4AE4-BA5D-B678E02E19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2971800" y="0"/>
            <a:ext cx="3048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228600" y="762120"/>
            <a:ext cx="868680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molecola A e la sua immagine speculare B non sono sovrapponibili. Non importa come A e B siano ruotati, non sarà mai possibile sovrapporre tutti i loro atomi. Inoltre, CHBrClF è una molecola chirale, e A e B sono composti differenti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e B sono stereoisomeri—più precisamente son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antiomer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atomo di carbonio legato a quattro gruppi differenti è un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entr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tereogenic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traedric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52280" y="4255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olecole Chirali e Achiral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"/>
          <p:cNvPicPr/>
          <p:nvPr/>
        </p:nvPicPr>
        <p:blipFill>
          <a:blip r:embed="rId1"/>
          <a:stretch/>
        </p:blipFill>
        <p:spPr>
          <a:xfrm>
            <a:off x="1114560" y="4191120"/>
            <a:ext cx="6734160" cy="27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887D8-1BC2-4DE1-A08D-697ACA58F9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3048120" y="31896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28600" y="1841400"/>
            <a:ext cx="868680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generale, una molecola senza centri stereogenici non è chirale. Esistono tuttavia alcune eccezioni a questa generalizzazi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 un centro stereogenico tetraedrico, la molecola è sempre chira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 due o più centri stereogenici, una molecola può essere o non essere chira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molecole achirali contengono un pian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i simmetr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mentre quelle chirali no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Un piano di simmetria è un pian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 taglia la molecola a metà, in modo tale che una metà è il riflesso dell’altr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52280" y="958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olecole Chirali e Achiral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8:12:23Z</dcterms:created>
  <dc:creator> </dc:creator>
  <dc:description/>
  <dc:language>en-US</dc:language>
  <cp:lastModifiedBy>User Name</cp:lastModifiedBy>
  <dcterms:modified xsi:type="dcterms:W3CDTF">2008-11-19T15:55:31Z</dcterms:modified>
  <cp:revision>600</cp:revision>
  <dc:subject/>
  <dc:title>PowerPoint Presentation</dc:title>
</cp:coreProperties>
</file>