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34.jpeg" ContentType="image/jpeg"/>
  <Override PartName="/ppt/media/image46.png" ContentType="image/png"/>
  <Override PartName="/ppt/media/image11.png" ContentType="image/png"/>
  <Override PartName="/ppt/media/image55.png" ContentType="image/png"/>
  <Override PartName="/ppt/media/image45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6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1BB0-96D2-4B1E-8220-A66224AFC54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3783-473A-4D27-BDA7-A2E842FBF0A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229C-D0FA-4939-9BA3-14D24F684AF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2E28-C3C2-494F-B75F-0AC6CC8C18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AC01-039A-46A6-84DC-23FF7B8494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E22E-FD86-4597-8D60-9227AA957AD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6FA-4F83-4EFF-AE7C-D5FD4072BF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69EB-D0D3-439A-9C72-A5786847F1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D422-083A-4139-9539-CA44D676F18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192D-22F0-4F79-927B-DAE544D09B1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A11C-819B-4E10-A578-29CE4E17278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2DA1-4109-4CAD-A8EC-17C0BC80BF5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B1E2-CAAF-4FE4-9738-662AB6C46C8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9223-8FEB-4F55-B8A6-81BA7BCF57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48DB-4535-452E-99D0-B9CBD1BD38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A9AA-A2D7-4B84-A3E9-7BAA0AF5590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55AF-3CC5-4EDF-8C96-82B181A00AC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2F29-333C-4DA1-87AA-C7DB28566E2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4427-73B9-449C-B105-78D65B0E8F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DE21-8A09-4B33-AEB7-1DE80D2AF3F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BCCA-0E55-4BB8-989A-78A1EE28B24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5C68-53CA-49F8-A792-CB5606E081D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375-0FA5-4074-8AE6-C2FDF889314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8ADD-44FE-4AEA-8B1C-9BA0DC29EF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DA8B-A000-44C9-B65D-329B5A3CC0A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AE52-FE48-4E64-824B-1A8568E11C3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4CA2-AD48-43CF-A45B-0136009714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F995-902C-4C3A-827E-AD4AE685D0C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ADDE-2227-4899-8E15-F47F571136B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1348-5724-44A6-930D-7578E611FF6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3F23-464B-45E5-9977-E9110490EC3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34C7-F2FC-46CF-BAF4-F1A3E29ECDF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2DF9-404B-44C6-B2F7-5E8ECDA93A7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7E2D-7532-4280-AB4B-87CF7406592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E1C5-F03F-45C2-B8D1-098628B7179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FEE3-A5B9-4742-8338-9A3D03DE3D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171E-77A8-4FE2-8712-191BEAD86F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404-A8FD-4554-ACC5-7C5A33FD720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57DA-8162-4C87-88D8-45562A39921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A1CB-3C14-436A-92CF-185170DC58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49E8-95FD-46EA-8CD3-84AA791662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8C59-7918-4B7E-A543-6E07BFEB48E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FCAB-5DC8-4D14-B234-038B4D06F7B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8597-EF47-4DC3-96BB-A1B61D38A98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CE97-4B5B-47CF-83C7-1C96779943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1624-BFCE-4303-AD80-D7ED07E41BA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188C-6EB5-4BCA-AD08-DC4F86B51F2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F02E-C245-43C0-A0EC-6182D3124D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C43C-A09D-4D1C-B113-6A1BB9825D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D912-C04D-4A0E-93C7-3183D8FB8F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55F-37DA-48AD-BFA3-3A46D035AEC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46A1-1A29-4871-ACB3-7D99040D75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754-EF33-4C87-A940-73EBF5D2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ADE-E031-46E1-929C-0EDF2DB5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8B1-6988-4800-BA05-3BB0CBCB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BB7-2922-4C6F-B0B8-46A69FE5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96B-ABC5-451E-84BA-CD2C3FD0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ABF-EFB4-4AB7-93DA-06F9379E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48A-FF95-4FF9-B60F-3478C05C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8AB-8765-4611-96DB-E1476D52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1C9-8404-476B-A3C1-8FCDC9CB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FD8-B91E-4774-8514-98546AF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818-8B6E-48A0-ACA6-B0721253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255-F162-411F-BEC3-41DC20F8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EA60-0F1F-4406-9F35-B09DE25D2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1E99-3655-4B3C-AA3A-282E195A4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56600" y="3809880"/>
            <a:ext cx="3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4C67-61C6-4B6E-B502-0736E21AC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415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008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DBC6-4E9E-4457-8769-60204467A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assunto dei Principi Basilari della Chiralità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2125800"/>
            <a:ext cx="8686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oggetto ha la propria immagine speculare. La domanda fondamentale è se una molecola e la sua immagine speculare sono sovrappon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a molecola e la sua immagine speculare non sono sovrapponbili, la molecola e la sua immagine speculare sono chir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ermini centro stereogenico e molecola chirale sono correlati ma distinti. In generale, una molecola chirale deve avere uno o più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za di un piano di simmetria indica che la molecola   è  a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3597-CC66-46C0-AD50-E430F4EAD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00320"/>
            <a:ext cx="86868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individuare un centro stereogenico, considerare ogni carbonio tetraedrico di una  molecola e guardare i quattro gruppi — non i quattro atomi — a esso leg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cludere mai tutti gli atomi di C che non possono essere centri stereogenici tetraedrici. Tra ques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grupp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C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30040" y="4368960"/>
            <a:ext cx="838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C803-0CC6-44A5-81D1-B828C9164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048120" y="547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2073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organiche più grandi possono avere due, tre o anche cento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" y="3303720"/>
            <a:ext cx="8534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2EF4-39B4-4E89-988F-0248EBE6D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914400"/>
            <a:ext cx="8686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entrambi gli enantiomeri di un composto chirale, come il 2-butanolo, usare la tipica convenzione per rappresentare il tetraedro: scrivere due legami nel piano, poi uno sopra al piano (a cuneo) ed uno sotto al piano (a tratteggio). Quindi, per formare il primo enantiomero, sistemare i gruppi H, OH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bitrariamente, su ciascun legame del centro stereogenico. Quindi scrivere l’immagine specu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13"/>
          <p:cNvPicPr/>
          <p:nvPr/>
        </p:nvPicPr>
        <p:blipFill>
          <a:blip r:embed="rId1"/>
          <a:stretch/>
        </p:blipFill>
        <p:spPr>
          <a:xfrm>
            <a:off x="1066680" y="4038480"/>
            <a:ext cx="7086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0831-2A68-4B77-A223-AC27166F2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91440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tomi di carbonio che fanno parte di un anello possono essere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ovare i centri stereogenici sui carboni dell’anello, disegnare sempre il ciclo come un poligono piatto, e cercare i carboni tetraedrici che sono legati a  quattro gruppi divers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280" y="380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15a"/>
          <p:cNvPicPr/>
          <p:nvPr/>
        </p:nvPicPr>
        <p:blipFill>
          <a:blip r:embed="rId1"/>
          <a:stretch/>
        </p:blipFill>
        <p:spPr>
          <a:xfrm>
            <a:off x="1143000" y="3195720"/>
            <a:ext cx="7086600" cy="19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015b"/>
          <p:cNvPicPr/>
          <p:nvPr/>
        </p:nvPicPr>
        <p:blipFill>
          <a:blip r:embed="rId2"/>
          <a:stretch/>
        </p:blipFill>
        <p:spPr>
          <a:xfrm>
            <a:off x="838080" y="5375160"/>
            <a:ext cx="7391520" cy="140652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>
            <a:off x="457200" y="5181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4897-786C-4CBD-AABC-B6C649D24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631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3-metilcicloesene, i sostituent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, che sono sopra e sotto al piano dell’anello, sono disegnati con cunei e linee tratteggi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17a"/>
          <p:cNvPicPr/>
          <p:nvPr/>
        </p:nvPicPr>
        <p:blipFill>
          <a:blip r:embed="rId1"/>
          <a:stretch/>
        </p:blipFill>
        <p:spPr>
          <a:xfrm>
            <a:off x="1371600" y="3595680"/>
            <a:ext cx="670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5C9D-361C-495D-88FB-27DCBC9CC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29528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ti composti biologicamente attivi contengono uno o più centri stereogenici sui carboni d’anell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0017b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17c"/>
          <p:cNvPicPr/>
          <p:nvPr/>
        </p:nvPicPr>
        <p:blipFill>
          <a:blip r:embed="rId2"/>
          <a:stretch/>
        </p:blipFill>
        <p:spPr>
          <a:xfrm>
            <a:off x="2209680" y="40100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3B18-84F1-4708-994F-879F821F5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1098720"/>
            <a:ext cx="86868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gli enantiomeri sono due composti diversi, dobbiamo essere in grado di distinguerli con un nome. Questo viene fatto aggiungendo il prefiss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 nome IUPAC dell’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omenclatura degli enantiomeri con i prefiss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chiamato il siste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hn-Ingold-Pre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segnare un enantiomero c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ima bisogna assegnare la priorità a ciascun gruppo legato al centro stereogenico, in base al numero atomico descrescente. L’atomo con il più alto numero atomico ha la priorità maggiore (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019a"/>
          <p:cNvPicPr/>
          <p:nvPr/>
        </p:nvPicPr>
        <p:blipFill>
          <a:blip r:embed="rId1"/>
          <a:stretch/>
        </p:blipFill>
        <p:spPr>
          <a:xfrm>
            <a:off x="3276720" y="5611680"/>
            <a:ext cx="236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C1B4-0A16-4344-B08E-141C853C1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6477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atomi su un centro stereogenico sono uguali, assegnare la priorità in base al numero atomico legato a questi atom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a numero atomico maggiore determina priorità maggi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019b"/>
          <p:cNvPicPr/>
          <p:nvPr/>
        </p:nvPicPr>
        <p:blipFill>
          <a:blip r:embed="rId1"/>
          <a:srcRect l="0" t="1373" r="0" b="0"/>
          <a:stretch/>
        </p:blipFill>
        <p:spPr>
          <a:xfrm>
            <a:off x="152280" y="3597120"/>
            <a:ext cx="8839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DFB1-4B76-49CF-B206-24508BD93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1240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457200"/>
            <a:ext cx="8686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la stereochimica indaga la struttura tridimensionale delle molecol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seguenza della stereochimica, si ha che differenze apparentemente insignificanti nella struttura 3-D possono causare proprietà molto differenti. Si può osservare questo considerando amido e cellulosa, due polimeri composti dalla stessa unità, che si ripe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533520" y="2979720"/>
            <a:ext cx="85341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C119-068B-4871-B477-7D7F3044E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2028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isotopi sono legati al centro stereogenico, assegnare le priorità secondo il numero di massa decrescente. Confrontando i tre isotopi dell’idrogeno, l’ordine di priorità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019c"/>
          <p:cNvPicPr/>
          <p:nvPr/>
        </p:nvPicPr>
        <p:blipFill>
          <a:blip r:embed="rId1"/>
          <a:stretch/>
        </p:blipFill>
        <p:spPr>
          <a:xfrm>
            <a:off x="533520" y="4105440"/>
            <a:ext cx="77724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06F3-7EC7-4BF6-847A-E09A518C4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006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assegnare la priorità ad un atomo che fa parte di legami multipli, considerare come se fosse legato con un equivalente numero di legami singoli. Per esempio, il C di un gruppo C=O è considerato essere legato con un legame singolo a due atomi di 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19d"/>
          <p:cNvPicPr/>
          <p:nvPr/>
        </p:nvPicPr>
        <p:blipFill>
          <a:blip r:embed="rId1"/>
          <a:stretch/>
        </p:blipFill>
        <p:spPr>
          <a:xfrm>
            <a:off x="2971800" y="2590920"/>
            <a:ext cx="4800600" cy="152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4221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ri tipi di legami multipli ricorrenti sono riportati di segui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0019e"/>
          <p:cNvPicPr/>
          <p:nvPr/>
        </p:nvPicPr>
        <p:blipFill>
          <a:blip r:embed="rId2"/>
          <a:stretch/>
        </p:blipFill>
        <p:spPr>
          <a:xfrm>
            <a:off x="152280" y="4859280"/>
            <a:ext cx="87631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14CF-8F36-4E2B-80BF-E0849B0B6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65960" y="1828800"/>
            <a:ext cx="256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assegn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riorità a centri stereogen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5484-41BB-4FF2-A4D6-828A4E711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95120" y="1676520"/>
            <a:ext cx="8720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0F7D-FA4F-42F7-A359-0DF806143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8839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1619-3661-4ED3-A27C-1CCE00C36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328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C163-D647-469D-AE58-DAC4FB3F4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8120" y="2430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83240" y="1447920"/>
            <a:ext cx="2949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orientare correttamen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gruppo a priorità minore: Esem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01480" y="2286000"/>
            <a:ext cx="7804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6800-9A45-48FC-A036-C8BC183D4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8120" y="4255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14637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una molecola c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entri stereogenici, il numero massimo di stereoisomeri è 2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Consideriamo un procedura a stadi per trovare tutti i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9907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380880" y="3205080"/>
            <a:ext cx="81583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2813-1554-4831-87BB-153D7FE07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8120" y="304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320" y="1295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stato scritto correttamente il composto e la sua immagine speculare, si devono fare solo due cose per vedere se gli atomi si allineano: sistemare B direttamente su A, quindi ruotare B a 18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vedere se gli atomi si allineano con 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05_02a"/>
          <p:cNvPicPr/>
          <p:nvPr/>
        </p:nvPicPr>
        <p:blipFill>
          <a:blip r:embed="rId1"/>
          <a:srcRect l="27563" t="64546" r="15022" b="6999"/>
          <a:stretch/>
        </p:blipFill>
        <p:spPr>
          <a:xfrm>
            <a:off x="1828800" y="2849400"/>
            <a:ext cx="5715000" cy="21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76320" y="51213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questo caso gli atomi di A e B non si allineano, e pertanto A e B non sono immagini speculari sovrapponibili—cioè sono enantiomeri. A e B sono perciò due dei quattro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4915-7D6A-4A71-BE62-698B303FE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ambiando la posizione di H e Br (o di altri due gruppi) sul centro stereogenico di A (oppure di B) si forma un nuovo stereoisomero (indicato con C), che è differente sia da A che da B. L’immagine speculare di C è indicata con D. C e D sono enanti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320" y="5867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stereoisomeri che non sono immagini speculari l’uno dell’altro son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diastereoisome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Per esempio, A e C sono diastereois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345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F547-F237-4ABB-8AD9-855D58A04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1066680"/>
            <a:ext cx="86868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someri sono composti diversi aventi la stessa formula moleco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ue principali classi di isomeri sono gli isomer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gli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 (o strutturali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o nomi IUPAC differenti, gruppi funzionali uguali o diversi,  diverse proprietà fisiche e diverse proprietà chim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iscono solo per il modo in cui gli atomi sono disposti nello spazio. Hanno identici nomi IUPAC (eccetto per il prefis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Hanno sempre gli stessi gruppi funzion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articolare disposizione tridimensionale è chiama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 hanno differenti configurazio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due Principali Classi di Isomer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4D44-DA67-4E4C-9E22-0345DEF7B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1"/>
          <a:stretch/>
        </p:blipFill>
        <p:spPr>
          <a:xfrm>
            <a:off x="762120" y="2519280"/>
            <a:ext cx="7804080" cy="30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3048120" y="2728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9920" y="1523880"/>
            <a:ext cx="189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quattr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 2,3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bromopen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3649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71E1-075C-4439-AC98-024A192D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320" y="9111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iamo gli stereoisomeri del 2,3-dibromobutano. Poichè questa molecola ha due centri stereogenici, il numero massimo di stereoisomeri è 4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320" y="5335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320" y="327672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tutti gli stereoisomeri del 2,3-dibromobutano, aggiungere arbitrariamente i gruppi H, Br e C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i centri stereogenici, formando così lo stereoisomero A, e quindi disegnare la sua immagine speculare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026"/>
          <p:cNvPicPr/>
          <p:nvPr/>
        </p:nvPicPr>
        <p:blipFill>
          <a:blip r:embed="rId1"/>
          <a:stretch/>
        </p:blipFill>
        <p:spPr>
          <a:xfrm>
            <a:off x="3733920" y="1905120"/>
            <a:ext cx="1981080" cy="13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10"/>
          <p:cNvPicPr/>
          <p:nvPr/>
        </p:nvPicPr>
        <p:blipFill>
          <a:blip r:embed="rId2"/>
          <a:stretch/>
        </p:blipFill>
        <p:spPr>
          <a:xfrm>
            <a:off x="1066680" y="4800600"/>
            <a:ext cx="6934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3360-9B78-409F-9867-ACBB9926C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gli altri due stereoisomeri (se esistono), scambiare le posizioni dei due gruppi sullo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tess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o stereogenico d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un s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nantiomero. In questo caso, scambiando la posizione di H e Br su un centro stereogenico di A, si forma C, che è differente sia da A che da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32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compos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mes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composto achirale che contiene centri stereogenici tetraedrici. C è un composto mes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029"/>
          <p:cNvPicPr/>
          <p:nvPr/>
        </p:nvPicPr>
        <p:blipFill>
          <a:blip r:embed="rId1"/>
          <a:stretch/>
        </p:blipFill>
        <p:spPr>
          <a:xfrm>
            <a:off x="1066680" y="2540160"/>
            <a:ext cx="6934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A81D-41FB-4680-BC39-9F1CD9DF8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066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mposto C contiene un piano si simmetria, e quindi è achira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composti meso contengono un piano 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perciò sono caratterizzati da due metà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0030"/>
          <p:cNvPicPr/>
          <p:nvPr/>
        </p:nvPicPr>
        <p:blipFill>
          <a:blip r:embed="rId1"/>
          <a:stretch/>
        </p:blipFill>
        <p:spPr>
          <a:xfrm>
            <a:off x="3505320" y="2749680"/>
            <a:ext cx="2100240" cy="288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28600" y="559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uno stereoisomero del 2,3-dibromobutano è sovrapponibile alla sua immagine speculare, ci sono solo tre stereoisomeri, non quat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D362-97B8-4E01-8D5C-439A9176E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"/>
          <p:cNvPicPr/>
          <p:nvPr/>
        </p:nvPicPr>
        <p:blipFill>
          <a:blip r:embed="rId1"/>
          <a:stretch/>
        </p:blipFill>
        <p:spPr>
          <a:xfrm>
            <a:off x="669960" y="2451240"/>
            <a:ext cx="7804080" cy="349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29840" y="1371600"/>
            <a:ext cx="16772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t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-dibromobu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76320" y="5638680"/>
            <a:ext cx="2514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A214-44C6-44AA-BA5B-7F4389E8B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composto ha più di un centro stereogenico, la configurazi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essere assegnata a ciascuno di es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2280" y="7142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gnazione di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composti con due o più Centri Stereogeni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0031"/>
          <p:cNvPicPr/>
          <p:nvPr/>
        </p:nvPicPr>
        <p:blipFill>
          <a:blip r:embed="rId1"/>
          <a:stretch/>
        </p:blipFill>
        <p:spPr>
          <a:xfrm>
            <a:off x="2362320" y="2792520"/>
            <a:ext cx="4952880" cy="147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2743200" y="4235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o stereoisomero del 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666880" y="4616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me completo: (2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,3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)-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2"/>
          <a:stretch/>
        </p:blipFill>
        <p:spPr>
          <a:xfrm>
            <a:off x="152280" y="5102280"/>
            <a:ext cx="8763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72F9-6CE7-467E-BF01-BDA68306F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8380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iamo l’1,3-dibromociclopentano. Dal momento che ha due centri stereogenici, questa molecola ha un numero massimo di quattro stereois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033a"/>
          <p:cNvPicPr/>
          <p:nvPr/>
        </p:nvPicPr>
        <p:blipFill>
          <a:blip r:embed="rId1"/>
          <a:stretch/>
        </p:blipFill>
        <p:spPr>
          <a:xfrm>
            <a:off x="3352680" y="2101680"/>
            <a:ext cx="2438640" cy="1175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28600" y="3292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un cicloalcano disostituito può avere i due sostituenti dalla stessa parte dell’anello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A) o da parti opposte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B). Questi composti sono stereoisomeri, ma non reciproca immagine specul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3192480" y="4921200"/>
            <a:ext cx="4275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BD9A-9F39-4371-ACD0-1EA69EC8F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15699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trovare gli altri due stereoisomeri (se esistono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egnare l’immagine speculare di ciascun composto e determinare se il composto e la propria immagine speculare sono sovrappon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è sovrapponibile alla sua immagine speculare, e perciò le due molecole sono identiche. Quindi A è un composto achirale mes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0033c"/>
          <p:cNvPicPr/>
          <p:nvPr/>
        </p:nvPicPr>
        <p:blipFill>
          <a:blip r:embed="rId1"/>
          <a:stretch/>
        </p:blipFill>
        <p:spPr>
          <a:xfrm>
            <a:off x="533520" y="2949480"/>
            <a:ext cx="82296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5970-90E6-482E-89E7-6BAEFCC0C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156996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è sovrapponibile alla sua immagine speculare, indicata con C, e perciò B e C sono composti differenti. B e  C sono enanti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chè uno stereoisomero dell’1,3-dibromociclopentano è sovrapponibile alla sua immagine speculare, ci sono solo tre stereoisomeri, non quattr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0033d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1A7-9EC6-44B8-88B7-1F6EB31E3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03760" y="1143000"/>
            <a:ext cx="241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m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I tipi di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7804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911F-EEF8-43C8-9F32-26898CB6C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1240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1040" y="1371600"/>
            <a:ext cx="247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tra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ituzionali e stereo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264B-55B3-4B1C-B501-11DA937B6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2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33"/>
          <p:cNvSpPr/>
          <p:nvPr/>
        </p:nvSpPr>
        <p:spPr>
          <a:xfrm>
            <a:off x="44280" y="625320"/>
            <a:ext cx="2324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determina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zione tra due moleco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identic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35" descr=""/>
          <p:cNvPicPr/>
          <p:nvPr/>
        </p:nvPicPr>
        <p:blipFill>
          <a:blip r:embed="rId1"/>
          <a:stretch/>
        </p:blipFill>
        <p:spPr>
          <a:xfrm>
            <a:off x="762120" y="1690560"/>
            <a:ext cx="7270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53B0-D953-47D8-BB8D-BC03D7790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8600" y="1143000"/>
            <a:ext cx="8686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roprietà chimiche e fisiche di due enantiomeri sono identiche eccetto che nella loro interazione con altre sostenze chirali. Hanno identiche proprietà fisiche, eccetto che per il modo con cui interagiscono con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piano-polarizz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ce piano-polarizz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luce polarizzata)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la luce che possiede un vettore elettrico oscillante in un solo piano. La luce piano-polarizzata deriva dal passaggio della luce ordinaria attraverso un polarizzato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met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o strumento che consente alla luce polarizzata di attraversare un tubo porta-campione contenente un composto organico. Permette quindi la misura dell’angolo (in gradi) di cui un composto organico ruota il piano della luce polar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83C3-5E59-41FD-9FA3-13AAC4A5B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327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composti achirali, la luce che esce dal porta-campione non risulta modificata. Un composto che non modifica il piano della luce polarizzata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tticamente inat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0036b"/>
          <p:cNvPicPr/>
          <p:nvPr/>
        </p:nvPicPr>
        <p:blipFill>
          <a:blip r:embed="rId1"/>
          <a:srcRect l="0" t="212" r="0" b="0"/>
          <a:stretch/>
        </p:blipFill>
        <p:spPr>
          <a:xfrm>
            <a:off x="380880" y="2852640"/>
            <a:ext cx="8305920" cy="3624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52280" y="66996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96AE-5E22-449E-92EF-44D54BF2C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" y="1125360"/>
            <a:ext cx="8686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 composti chirali, il piano della luce polarizzata viene invece ruotato di un 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L’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è misurato in gradi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, ed è chiama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otazione osserva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 composto che ruota il piano della luce polarizzata è det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otticamente attiv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0037"/>
          <p:cNvPicPr/>
          <p:nvPr/>
        </p:nvPicPr>
        <p:blipFill>
          <a:blip r:embed="rId1"/>
          <a:stretch/>
        </p:blipFill>
        <p:spPr>
          <a:xfrm>
            <a:off x="533520" y="293688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20CB-BF1A-455F-AA4A-C2BD6400B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8120" y="90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114300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rotazione della luce polarizzata può essere in senso orario o antior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orario (verso destra rispetto alle or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tr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antiorario (verso sinistra rispetto all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ue enantiomeri ruotano la luce piano-polarizzata di un valore uguale, ma nella direzione oppos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erciò, se l’enantiomero A ruota la luce polarizzata di +5°, allora la stessa concentrazione dell’enantiomero B ruota di  -5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esiste nessuna relazione fra i prefissi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e le designazioni (+) e (-), che indicano la rotazione ot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EE9E-BDD5-4967-933C-C97B495EC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28600" y="150660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a quantità uguale di due enantiomeri è chiamata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miscela racem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acemat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miscela racemica è otticamente inattiva. Poichè due enantiomeri ruotano la luce piano-polarizzata di un valore uguale, ma in direzioni opposte, le rotazioni si annullano, e non viene osservata nessuna rotazion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22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hyiscal_properties_tb_764"/>
          <p:cNvPicPr/>
          <p:nvPr/>
        </p:nvPicPr>
        <p:blipFill>
          <a:blip r:embed="rId1"/>
          <a:stretch/>
        </p:blipFill>
        <p:spPr>
          <a:xfrm>
            <a:off x="533520" y="3933720"/>
            <a:ext cx="8001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9669-DD1B-4E77-A168-7DB2E5B9C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28600" y="16034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a rotazione specif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è una costante fisica standardizzata ed è funzione della concentrazione. La rotazione specifica è indicata con il simbolo [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e tiene conto della lunghezza del tubo porta-camp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n dm), della concentraz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g/mL), della temperatura (2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) e della lunghezza d’onda della radiazione utilizzata (589 nm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0041"/>
          <p:cNvPicPr/>
          <p:nvPr/>
        </p:nvPicPr>
        <p:blipFill>
          <a:blip r:embed="rId1"/>
          <a:stretch/>
        </p:blipFill>
        <p:spPr>
          <a:xfrm>
            <a:off x="533520" y="4565520"/>
            <a:ext cx="8076960" cy="168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152280" y="974880"/>
            <a:ext cx="883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31A5-D3A2-466C-80A7-FF467E32B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1143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eccesso enantiomerico (purezza ottic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misura di quanto un enantiomero è presente in eccesso rispetto alla miscela racemica. E’ indicato con il simbol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52280" y="654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rietà fisiche degli stereoisomeri—Purezza Ott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33520" y="2362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% di un enantiomero - % dell’altro 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2895480"/>
            <a:ext cx="86868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il seguente esemp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 una miscela contiene il 75% di un enantiomero e il 25% dell’altro, l’eccesso enantiomerico 75% - 25% = 50%. Perciò, c’è un 50% di eccesso di un enantiomero rispetto alla miscela racem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ccesso enantiomerico può essere anche calcolato se sono not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i una miscela 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ell’enantiomero p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90720" y="6095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miscela / 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enantiomero puro) x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83E0-0407-4959-9AA9-5B804F84A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28600" y="83808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chè due enantiomeri hanno identiche proprietà fisiche, essi non possono essere separati mediante le comuni tecniche fisiche, come la distillazi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 diastereoisomeri e gli isomeri costituzionali hanno differenti proprietà fis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perciò possono essere separati mediante le comuni tecniche fisic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2280" y="4572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fisiche degli stereois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03600" y="3368520"/>
            <a:ext cx="180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età fisiche de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stereoisomer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l’ acido tartar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3498840" y="2573280"/>
            <a:ext cx="4730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9569-0B62-4FF3-B16A-24801AD1D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28600" y="91440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enantiomeri hanno esattamente le stesse proprietà chimiche, eccetto che per le reazioni con reagenti chirali non-racemi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ti farmaci sono chirali e spesso, per svolgere la loro azione terapeutica, devono interagire con recettori o enzimi chirali. Un enantiomero di un farmaco può curare efficacemente una malattia, mentre la sua  immagine speculare può essere inefficace o toss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54756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chimiche degli Enanti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044a"/>
          <p:cNvPicPr/>
          <p:nvPr/>
        </p:nvPicPr>
        <p:blipFill>
          <a:blip r:embed="rId1"/>
          <a:stretch/>
        </p:blipFill>
        <p:spPr>
          <a:xfrm>
            <a:off x="1752480" y="2971800"/>
            <a:ext cx="5639040" cy="1535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0044b"/>
          <p:cNvPicPr/>
          <p:nvPr/>
        </p:nvPicPr>
        <p:blipFill>
          <a:blip r:embed="rId2"/>
          <a:stretch/>
        </p:blipFill>
        <p:spPr>
          <a:xfrm>
            <a:off x="1447920" y="4572000"/>
            <a:ext cx="6248160" cy="1811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168C-4E9E-4039-A055-FBA92D5A7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048120" y="1666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0666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bbene ogni oggetto abbia la propria immagine speculare, le immagini speculari possono o non possono essere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molecole sono come le mani. La mano destra e la mano sinistra sono una l’immagine speculare dell’altra, ma non sono identiche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4920" y="3747960"/>
            <a:ext cx="8001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12E6-ECC8-4684-A75E-8A244B46C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28600" y="1227240"/>
            <a:ext cx="8686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suggerisce che l’odore di una particolare molecola è determinato più dalla sua forma che dalla presenza di particolari gruppi funzional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gli enantiomeri interagiscono con i recettori dell’olfatto, alcuni enantiomeri hanno odore diver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53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779A-D7D6-4270-B801-DEFEA4184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6320" y="762120"/>
            <a:ext cx="8762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45440" y="1371600"/>
            <a:ext cx="2423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hape of molecules 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nse of sme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7724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102A-FC72-4A45-8FE5-1FDA0675E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48120" y="1666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143000"/>
            <a:ext cx="50292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re molecole sono come le calze. Due calze formano una coppia di immagini speculari che sono sovrapponibili. Una calza e la sua immagine speculare sono dunque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è sovrapponibile alla sua immagine speculare è det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hir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non è sovrapponibile alla sua immagine speculare è detta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0006"/>
          <p:cNvPicPr/>
          <p:nvPr/>
        </p:nvPicPr>
        <p:blipFill>
          <a:blip r:embed="rId1"/>
          <a:stretch/>
        </p:blipFill>
        <p:spPr>
          <a:xfrm>
            <a:off x="5481720" y="1600200"/>
            <a:ext cx="3433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7D12-585D-4AC5-BC49-514E86ED0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048120" y="763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alcune molecole per determinare se sono o non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r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7a"/>
          <p:cNvPicPr/>
          <p:nvPr/>
        </p:nvPicPr>
        <p:blipFill>
          <a:blip r:embed="rId1"/>
          <a:stretch/>
        </p:blipFill>
        <p:spPr>
          <a:xfrm>
            <a:off x="1523880" y="2306520"/>
            <a:ext cx="60962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C08E-94F4-4E6D-9766-053830AEF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71800" y="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762120"/>
            <a:ext cx="8686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molecola A e la sua immagine speculare B non sono sovrapponibili. Non importa come A e B siano ruotati, non sarà mai possibile sovrapporre tutti i loro atomi. Inoltre, CHBrClF è una molecola chirale, e A e B sono composti differen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 B sono stereoisomeri—più precisament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nti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tomo di carbonio legato a quattro gruppi differenti è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gen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traed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425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14560" y="4191120"/>
            <a:ext cx="6734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A604-F98C-4693-B887-C334B26F4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8414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una molecola senza centri stereogenici non è chirale. Esistono tuttavia alcune eccezioni a questa generalizz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un centro stereogenico tetraedrico, la molecola è semp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due o più centri stereogenici, una molecola può essere o non esse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achirali contengono un pi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ntre quelle chirali 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 piano di simmetria è un pia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taglia la molecola a metà, in modo tale che una metà è il riflesso dell’al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5:31Z</dcterms:modified>
  <cp:revision>600</cp:revision>
  <dc:subject/>
  <dc:title>PowerPoint Presentation</dc:title>
</cp:coreProperties>
</file>