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42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3.jpeg" ContentType="image/jpeg"/>
  <Override PartName="/ppt/media/image40.jpeg" ContentType="image/jpeg"/>
  <Override PartName="/ppt/media/image44.jpeg" ContentType="image/jpeg"/>
  <Override PartName="/ppt/media/image43.png" ContentType="image/png"/>
  <Override PartName="/ppt/media/image53.jpeg" ContentType="image/jpeg"/>
  <Override PartName="/ppt/media/image34.jpeg" ContentType="image/jpeg"/>
  <Override PartName="/ppt/media/image46.png" ContentType="image/png"/>
  <Override PartName="/ppt/media/image11.png" ContentType="image/png"/>
  <Override PartName="/ppt/media/image55.png" ContentType="image/png"/>
  <Override PartName="/ppt/media/image45.jpeg" ContentType="image/jpeg"/>
  <Override PartName="/ppt/media/image37.jpeg" ContentType="image/jpeg"/>
  <Override PartName="/ppt/media/image50.jpeg" ContentType="image/jpeg"/>
  <Override PartName="/ppt/media/image52.png" ContentType="image/png"/>
  <Override PartName="/ppt/media/image30.jpeg" ContentType="image/jpeg"/>
  <Override PartName="/ppt/media/image51.jpeg" ContentType="image/jpeg"/>
  <Override PartName="/ppt/media/image48.jpeg" ContentType="image/jpeg"/>
  <Override PartName="/ppt/media/image49.jpeg" ContentType="image/jpeg"/>
  <Override PartName="/ppt/media/image20.jpeg" ContentType="image/jpeg"/>
  <Override PartName="/ppt/media/image54.jpeg" ContentType="image/jpeg"/>
  <Override PartName="/ppt/media/image56.png" ContentType="image/png"/>
  <Override PartName="/ppt/media/image41.png" ContentType="image/png"/>
  <Override PartName="/ppt/media/image47.png" ContentType="image/png"/>
  <Override PartName="/ppt/media/image35.jpeg" ContentType="image/jpeg"/>
  <Override PartName="/ppt/media/image10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2.png" ContentType="image/png"/>
  <Override PartName="/ppt/media/image8.jpeg" ContentType="image/jpeg"/>
  <Override PartName="/ppt/media/image38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CD48-0491-4495-BEB8-7B1031FDC61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67EB-DAF5-46A4-A907-54D4D3EBD97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C618-CB0F-49D3-9DEF-7F85E2902B8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670F-2E9E-44D9-959C-3F278C90FAA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A2DC-CB19-476E-8567-A7849C04583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CA10-5BAB-4541-87B0-64491D521D0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0114-3B47-41E0-B1BE-FC6055F0CF2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9A96-3E7D-4D2E-9937-7865E7616C2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3C79-51D7-4855-8B5B-A12F62572CE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ACB6-8D98-40FF-AFFB-DFF62AE63C4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D683-F4AB-4E79-A174-5DB9A5C448D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7D7E-4635-4D3D-A765-021F49214A3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9E4A-6D6D-4132-8B2B-76C4F32E0FB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7B88-3F20-4BFC-87B1-B723B66913F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8C4B-2767-4947-9DD0-F68F33361C7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CA77-BF90-43D4-B695-339C2555366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825C-0D7C-465C-AE27-DC2E01A50F9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DB54-89E9-445D-A7ED-5F231EF4340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7A37-399F-4B51-9DF9-8D2063A1E3D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DB05-BFA9-495A-8C6C-C84F774F4FE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A6C8-4A64-4D0B-BCA3-C3BEDC1B448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D385-F0AA-40C1-9578-0204031A90C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5255-BD2E-4E36-B32E-CF826621931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97F0-CADA-4643-81E1-A3B46FB7019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B0B4-3D27-4B1C-A409-EE4559FFC6D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8DA1-0377-439B-8524-FA9F5754BF7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E74E-7C05-4523-814F-2E01346D56E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9961-D127-4E3B-9FC1-724EA51502D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1AE8-AC5C-4E76-BB21-09BDB7E2697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BA67-B3CA-40A0-A4D5-B908897C872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FEB0-5D6B-4AD8-9073-51B8EA9F81B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D679-A070-4227-9018-30D9F2CC69E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2D8C-BCD1-4919-9902-8A2027A7E5D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8EF2-7ADA-48CF-A75C-2AC45817B96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0CEC-76E8-46D6-8380-6B128D12847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71F1-C2B7-470A-8699-377CEDAB80F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7911-D527-49B8-962B-F643EC610EC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88A3-9FF7-4D31-8256-0FB7E4E063C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1AC3-B673-4039-8DA1-28725A9CA4C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7338-34FF-479C-A544-B52746AADBD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B6AE-E3D1-4F7A-88AD-B92018565B6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193B-6BFD-4816-AAF8-C83F52E290C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A208-1AA5-4C83-A971-6E23F9CD07A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4068-55AB-4752-AA57-37EBC3774EB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272D-9C51-411E-821E-0B2DAF5DD62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CDA8-238C-4EBE-99AC-E9B40CBED2A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8B51-3DC4-4387-B84C-9F135B5C67A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0DEB-E768-49EF-A470-8152256DBAF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9E78-38D2-4D27-A2E4-8511BAD6D43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026B-92D3-41D2-9B73-338839AEF2B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ED1A-02B5-4995-AC7A-A6F6A5DA2C4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80C7-5373-49F6-A07B-0D12522846C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C0B2-C34E-47C3-AEE5-BB944A20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6B55-1EFE-4A2D-9F6D-94127419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73F1-76DB-4441-8B1B-1FE3947F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32A2-3058-4072-86E6-60451C2C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935B-DB8C-4594-BA00-69D6E0E9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4FE1-C0FF-443B-B740-AF71B43F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0213-3293-4CB8-9478-1ACBF113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BDDA-6CFE-4CDB-B8DD-50C1159A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2F88-2434-48F2-8DF0-6EA00281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4E6F-00A4-49B8-814F-75F69394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76E8-2DF0-4851-A55B-FFA490FF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DDAD-5E40-4BE6-9B68-BD5BF003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229B-6AFB-44EF-B20C-08DFB2BF5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E4C8-5BFF-47CF-A182-E87EB1353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10752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856600" y="3809880"/>
            <a:ext cx="364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8A95-792F-4E71-BA87-C4055BFE7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048120" y="62388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52280" y="14158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0008"/>
          <p:cNvPicPr/>
          <p:nvPr/>
        </p:nvPicPr>
        <p:blipFill>
          <a:blip r:embed="rId1"/>
          <a:stretch/>
        </p:blipFill>
        <p:spPr>
          <a:xfrm>
            <a:off x="762120" y="2286000"/>
            <a:ext cx="761976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B7F2-AEA5-4D27-880A-BDA01943E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3048120" y="62388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52280" y="12952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iassunto dei Principi Basilari della Chiralità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28600" y="2125800"/>
            <a:ext cx="86868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oggetto ha la propria immagine speculare. La domanda fondamentale è se una molecola e la sua immagine speculare sono sovrappon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una molecola e la sua immagine speculare non sono sovrapponbili, la molecola e la sua immagine speculare sono chir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termini centro stereogenico e molecola chirale sono correlati ma distinti. In generale, una molecola chirale deve avere uno o più centri stereogen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presenza di un piano di simmetria indica che la molecola   è  a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85DD-268F-4F1C-8F1F-D07F248FB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1300320"/>
            <a:ext cx="8686800" cy="28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individuare un centro stereogenico, considerare ogni carbonio tetraedrico di una  molecola e guardare i quattro gruppi — non i quattro atomi — a esso lega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includere mai tutti gli atomi di C che non possono essere centri stereogenici tetraedrici. Tra quest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gruppi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C ibrida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3"/>
          <a:stretch/>
        </p:blipFill>
        <p:spPr>
          <a:xfrm>
            <a:off x="230040" y="4368960"/>
            <a:ext cx="83804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F054-BC39-4970-A0CF-E7494DB7D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3048120" y="5475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28600" y="2073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ole organiche più grandi possono avere due, tre o anche cento centri stereogen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52280" y="1339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228600" y="3303720"/>
            <a:ext cx="85345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862F-DD41-4E03-9986-C3E40574E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28600" y="914400"/>
            <a:ext cx="86868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crivere entrambi gli enantiomeri di un composto chirale, come il 2-butanolo, usare la tipica convenzione per rappresentare il tetraedro: scrivere due legami nel piano, poi uno sopra al piano (a cuneo) ed uno sotto al piano (a tratteggio). Quindi, per formare il primo enantiomero, sistemare i gruppi H, OH,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rbitrariamente, su ciascun legame del centro stereogenico. Quindi scrivere l’immagine specul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2280" y="4572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013"/>
          <p:cNvPicPr/>
          <p:nvPr/>
        </p:nvPicPr>
        <p:blipFill>
          <a:blip r:embed="rId1"/>
          <a:stretch/>
        </p:blipFill>
        <p:spPr>
          <a:xfrm>
            <a:off x="1066680" y="4038480"/>
            <a:ext cx="70866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3F7B-9D2E-4315-95B8-86E2AD92A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28600" y="914400"/>
            <a:ext cx="868680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atomi di carbonio che fanno parte di un anello possono essere centri stereogen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trovare i centri stereogenici sui carboni dell’anello, disegnare sempre il ciclo come un poligono piatto, e cercare i carboni tetraedrici che sono legati a  quattro gruppi divers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52280" y="3808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0015a"/>
          <p:cNvPicPr/>
          <p:nvPr/>
        </p:nvPicPr>
        <p:blipFill>
          <a:blip r:embed="rId1"/>
          <a:stretch/>
        </p:blipFill>
        <p:spPr>
          <a:xfrm>
            <a:off x="1143000" y="3195720"/>
            <a:ext cx="7086600" cy="1985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0015b"/>
          <p:cNvPicPr/>
          <p:nvPr/>
        </p:nvPicPr>
        <p:blipFill>
          <a:blip r:embed="rId2"/>
          <a:stretch/>
        </p:blipFill>
        <p:spPr>
          <a:xfrm>
            <a:off x="838080" y="5375160"/>
            <a:ext cx="7391520" cy="1406520"/>
          </a:xfrm>
          <a:prstGeom prst="rect">
            <a:avLst/>
          </a:prstGeom>
          <a:ln w="0">
            <a:noFill/>
          </a:ln>
        </p:spPr>
      </p:pic>
      <p:sp>
        <p:nvSpPr>
          <p:cNvPr id="123" name="Line 8"/>
          <p:cNvSpPr/>
          <p:nvPr/>
        </p:nvSpPr>
        <p:spPr>
          <a:xfrm>
            <a:off x="457200" y="51814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15B5-7019-45F2-87C3-5961837A0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28600" y="163188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3-metilcicloesene, i sostituenti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H, che sono sopra e sotto al piano dell’anello, sono disegnati con cunei e linee tratteggiat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0017a"/>
          <p:cNvPicPr/>
          <p:nvPr/>
        </p:nvPicPr>
        <p:blipFill>
          <a:blip r:embed="rId1"/>
          <a:stretch/>
        </p:blipFill>
        <p:spPr>
          <a:xfrm>
            <a:off x="1371600" y="3595680"/>
            <a:ext cx="67057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B556-50A8-4779-A4E4-028C74474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1295280"/>
            <a:ext cx="2895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ti composti biologicamente attivi contengono uno o più centri stereogenici sui carboni d’anello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0017b"/>
          <p:cNvPicPr/>
          <p:nvPr/>
        </p:nvPicPr>
        <p:blipFill>
          <a:blip r:embed="rId1"/>
          <a:stretch/>
        </p:blipFill>
        <p:spPr>
          <a:xfrm>
            <a:off x="3048120" y="1295280"/>
            <a:ext cx="5410080" cy="2278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0017c"/>
          <p:cNvPicPr/>
          <p:nvPr/>
        </p:nvPicPr>
        <p:blipFill>
          <a:blip r:embed="rId2"/>
          <a:stretch/>
        </p:blipFill>
        <p:spPr>
          <a:xfrm>
            <a:off x="2209680" y="4010040"/>
            <a:ext cx="67057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8642-15EB-4888-ACF1-7CC45C2A8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28600" y="1098720"/>
            <a:ext cx="86868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 momento che gli enantiomeri sono due composti diversi, dobbiamo essere in grado di distinguerli con un nome. Questo viene fatto aggiungendo il prefiss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 nome IUPAC dell’enantiome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nomenclatura degli enantiomeri con i prefiss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chiamato il sistema d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hn-Ingold-Prel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isegnare un enantiomero com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rima bisogna assegnare la priorità a ciascun gruppo legato al centro stereogenico, in base al numero atomico descrescente. L’atomo con il più alto numero atomico ha la priorità maggiore (1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0019a"/>
          <p:cNvPicPr/>
          <p:nvPr/>
        </p:nvPicPr>
        <p:blipFill>
          <a:blip r:embed="rId1"/>
          <a:stretch/>
        </p:blipFill>
        <p:spPr>
          <a:xfrm>
            <a:off x="3276720" y="5611680"/>
            <a:ext cx="236196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849F-C2FF-4D24-B2BE-5F87135C4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048120" y="471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28600" y="16477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due atomi su un centro stereogenico sono uguali, assegnare la priorità in base al numero atomico legato a questi atomi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a numero atomico maggiore determina priorità maggio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0019b"/>
          <p:cNvPicPr/>
          <p:nvPr/>
        </p:nvPicPr>
        <p:blipFill>
          <a:blip r:embed="rId1"/>
          <a:srcRect l="0" t="1373" r="0" b="0"/>
          <a:stretch/>
        </p:blipFill>
        <p:spPr>
          <a:xfrm>
            <a:off x="152280" y="3597120"/>
            <a:ext cx="88394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4A89-EB0A-4224-BBF3-3AF76303E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3124080" y="763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28600" y="457200"/>
            <a:ext cx="86868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ordare che la stereochimica indaga la struttura tridimensionale delle molecole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e conseguenza della stereochimica, si ha che differenze apparentemente insignificanti nella struttura 3-D possono causare proprietà molto differenti. Si può osservare questo considerando amido e cellulosa, due polimeri composti dalla stessa unità, che si ripe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"/>
          <p:cNvPicPr/>
          <p:nvPr/>
        </p:nvPicPr>
        <p:blipFill>
          <a:blip r:embed="rId1"/>
          <a:stretch/>
        </p:blipFill>
        <p:spPr>
          <a:xfrm>
            <a:off x="533520" y="2979720"/>
            <a:ext cx="853416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80F1-47B0-4FAC-BD79-264A95622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3048120" y="471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28600" y="20289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due isotopi sono legati al centro stereogenico, assegnare le priorità secondo il numero di massa decrescente. Confrontando i tre isotopi dell’idrogeno, l’ordine di priorità è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52280" y="1339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0019c"/>
          <p:cNvPicPr/>
          <p:nvPr/>
        </p:nvPicPr>
        <p:blipFill>
          <a:blip r:embed="rId1"/>
          <a:stretch/>
        </p:blipFill>
        <p:spPr>
          <a:xfrm>
            <a:off x="533520" y="4105440"/>
            <a:ext cx="77724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4E9E-2118-4D4F-B3A2-AEFCB6454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28600" y="1006560"/>
            <a:ext cx="86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assegnare la priorità ad un atomo che fa parte di legami multipli, considerare come se fosse legato con un equivalente numero di legami singoli. Per esempio, il C di un gruppo C=O è considerato essere legato con un legame singolo a due atomi di 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5228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0019d"/>
          <p:cNvPicPr/>
          <p:nvPr/>
        </p:nvPicPr>
        <p:blipFill>
          <a:blip r:embed="rId1"/>
          <a:stretch/>
        </p:blipFill>
        <p:spPr>
          <a:xfrm>
            <a:off x="2971800" y="2590920"/>
            <a:ext cx="4800600" cy="15271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228600" y="42210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ri tipi di legami multipli ricorrenti sono riportati di seguit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0019e"/>
          <p:cNvPicPr/>
          <p:nvPr/>
        </p:nvPicPr>
        <p:blipFill>
          <a:blip r:embed="rId2"/>
          <a:stretch/>
        </p:blipFill>
        <p:spPr>
          <a:xfrm>
            <a:off x="152280" y="4859280"/>
            <a:ext cx="876312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5199-08C3-40B9-94F8-560FD2B15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65960" y="1828800"/>
            <a:ext cx="2565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empi di assegnazio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 priorità a centri stereogeni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2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61048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0F44-45A2-4703-A333-47D18FCDA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195120" y="1676520"/>
            <a:ext cx="872028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4D51-607B-4ECC-AC90-A9D584793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320" y="8827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Disegnare i Centri Stereogenici con R o 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1"/>
          <a:stretch/>
        </p:blipFill>
        <p:spPr>
          <a:xfrm>
            <a:off x="228600" y="1468440"/>
            <a:ext cx="88390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7C7B-D8F0-4942-A8A6-B6A505426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76320" y="8827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Disegnare i Centri Stereogenici con R o 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1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73288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93C8-86CE-4BC9-B0CB-96503A840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3048120" y="24300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76320" y="7621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183240" y="1447920"/>
            <a:ext cx="2949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orientare correttament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gruppo a priorità minore: Esemp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1" descr=""/>
          <p:cNvPicPr/>
          <p:nvPr/>
        </p:nvPicPr>
        <p:blipFill>
          <a:blip r:embed="rId1"/>
          <a:stretch/>
        </p:blipFill>
        <p:spPr>
          <a:xfrm>
            <a:off x="501480" y="2286000"/>
            <a:ext cx="780444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AB6B-25CD-494A-BB72-905B1E0A2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3048120" y="4255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76320" y="146376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una molecola con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entri stereogenici, il numero massimo di stereoisomeri è 2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Consideriamo un procedura a stadi per trovare tutti i possibili stereoisomeri del 2,3-dibromopent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6320" y="99072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1"/>
          <a:stretch/>
        </p:blipFill>
        <p:spPr>
          <a:xfrm>
            <a:off x="380880" y="3205080"/>
            <a:ext cx="815832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95AD-FA39-4E51-A113-70D3124BC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048120" y="3049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76320" y="1295280"/>
            <a:ext cx="86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 è stato scritto correttamente il composto e la sua immagine speculare, si devono fare solo due cose per vedere se gli atomi si allineano: sistemare B direttamente su A, quindi ruotare B a 18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er vedere se gli atomi si allineano con 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76320" y="83808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ht05_02a"/>
          <p:cNvPicPr/>
          <p:nvPr/>
        </p:nvPicPr>
        <p:blipFill>
          <a:blip r:embed="rId1"/>
          <a:srcRect l="27563" t="64546" r="15022" b="6999"/>
          <a:stretch/>
        </p:blipFill>
        <p:spPr>
          <a:xfrm>
            <a:off x="1828800" y="2849400"/>
            <a:ext cx="5715000" cy="21034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76320" y="512136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questo caso gli atomi di A e B non si allineano, e pertanto A e B non sono immagini speculari sovrapponibili—cioè sono enantiomeri. A e B sono perciò due dei quattro possibili stereoisomeri del 2,3-dibromopent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2761-E9E4-44FF-89AF-52D5AF382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3048120" y="763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76320" y="911160"/>
            <a:ext cx="8686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cambiando la posizione di H e Br (o di altri due gruppi) sul centro stereogenico di A (oppure di B) si forma un nuovo stereoisomero (indicato con C), che è differente sia da A che da B. L’immagine speculare di C è indicata con D. C e D sono enantiome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76320" y="45720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76320" y="586728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li stereoisomeri che non sono immagini speculari l’uno dell’altro son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diastereoisomer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Per esempio, A e C sono diastereoisome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1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53452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34B7-BAAF-4E6C-89D7-4D4B916A1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52280" y="1066680"/>
            <a:ext cx="86868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isomeri sono composti diversi aventi la stessa formula molecol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due principali classi di isomeri sono gli isomer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stituziona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gli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ereois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li is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stituzionali (o strutturali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no nomi IUPAC differenti, gruppi funzionali uguali o diversi,  diverse proprietà fisiche e diverse proprietà chim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li stereois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fferiscono solo per il modo in cui gli atomi sono disposti nello spazio. Hanno identici nomi IUPAC (eccetto per il prefiss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Hanno sempre gli stessi gruppi funzion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particolare disposizione tridimensionale è chiamat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figuraz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li stereoisomeri hanno differenti configurazion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due Principali Classi di Isomer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78C4-B0DF-425A-AE22-78BA9657F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0" descr=""/>
          <p:cNvPicPr/>
          <p:nvPr/>
        </p:nvPicPr>
        <p:blipFill>
          <a:blip r:embed="rId1"/>
          <a:stretch/>
        </p:blipFill>
        <p:spPr>
          <a:xfrm>
            <a:off x="762120" y="2519280"/>
            <a:ext cx="7804080" cy="30434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"/>
          <p:cNvSpPr/>
          <p:nvPr/>
        </p:nvSpPr>
        <p:spPr>
          <a:xfrm>
            <a:off x="3048120" y="27288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76320" y="83808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304920" y="48006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9920" y="1523880"/>
            <a:ext cx="189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epilogo: i quattro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reoisomeri del 2,3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bromopentan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9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364968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DBB9-CB28-45CA-9166-DAE3C7D6D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048120" y="763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76320" y="91116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ideriamo gli stereoisomeri del 2,3-dibromobutano. Poichè questa molecola ha due centri stereogenici, il numero massimo di stereoisomeri è 4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76320" y="53352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ti Mes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76320" y="327672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ovare tutti gli stereoisomeri del 2,3-dibromobutano, aggiungere arbitrariamente i gruppi H, Br e CH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i centri stereogenici, formando così lo stereoisomero A, e quindi disegnare la sua immagine speculare B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9" descr="0026"/>
          <p:cNvPicPr/>
          <p:nvPr/>
        </p:nvPicPr>
        <p:blipFill>
          <a:blip r:embed="rId1"/>
          <a:stretch/>
        </p:blipFill>
        <p:spPr>
          <a:xfrm>
            <a:off x="3733920" y="1905120"/>
            <a:ext cx="1981080" cy="1306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0010"/>
          <p:cNvPicPr/>
          <p:nvPr/>
        </p:nvPicPr>
        <p:blipFill>
          <a:blip r:embed="rId2"/>
          <a:stretch/>
        </p:blipFill>
        <p:spPr>
          <a:xfrm>
            <a:off x="1066680" y="4800600"/>
            <a:ext cx="693432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79DA-0D8B-457D-89A6-D935AB3E5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048120" y="763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76320" y="911160"/>
            <a:ext cx="8686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ovare gli altri due stereoisomeri (se esistono), scambiare le posizioni dei due gruppi sullo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stess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entro stereogenico di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un sol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nantiomero. In questo caso, scambiando la posizione di H e Br su un centro stereogenico di A, si forma C, che è differente sia da A che da B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76320" y="45720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ti Mes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76320" y="6019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compost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mes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un composto achirale che contiene centri stereogenici tetraedrici. C è un composto mes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0029"/>
          <p:cNvPicPr/>
          <p:nvPr/>
        </p:nvPicPr>
        <p:blipFill>
          <a:blip r:embed="rId1"/>
          <a:stretch/>
        </p:blipFill>
        <p:spPr>
          <a:xfrm>
            <a:off x="1066680" y="2540160"/>
            <a:ext cx="69343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CF50-A7A7-4C2F-AA5A-2FC2E4F0D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28600" y="1066680"/>
            <a:ext cx="86868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composto C contiene un piano si simmetria, e quindi è achiral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 composti meso contengono un piano di simmet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perciò sono caratterizzati da due metà ident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osti Mes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0030"/>
          <p:cNvPicPr/>
          <p:nvPr/>
        </p:nvPicPr>
        <p:blipFill>
          <a:blip r:embed="rId1"/>
          <a:stretch/>
        </p:blipFill>
        <p:spPr>
          <a:xfrm>
            <a:off x="3505320" y="2749680"/>
            <a:ext cx="2100240" cy="2889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228600" y="5594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uno stereoisomero del 2,3-dibromobutano è sovrapponibile alla sua immagine speculare, ci sono solo tre stereoisomeri, non quatt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AE24-70B7-48ED-8B22-64047A851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3" descr=""/>
          <p:cNvPicPr/>
          <p:nvPr/>
        </p:nvPicPr>
        <p:blipFill>
          <a:blip r:embed="rId1"/>
          <a:stretch/>
        </p:blipFill>
        <p:spPr>
          <a:xfrm>
            <a:off x="669960" y="2451240"/>
            <a:ext cx="7804080" cy="34923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"/>
          <p:cNvSpPr/>
          <p:nvPr/>
        </p:nvSpPr>
        <p:spPr>
          <a:xfrm>
            <a:off x="3048120" y="1666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osti Mes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429840" y="1371600"/>
            <a:ext cx="16772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epilogo: i t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reoisomeri d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,3-dibromobutan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4" descr=""/>
          <p:cNvPicPr/>
          <p:nvPr/>
        </p:nvPicPr>
        <p:blipFill>
          <a:blip r:embed="rId2"/>
          <a:stretch/>
        </p:blipFill>
        <p:spPr>
          <a:xfrm>
            <a:off x="76320" y="5638680"/>
            <a:ext cx="251460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4F8D-B473-48CD-B5A6-4CD772241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3048120" y="1666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un composto ha più di un centro stereogenico, la configurazio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 essere assegnata a ciascuno di ess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52280" y="71424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segnazione di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ed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n composti con due o più Centri Stereogenici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0031"/>
          <p:cNvPicPr/>
          <p:nvPr/>
        </p:nvPicPr>
        <p:blipFill>
          <a:blip r:embed="rId1"/>
          <a:stretch/>
        </p:blipFill>
        <p:spPr>
          <a:xfrm>
            <a:off x="2362320" y="2792520"/>
            <a:ext cx="4952880" cy="14745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0"/>
          <p:cNvSpPr/>
          <p:nvPr/>
        </p:nvSpPr>
        <p:spPr>
          <a:xfrm>
            <a:off x="2743200" y="423540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o stereoisomero del 2,3-dibromopentan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2666880" y="46162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Nome completo: (2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,3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)-2,3-dibromopentan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4" descr=""/>
          <p:cNvPicPr/>
          <p:nvPr/>
        </p:nvPicPr>
        <p:blipFill>
          <a:blip r:embed="rId2"/>
          <a:stretch/>
        </p:blipFill>
        <p:spPr>
          <a:xfrm>
            <a:off x="152280" y="5102280"/>
            <a:ext cx="87631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43AF-7244-4862-9D64-E96067101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28600" y="83808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deriamo l’1,3-dibromociclopentano. Dal momento che ha due centri stereogenici, questa molecola ha un numero massimo di quattro stereoisomer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cloalcani Disostitui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9" descr="0033a"/>
          <p:cNvPicPr/>
          <p:nvPr/>
        </p:nvPicPr>
        <p:blipFill>
          <a:blip r:embed="rId1"/>
          <a:stretch/>
        </p:blipFill>
        <p:spPr>
          <a:xfrm>
            <a:off x="3352680" y="2101680"/>
            <a:ext cx="2438640" cy="11750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0"/>
          <p:cNvSpPr/>
          <p:nvPr/>
        </p:nvSpPr>
        <p:spPr>
          <a:xfrm>
            <a:off x="228600" y="3292560"/>
            <a:ext cx="86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ordare che un cicloalcano disostituito può avere i due sostituenti dalla stessa parte dell’anello (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indicato con A) o da parti opposte (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indicato con B). Questi composti sono stereoisomeri, ma non reciproca immagine specular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3" descr=""/>
          <p:cNvPicPr/>
          <p:nvPr/>
        </p:nvPicPr>
        <p:blipFill>
          <a:blip r:embed="rId2"/>
          <a:stretch/>
        </p:blipFill>
        <p:spPr>
          <a:xfrm>
            <a:off x="3192480" y="4921200"/>
            <a:ext cx="427500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BAFA-42B5-4E23-BB00-328E4A00D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228600" y="156996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Per trovare gli altri due stereoisomeri (se esistono)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egnare l’immagine speculare di ciascun composto e determinare se il composto e la propria immagine speculare sono sovrapponibi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cloalcani Disostitui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228600" y="533412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è sovrapponibile alla sua immagine speculare, e perciò le due molecole sono identiche. Quindi A è un composto achirale mes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0033c"/>
          <p:cNvPicPr/>
          <p:nvPr/>
        </p:nvPicPr>
        <p:blipFill>
          <a:blip r:embed="rId1"/>
          <a:stretch/>
        </p:blipFill>
        <p:spPr>
          <a:xfrm>
            <a:off x="533520" y="2949480"/>
            <a:ext cx="822960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8C2E-99A7-4B84-BB0F-372251AFA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28600" y="156996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non è sovrapponibile alla sua immagine speculare, indicata con C, e perciò B e C sono composti differenti. B e  C sono enantiomer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cloalcani Disostitui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28600" y="533412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ichè uno stereoisomero dell’1,3-dibromociclopentano è sovrapponibile alla sua immagine speculare, ci sono solo tre stereoisomeri, non quattro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7" descr="0033d"/>
          <p:cNvPicPr/>
          <p:nvPr/>
        </p:nvPicPr>
        <p:blipFill>
          <a:blip r:embed="rId1"/>
          <a:stretch/>
        </p:blipFill>
        <p:spPr>
          <a:xfrm>
            <a:off x="762120" y="2743200"/>
            <a:ext cx="76960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3531-2B52-4E4B-9417-92572CA3A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203760" y="1143000"/>
            <a:ext cx="2413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mari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— I tipi di isome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3" descr=""/>
          <p:cNvPicPr/>
          <p:nvPr/>
        </p:nvPicPr>
        <p:blipFill>
          <a:blip r:embed="rId1"/>
          <a:stretch/>
        </p:blipFill>
        <p:spPr>
          <a:xfrm>
            <a:off x="380880" y="1771560"/>
            <a:ext cx="78044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3E43-BA83-4EAB-A0DA-1E4D05D6C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3124080" y="380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21040" y="1371600"/>
            <a:ext cx="2475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ronto tra isome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stituzionali e stereoisome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78044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3F39-D1BD-42AD-B999-C544BA656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26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33"/>
          <p:cNvSpPr/>
          <p:nvPr/>
        </p:nvSpPr>
        <p:spPr>
          <a:xfrm>
            <a:off x="44280" y="625320"/>
            <a:ext cx="23248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determinare l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zione tra due molecol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 identich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035" descr=""/>
          <p:cNvPicPr/>
          <p:nvPr/>
        </p:nvPicPr>
        <p:blipFill>
          <a:blip r:embed="rId1"/>
          <a:stretch/>
        </p:blipFill>
        <p:spPr>
          <a:xfrm>
            <a:off x="762120" y="1690560"/>
            <a:ext cx="727056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C2E0-EC81-4771-AAE3-101713890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228600" y="1143000"/>
            <a:ext cx="86868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proprietà chimiche e fisiche di due enantiomeri sono identiche eccetto che nella loro interazione con altre sostenze chirali. Hanno identiche proprietà fisiche, eccetto che per il modo con cui interagiscono con l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uce piano-polarizz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ce piano-polarizzat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 luce polarizzata)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la luce che possiede un vettore elettrico oscillante in un solo piano. La luce piano-polarizzata deriva dal passaggio della luce ordinaria attraverso un polarizzator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larimetr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uno strumento che consente alla luce polarizzata di attraversare un tubo porta-campione contenente un composto organico. Permette quindi la misura dell’angolo (in gradi) di cui un composto organico ruota il piano della luce polarizz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52280" y="6094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5E9D-92C9-49BD-A815-A0B53FC50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228600" y="13273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composti achirali, la luce che esce dal porta-campione non risulta modificata. Un composto che non modifica il piano della luce polarizzata è dett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tticamente inattiv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0036b"/>
          <p:cNvPicPr/>
          <p:nvPr/>
        </p:nvPicPr>
        <p:blipFill>
          <a:blip r:embed="rId1"/>
          <a:srcRect l="0" t="212" r="0" b="0"/>
          <a:stretch/>
        </p:blipFill>
        <p:spPr>
          <a:xfrm>
            <a:off x="380880" y="2852640"/>
            <a:ext cx="8305920" cy="36244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152280" y="66996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7458-1188-4174-8DF2-39BCD6A03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228600" y="1125360"/>
            <a:ext cx="868680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 composti chirali, il piano della luce polarizzata viene invece ruotato di un angolo 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L’angolo 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è misurato in gradi 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, ed è chiamato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rotazione osservat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 composto che ruota il piano della luce polarizzata è detto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otticamente attiv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0037"/>
          <p:cNvPicPr/>
          <p:nvPr/>
        </p:nvPicPr>
        <p:blipFill>
          <a:blip r:embed="rId1"/>
          <a:stretch/>
        </p:blipFill>
        <p:spPr>
          <a:xfrm>
            <a:off x="533520" y="2936880"/>
            <a:ext cx="8153280" cy="36352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7"/>
          <p:cNvSpPr/>
          <p:nvPr/>
        </p:nvSpPr>
        <p:spPr>
          <a:xfrm>
            <a:off x="152280" y="6094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4B5E-172A-4465-B8E2-E97CD7631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048120" y="903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228600" y="1143000"/>
            <a:ext cx="868680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rotazione della luce polarizzata può essere in senso orario o antiora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la rotazione è in senso orario (verso destra rispetto alle ore 12), il composto è dett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strorotato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rotazione è indicata con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la rotazione è in senso antiorario (verso sinistra rispetto alle 12), il composto è dett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vorotato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rotazione è indicata con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ue enantiomeri ruotano la luce piano-polarizzata di un valore uguale, ma nella direzione oppost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Perciò, se l’enantiomero A ruota la luce polarizzata di +5°, allora la stessa concentrazione dell’enantiomero B ruota di  -5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on esiste nessuna relazione fra i prefissi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e le designazioni (+) e (-), che indicano la rotazione ott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52280" y="6094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8795-E57F-4338-AE0C-584885C3E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3048120" y="228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228600" y="1506600"/>
            <a:ext cx="86868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na quantità uguale di due enantiomeri è chiamata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miscela racemic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racemat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a miscela racemica è otticamente inattiva. Poichè due enantiomeri ruotano la luce piano-polarizzata di un valore uguale, ma in direzioni opposte, le rotazioni si annullano, e non viene osservata nessuna rotazione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52280" y="8380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-Miscele racemiche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phyiscal_properties_tb_764"/>
          <p:cNvPicPr/>
          <p:nvPr/>
        </p:nvPicPr>
        <p:blipFill>
          <a:blip r:embed="rId1"/>
          <a:stretch/>
        </p:blipFill>
        <p:spPr>
          <a:xfrm>
            <a:off x="533520" y="3933720"/>
            <a:ext cx="800100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07AD-F7E1-42E8-BE4D-EF65D08B0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228600" y="1603440"/>
            <a:ext cx="86868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a rotazione specific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è una costante fisica standardizzata ed è funzione della concentrazione. La rotazione specifica è indicata con il simbolo [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] e tiene conto della lunghezza del tubo porta-campione (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 in dm), della concentrazione (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 g/mL), della temperatura (25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) e della lunghezza d’onda della radiazione utilizzata (589 nm)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0041"/>
          <p:cNvPicPr/>
          <p:nvPr/>
        </p:nvPicPr>
        <p:blipFill>
          <a:blip r:embed="rId1"/>
          <a:stretch/>
        </p:blipFill>
        <p:spPr>
          <a:xfrm>
            <a:off x="533520" y="4565520"/>
            <a:ext cx="8076960" cy="16830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7"/>
          <p:cNvSpPr/>
          <p:nvPr/>
        </p:nvSpPr>
        <p:spPr>
          <a:xfrm>
            <a:off x="152280" y="974880"/>
            <a:ext cx="883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-Miscele Racemiche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63E0-9A42-4FF0-B2E4-93146856A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228600" y="1143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eccesso enantiomerico (purezza ottic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a misura di quanto un enantiomero è presente in eccesso rispetto alla miscela racemica. E’ indicato con il simbol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e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52280" y="654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prietà fisiche degli stereoisomeri—Purezza Ott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533520" y="2362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e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% di un enantiomero - % dell’altro enantiome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228600" y="2895480"/>
            <a:ext cx="8686800" cy="30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iamo il seguente esempi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 una miscela contiene il 75% di un enantiomero e il 25% dell’altro, l’eccesso enantiomerico 75% - 25% = 50%. Perciò, c’è un 50% di eccesso di un enantiomero rispetto alla miscela racem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eccesso enantiomerico può essere anche calcolato se sono note la rotazione specifica [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di una miscela e la rotazione specifica [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dell’enantiomero pu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90720" y="60958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e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] miscela / [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] enantiomero puro) x 10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09AD-C58F-435C-A5E2-8E36A2DA0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228600" y="838080"/>
            <a:ext cx="868680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chè due enantiomeri hanno identiche proprietà fisiche, essi non possono essere separati mediante le comuni tecniche fisiche, come la distillazio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 diastereoisomeri e gli isomeri costituzionali hanno differenti proprietà fisic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 perciò possono essere separati mediante le comuni tecniche fisich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52280" y="45720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prietà fisiche degli stereoisomeri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903600" y="3368520"/>
            <a:ext cx="18007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rietà fisiche de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stereoisomer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l’ acido tartari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3498840" y="2573280"/>
            <a:ext cx="47307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25B0-4676-48A9-8D83-2EBE6B054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228600" y="914400"/>
            <a:ext cx="868680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enantiomeri hanno esattamente le stesse proprietà chimiche, eccetto che per le reazioni con reagenti chirali non-racemic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lti farmaci sono chirali e spesso, per svolgere la loro azione terapeutica, devono interagire con recettori o enzimi chirali. Un enantiomero di un farmaco può curare efficacemente una malattia, mentre la sua  immagine speculare può essere inefficace o tossic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152280" y="54756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prietà chimiche degli Enantiomeri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" descr="0044a"/>
          <p:cNvPicPr/>
          <p:nvPr/>
        </p:nvPicPr>
        <p:blipFill>
          <a:blip r:embed="rId1"/>
          <a:stretch/>
        </p:blipFill>
        <p:spPr>
          <a:xfrm>
            <a:off x="1752480" y="2971800"/>
            <a:ext cx="5639040" cy="15350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0044b"/>
          <p:cNvPicPr/>
          <p:nvPr/>
        </p:nvPicPr>
        <p:blipFill>
          <a:blip r:embed="rId2"/>
          <a:stretch/>
        </p:blipFill>
        <p:spPr>
          <a:xfrm>
            <a:off x="1447920" y="4572000"/>
            <a:ext cx="6248160" cy="18111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785D-7114-4CB8-AD94-E93458AED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3048120" y="16668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28600" y="1066680"/>
            <a:ext cx="868680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bbene ogni oggetto abbia la propria immagine speculare, le immagini speculari possono o non possono essere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vrapponibi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une molecole sono come le mani. La mano destra e la mano sinistra sono una l’immagine speculare dell’altra, ma non sono identiche,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vrapponibi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28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304920" y="3747960"/>
            <a:ext cx="80010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7C32-8251-4FA6-BAC5-0E7B5D5D2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76320" y="7621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antiomeri e senso dell’olfatt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28600" y="1227240"/>
            <a:ext cx="8686800" cy="19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icerca suggerisce che l’odore di una particolare molecola è determinato più dalla sua forma che dalla presenza di particolari gruppi funzional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gli enantiomeri interagiscono con i recettori dell’olfatto, alcuni enantiomeri hanno odore divers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2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73533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019D-8AD2-4763-9598-73D01C8BE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76320" y="762120"/>
            <a:ext cx="8762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antiomeri e Senso dell’Olfatto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145440" y="1371600"/>
            <a:ext cx="24238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hape of molecules 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ense of smel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777240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4E27-EE71-492A-B9FD-C2E74764A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3048120" y="16668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52280" y="1143000"/>
            <a:ext cx="5029200" cy="56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re molecole sono come le calze. Due calze formano una coppia di immagini speculari che sono sovrapponibili. Una calza e la sua immagine speculare sono dunque ident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o un oggetto che è sovrapponibile alla sua immagine speculare è dett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chir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o un oggetto che non è sovrapponibile alla sua immagine speculare è detta 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5228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0006"/>
          <p:cNvPicPr/>
          <p:nvPr/>
        </p:nvPicPr>
        <p:blipFill>
          <a:blip r:embed="rId1"/>
          <a:stretch/>
        </p:blipFill>
        <p:spPr>
          <a:xfrm>
            <a:off x="5481720" y="1600200"/>
            <a:ext cx="34336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31B2-AACB-41D0-B2F7-A429EE954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3048120" y="7632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iamo alcune molecole per determinare se sono o non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hira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52280" y="762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0007a"/>
          <p:cNvPicPr/>
          <p:nvPr/>
        </p:nvPicPr>
        <p:blipFill>
          <a:blip r:embed="rId1"/>
          <a:stretch/>
        </p:blipFill>
        <p:spPr>
          <a:xfrm>
            <a:off x="1523880" y="2306520"/>
            <a:ext cx="609624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C473-6861-4507-86E7-E40DDA8CC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2971800" y="0"/>
            <a:ext cx="30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28600" y="762120"/>
            <a:ext cx="86868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molecola A e la sua immagine speculare B non sono sovrapponibili. Non importa come A e B siano ruotati, non sarà mai possibile sovrapporre tutti i loro atomi. Inoltre, CHBrClF è una molecola chirale, e A e B sono composti different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e B sono stereoisomeri—più precisamente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anti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atomo di carbonio legato a quattro gruppi differenti è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ent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ereogenic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traed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52280" y="425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1"/>
          <a:stretch/>
        </p:blipFill>
        <p:spPr>
          <a:xfrm>
            <a:off x="1114560" y="4191120"/>
            <a:ext cx="6734160" cy="27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4F1E-BD66-4831-A955-13A383F72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8600" y="1841400"/>
            <a:ext cx="86868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e, una molecola senza centri stereogenici non è chirale. Esistono tuttavia alcune eccezioni a questa generalizz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un centro stereogenico tetraedrico, la molecola è sempre 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due o più centri stereogenici, una molecola può essere o non essere 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molecole achirali contengono un pia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 simmet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mentre quelle chirali no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Un piano di simmetria è un pian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 taglia la molecola a metà, in modo tale che una metà è il riflesso dell’alt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19T15:55:31Z</dcterms:modified>
  <cp:revision>600</cp:revision>
  <dc:subject/>
  <dc:title>PowerPoint Presentation</dc:title>
</cp:coreProperties>
</file>