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9.png" ContentType="image/png"/>
  <Override PartName="/ppt/media/image34.png" ContentType="image/png"/>
  <Override PartName="/ppt/media/image44.jpeg" ContentType="image/jpeg"/>
  <Override PartName="/ppt/media/image12.png" ContentType="image/png"/>
  <Override PartName="/ppt/media/image32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13.png" ContentType="image/pn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11.png" ContentType="image/png"/>
  <Override PartName="/ppt/media/image45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5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DD3D-B1D0-4968-8BBB-B279FF92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ADA5-EC8B-4C43-9399-234D444A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B7AC-B0D3-4D07-9A1A-7D87D7DF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C96-3FBB-4C48-A4A5-7CCF742F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5A6-FDAC-4AC4-8A73-F70141CD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53E-9972-4A7E-876F-3DCD8BFE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FBB-02FD-4EED-B8B4-EBF13391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73C-4681-46A9-AFCE-537A5B11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D7C7-6697-4FB6-B8C0-FB060577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0C9-015B-42AB-AA08-DD15F18C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0D8-B23D-4EE1-855F-B831E8A6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02C-2D5F-4884-9BE5-D2E3AE10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9F5E-EB2E-476D-AA60-C40D0B171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6228-E977-41C8-9E45-EF545384E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396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54600" y="380988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olo 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3742-CAA1-4802-A045-6BB91258F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533520" y="1666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28600" y="12952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usa della rotazione impedita, sono possibili due stereoisomeri per il 2-butene. I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e i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sono stereoisomeri, ma non sono reciproca immagine speculare: sono perciò diastereoisome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0004a"/>
          <p:cNvPicPr/>
          <p:nvPr/>
        </p:nvPicPr>
        <p:blipFill>
          <a:blip r:embed="rId1"/>
          <a:stretch/>
        </p:blipFill>
        <p:spPr>
          <a:xfrm>
            <a:off x="1600200" y="3092400"/>
            <a:ext cx="58672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F7AE-FB08-4A27-B1C9-859181A28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60948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volta che su ogni estremità del doppio legame carbonio-carbonio i due gruppi sono diversi l’uno dall’altro, sono possibili due diastereoisome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0004b"/>
          <p:cNvPicPr/>
          <p:nvPr/>
        </p:nvPicPr>
        <p:blipFill>
          <a:blip r:embed="rId1"/>
          <a:stretch/>
        </p:blipFill>
        <p:spPr>
          <a:xfrm>
            <a:off x="533520" y="3352680"/>
            <a:ext cx="80769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62C8-7D11-46A6-8C00-56F157EE9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57200" y="395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8600" y="16318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e, gli alchen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no più stabili degli alchen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erchè i gruppi legati ai carboni del doppio legame sono ben lontani, riducendo così le interazioni ster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0004c"/>
          <p:cNvPicPr/>
          <p:nvPr/>
        </p:nvPicPr>
        <p:blipFill>
          <a:blip r:embed="rId1"/>
          <a:stretch/>
        </p:blipFill>
        <p:spPr>
          <a:xfrm>
            <a:off x="533520" y="3435480"/>
            <a:ext cx="807696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9FC4-A523-4CBB-8887-5A0B6022D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609480" y="1666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8600" y="12193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abilità di un alchene aumenta con il numero di gruppi R legati al doppio lega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05a"/>
          <p:cNvPicPr/>
          <p:nvPr/>
        </p:nvPicPr>
        <p:blipFill>
          <a:blip r:embed="rId1"/>
          <a:stretch/>
        </p:blipFill>
        <p:spPr>
          <a:xfrm>
            <a:off x="533520" y="2133720"/>
            <a:ext cx="8153280" cy="1773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228600" y="3917880"/>
            <a:ext cx="868680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ù alta è la percentuale di caratte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più facilmente un atomo accetta densità elettronica. Perciò i carbon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no maggiormente in grado di accettare densità elettronica e gli atomi di carbonio ibridat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no maggiormente in grado di donare densità elettronica 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 conseguenza, aumentare il numero di gruppi elettron-donatori su un atomo in grado di accettare densità elettronica rende l’alchene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2487-C8F1-42CF-98E5-E0A8DC270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7240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(un alchene disostituito) è più stabile d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(un altro alchene disostituito), ma entrambi sono più stabili dell’1-butene (un alchene monosostituito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2280" y="1143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005c"/>
          <p:cNvPicPr/>
          <p:nvPr/>
        </p:nvPicPr>
        <p:blipFill>
          <a:blip r:embed="rId1"/>
          <a:stretch/>
        </p:blipFill>
        <p:spPr>
          <a:xfrm>
            <a:off x="990720" y="3552840"/>
            <a:ext cx="72388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288C-005C-44A7-A29D-6A3F4302A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38088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698480"/>
            <a:ext cx="86868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due meccanismi per l’eliminazione—E2 e E1, proprio come ci sono due meccanismi per la sostituzione nucleofila,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E2 — eliminazione bimolecul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E1 — eliminazione monomolecul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meccanismi E2 e E1 differiscono per i momenti in cui avvengono la rottura e la formazione dei legami, in analogia ai meccanismi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E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hanno alcune caratteristiche in comune, come pure la E1 e la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0678-0C97-4023-B664-B6B7F762C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28600" y="1546200"/>
            <a:ext cx="8686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più comune per la deidroalogenazione è quello E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2 segue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netica del secondo ord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sia l’alogenuro alchilico che la base compaiono nell’equazione di velocità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09680" y="388620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locità = k[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Br]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" y="4664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azio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cert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tutti i legami sono scissi e formati in un unico stad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B013-16F7-4051-854F-589492B9E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mechanism_1_c_la_764"/>
          <p:cNvPicPr/>
          <p:nvPr/>
        </p:nvPicPr>
        <p:blipFill>
          <a:blip r:embed="rId1"/>
          <a:stretch/>
        </p:blipFill>
        <p:spPr>
          <a:xfrm>
            <a:off x="457200" y="2332080"/>
            <a:ext cx="800100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7848-B9E7-4892-9999-83AB92617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62120" y="1752480"/>
            <a:ext cx="1933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ma di ene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una reazione E2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1"/>
          <a:stretch/>
        </p:blipFill>
        <p:spPr>
          <a:xfrm>
            <a:off x="0" y="3527280"/>
            <a:ext cx="3352680" cy="1430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209052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3352680" y="1523880"/>
            <a:ext cx="57150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33A8-DB5F-4431-861A-E93B9B70B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685800" y="76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28600" y="1600200"/>
            <a:ext cx="8686800" cy="29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’è uno stretto parallelismo fra i meccanismi E2 e S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 per come la velocità è influenzata dalla natura della base, del gruppo uscente e dal solve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base compare nell’equazione di velocità, pertanto la velocità della reazione E2 aumenta all’aumentare della forza della bas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reazioni E2 sono generalmente condotte con basi forti cariche negativamente, c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H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0B6A-D745-49F4-B59C-E345E838D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60948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di eliminazione comportano una perdita di elementi da parte del materiale di partenza per formare un nuovo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l prodot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19240" y="3043080"/>
            <a:ext cx="84675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62B3-AF11-433C-B776-F7E23EB32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57200" y="471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52280" y="12636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1"/>
          <a:stretch/>
        </p:blipFill>
        <p:spPr>
          <a:xfrm>
            <a:off x="228600" y="2322360"/>
            <a:ext cx="8691480" cy="2478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2"/>
          <a:stretch/>
        </p:blipFill>
        <p:spPr>
          <a:xfrm>
            <a:off x="228600" y="5037120"/>
            <a:ext cx="861048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0F2F-9A42-419E-8D2C-AF92E48AC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533520" y="471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28600" y="1752480"/>
            <a:ext cx="8686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meccanismi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E2 differiscono nel modo in cui il gruppo R influenza la velocità della re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228600" y="3049560"/>
            <a:ext cx="87454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84F1-7207-4F05-8993-2CD47C904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533520" y="380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28600" y="1639800"/>
            <a:ext cx="868680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umentare della velocità della reazione E2 all’aumentare dei sostituenti alchilici può essere razionalizzata in termini di stabilità dello stato di transi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o stato di transizione il doppio legame è parzialmente formato. Perciò, aumentare la stabiltà del doppio legame con i sostituenti alchilici stabilizza lo stato di transizione (cioè si abbassa la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e questo fa aumentare la velocità della rea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52280" y="1066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609480" y="4446720"/>
            <a:ext cx="74678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5B6C-5263-498C-8D0A-85A271C22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010280" cy="3959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"/>
          <p:cNvSpPr/>
          <p:nvPr/>
        </p:nvSpPr>
        <p:spPr>
          <a:xfrm>
            <a:off x="609480" y="76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28600" y="838080"/>
            <a:ext cx="868680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e reazioni  E2, aumentando il numero dei gruppi R sul carbonio che contiene il gruppo uscente, si forma un alchene più sostituito e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e reazioni seguenti, poichè l’alchene disostituito è più stabile, l’alogenuro alchilico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reagisce più velocemente dell’alogenuro alchilico 1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9B75-9109-4A1C-A9C4-53CEFFD9B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380880" y="243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28600" y="1554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abella 8.2 riassume le caratteristiche del meccanismo E2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characteristicse2_m_tb_764"/>
          <p:cNvPicPr/>
          <p:nvPr/>
        </p:nvPicPr>
        <p:blipFill>
          <a:blip r:embed="rId1"/>
          <a:stretch/>
        </p:blipFill>
        <p:spPr>
          <a:xfrm>
            <a:off x="457200" y="2278080"/>
            <a:ext cx="82296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8106-CB8C-4BA3-A1C4-4CAB736BB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533520" y="763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28600" y="1066680"/>
            <a:ext cx="8686800" cy="30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quando gli alogenuri alchilici hanno due o più atomi di carbonio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versi, si può formare una miscela di alche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accade questo, uno dei prodotti generalmente è più abbonda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rodotto principale è il prodotto più stabile — quello con il doppio legame più sostituit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o fenomeno è chiamat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regola di Zaitsev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57200" y="609480"/>
            <a:ext cx="541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0010"/>
          <p:cNvPicPr/>
          <p:nvPr/>
        </p:nvPicPr>
        <p:blipFill>
          <a:blip r:embed="rId1"/>
          <a:stretch/>
        </p:blipFill>
        <p:spPr>
          <a:xfrm>
            <a:off x="609480" y="4141800"/>
            <a:ext cx="80773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7BC0-631B-4A3F-BCC6-3D758FF8F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990720" y="34920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28600" y="1957320"/>
            <a:ext cx="868680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gola di Zaitsev: nell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eliminazioni il prodotto principale presenta il doppio legame più sostitui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a reazione è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egioselettiv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fornisce in maniera predominante o esclusiva un isomero costituzionale, quando è possibile ottenerne più di uno. La reazione E2 è regioselettiv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52280" y="115740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0176-4363-4FEB-83F4-41DFD3988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533520" y="152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28600" y="1295280"/>
            <a:ext cx="868680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è possibile formare una miscela di stereoisomeri mediante deidroalogenazione, il prodotto maggioritario è l’isomero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reazione è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ereoselettiv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 forma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maniera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dominante o esclusiva uno stereoisomero, quando due o più sono possibi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reazione E2 è stereoselettiva perchè porta alla formazione preferenziale di uno stereoisomer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0011b"/>
          <p:cNvPicPr/>
          <p:nvPr/>
        </p:nvPicPr>
        <p:blipFill>
          <a:blip r:embed="rId1"/>
          <a:stretch/>
        </p:blipFill>
        <p:spPr>
          <a:xfrm>
            <a:off x="762120" y="4343400"/>
            <a:ext cx="74674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CAEF-E2ED-48BE-BC3F-8F8C9CBF9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457200" y="76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28600" y="990720"/>
            <a:ext cx="8686800" cy="17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deidroalogenazione di 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CI con 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per formare 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=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uò essere usata per illustrare il secondo meccanismo generale delle eliminazioni, il meccanismo E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reazione E1 ha una cinetica del primo ordin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743200" y="2590920"/>
            <a:ext cx="4038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locità = k[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CI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28600" y="2971800"/>
            <a:ext cx="868680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reazione E1 avviene attraverso un meccanismo a due stadi: il legame del gruppo uscente si scinde prima che il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 formi. Lo stadio lento è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onomolecolar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coinvolgendo solo l’alogenuro alchilic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meccanismi E1 e E2 implicano lo stesso numero di legami scissi e formati. La sola differenza è nella scissione temporale di questi eventi. Nella reazione E1 il gruppo uscente si stacca prima della rimozione del protone in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e la reazione avviene in due stadi. NelIa reazione E2 il gruppo uscente si stacca nel momento in cui il protone in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viene rimosso, e la reazione avviene in un singolo stadi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BE79-2653-4906-B8C4-4EA38F003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609480" y="76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mechanism_2_c_la_764"/>
          <p:cNvPicPr/>
          <p:nvPr/>
        </p:nvPicPr>
        <p:blipFill>
          <a:blip r:embed="rId1"/>
          <a:stretch/>
        </p:blipFill>
        <p:spPr>
          <a:xfrm>
            <a:off x="685800" y="1563840"/>
            <a:ext cx="754380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F8E1-36AD-4B32-88D8-61F2D7FAD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equazioni [1] e [2] mostrano degli esempi di reazioni di eliminazione. In entrambe le reazioni, una base rimuove gli elementi di un acido (HX) dal  materiale organico di part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609480" y="3124080"/>
            <a:ext cx="800100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ADAA-B9E9-4169-BDF5-FAEFAE6A9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533520" y="2430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52720" y="1523880"/>
            <a:ext cx="1933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ma di ene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una reazione E1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"/>
          <p:cNvPicPr/>
          <p:nvPr/>
        </p:nvPicPr>
        <p:blipFill>
          <a:blip r:embed="rId1"/>
          <a:stretch/>
        </p:blipFill>
        <p:spPr>
          <a:xfrm>
            <a:off x="39600" y="3657600"/>
            <a:ext cx="2475000" cy="1595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"/>
          <p:cNvPicPr/>
          <p:nvPr/>
        </p:nvPicPr>
        <p:blipFill>
          <a:blip r:embed="rId2"/>
          <a:stretch/>
        </p:blipFill>
        <p:spPr>
          <a:xfrm>
            <a:off x="76320" y="2370240"/>
            <a:ext cx="2057400" cy="449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64008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0D97-E7D0-40CF-8DDA-48550A34D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locità di una reazione E1 aumenta all’aumentare dei gruppi R presenti sul carbonio recante il gruppo uscent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52280" y="77616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0013"/>
          <p:cNvPicPr/>
          <p:nvPr/>
        </p:nvPicPr>
        <p:blipFill>
          <a:blip r:embed="rId1"/>
          <a:stretch/>
        </p:blipFill>
        <p:spPr>
          <a:xfrm>
            <a:off x="2438280" y="2057400"/>
            <a:ext cx="4267440" cy="31147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517860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orza della base in generale determina se una reazione di eliminazione segue il meccanismo E1 o E2. Basi forti c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H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R favoriscono le reazioni E2, mentre le basi deboli come 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 e ROH favoriscono le E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5720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BFA8-5D8A-496F-B039-6D5D79844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533520" y="31896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28600" y="1523880"/>
            <a:ext cx="86868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E1 sono regioselettive, e favoriscono la formazione dell’alchene più sostituito e quindi più stabi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gola di Zaitsev si applica anche alle reazioni E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0014"/>
          <p:cNvPicPr/>
          <p:nvPr/>
        </p:nvPicPr>
        <p:blipFill>
          <a:blip r:embed="rId1"/>
          <a:stretch/>
        </p:blipFill>
        <p:spPr>
          <a:xfrm>
            <a:off x="990720" y="3260880"/>
            <a:ext cx="716256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894D-A146-4E66-B39E-D7044F9A3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609480" y="2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8600" y="1554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abella 8.3 riassume la caratteristiche del meccanismo E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characteristics_e1_tb_764"/>
          <p:cNvPicPr/>
          <p:nvPr/>
        </p:nvPicPr>
        <p:blipFill>
          <a:blip r:embed="rId1"/>
          <a:stretch/>
        </p:blipFill>
        <p:spPr>
          <a:xfrm>
            <a:off x="304920" y="2271600"/>
            <a:ext cx="830556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0995-0C6E-4181-A722-C793F8DCD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523880" y="2286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8600" y="9907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reazioni S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 ed E1 hanno esattamente lo stesso primo stadio, cioè la formazione di un carbocatione. Differiscono per quanto accade successivamente al carbocat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52280" y="533520"/>
            <a:ext cx="8763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azioni S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 ed E1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28600" y="565164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ichè le reazioni E1 avvengono spesso in competizione con le S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 le reazioni E1 degli alogenuri alchilici sono molto meno utili delle reazioni E2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406440" y="1996920"/>
            <a:ext cx="797544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4557-1A25-4F41-AA7C-5E6CB8950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8088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28600" y="14954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forza della base è il fattore più importante nel determinare il meccanismo della eliminazione. Basi forti favoriscono il meccanismo E2, basi deboli il meccanismo E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do un Meccanismo è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comparison_e1_e2_me_tb_764"/>
          <p:cNvPicPr/>
          <p:nvPr/>
        </p:nvPicPr>
        <p:blipFill>
          <a:blip r:embed="rId1"/>
          <a:stretch/>
        </p:blipFill>
        <p:spPr>
          <a:xfrm>
            <a:off x="838080" y="3274920"/>
            <a:ext cx="746784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6545-BC2E-4C67-8030-2F1526A7E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28600" y="1447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singola reazione di eliminazione produce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chene. Due reazioni di eliminazione consecutive producono du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chin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83059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AAEE-F8FB-4678-9025-F0FAE1457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762120" y="76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28600" y="1295280"/>
            <a:ext cx="868680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rimuovere due moli di HX da un dialogenuro come substrato, sono necessarie due reazioni di eliminazio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ono essere usati due diversi tipi di materiale di partenza: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alogenuro vicina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alogenuro gemin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52280" y="762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523800" y="3346560"/>
            <a:ext cx="78580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62E8-5C36-4BC1-AF26-98B79E16B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533520" y="76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28600" y="1087560"/>
            <a:ext cx="868680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intetizzare gli alchini mediante deidroalogenazione sono necessarie basi più forti rispetto a quelle necessarie per la sintesi degli alchen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ipica base è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one ammiduro), usato come sale sodico Na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sodio ammide). Può essere usato anche KO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con DMSO come solv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0020a"/>
          <p:cNvPicPr/>
          <p:nvPr/>
        </p:nvPicPr>
        <p:blipFill>
          <a:blip r:embed="rId1"/>
          <a:stretch/>
        </p:blipFill>
        <p:spPr>
          <a:xfrm>
            <a:off x="533520" y="3622680"/>
            <a:ext cx="815328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7BAD-F4E7-4DAE-A953-021A3FA8F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609480" y="3189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2280" y="1066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84960" y="1676520"/>
            <a:ext cx="2581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empi d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idroalogenazione d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logenuri per formare alchin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"/>
          <p:cNvPicPr/>
          <p:nvPr/>
        </p:nvPicPr>
        <p:blipFill>
          <a:blip r:embed="rId1"/>
          <a:stretch/>
        </p:blipFill>
        <p:spPr>
          <a:xfrm>
            <a:off x="1295280" y="2765520"/>
            <a:ext cx="69660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D2DF-246B-40FB-8D89-805ED9F2A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28600" y="183204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mozione degli elementi HX è chiamata deidroalogen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deidroalogenaz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 esempio d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limin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frecce ricurve mostrano come quattro legami si rompano o si formino in questo proces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0001c"/>
          <p:cNvPicPr/>
          <p:nvPr/>
        </p:nvPicPr>
        <p:blipFill>
          <a:blip r:embed="rId1"/>
          <a:stretch/>
        </p:blipFill>
        <p:spPr>
          <a:xfrm>
            <a:off x="1295280" y="4567320"/>
            <a:ext cx="64008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1B6D-5B54-419D-BB45-AB082EA13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457200" y="152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2280" y="1752480"/>
            <a:ext cx="8686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buoni nucleofili, che sono anche basi deboli, favoriscono la sostituzione rispetto alla eliminazione. Alcuni anioni danno in generale prodotti di sostituzione perchè sono buoni nucleofili, ma basi deboli. Questi comprendono  I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, e 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76320" y="942840"/>
            <a:ext cx="8991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re il Meccanismo dai Reagenti: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0021a"/>
          <p:cNvPicPr/>
          <p:nvPr/>
        </p:nvPicPr>
        <p:blipFill>
          <a:blip r:embed="rId1"/>
          <a:srcRect l="20724" t="45216" r="20724" b="0"/>
          <a:stretch/>
        </p:blipFill>
        <p:spPr>
          <a:xfrm>
            <a:off x="1676520" y="4068720"/>
            <a:ext cx="601956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B047-F467-4D72-9D42-F9774EB30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0880" y="1522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28600" y="1676520"/>
            <a:ext cx="86868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basi stericamente impedite e non nucleofile favoriscono l’eliminazione rispetto alla sostituzione. KO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è troppo stericamente ingombrato per attaccare un carbonio tetravalente, ma è in grado di rimuovere un piccolo protone, favorendo l’eliminazione  rispetto alla sostitu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52280" y="942840"/>
            <a:ext cx="8915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re il Meccanismo dai Reagenti: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0021b"/>
          <p:cNvPicPr/>
          <p:nvPr/>
        </p:nvPicPr>
        <p:blipFill>
          <a:blip r:embed="rId1"/>
          <a:srcRect l="9090" t="44678" r="9090" b="0"/>
          <a:stretch/>
        </p:blipFill>
        <p:spPr>
          <a:xfrm>
            <a:off x="533520" y="4319640"/>
            <a:ext cx="81532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5D7F-7F01-4F23-975B-6936A33B3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533520" y="395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28600" y="16765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basi più comuni usate nelle reazioni di eliminazione sono atomi di ossigeno carichi negativamente, come lo ione H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 i suoi derivati alchilici, 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chiamati alcossi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used_in_dehydrohalo_tb_764"/>
          <p:cNvPicPr/>
          <p:nvPr/>
        </p:nvPicPr>
        <p:blipFill>
          <a:blip r:embed="rId1"/>
          <a:stretch/>
        </p:blipFill>
        <p:spPr>
          <a:xfrm>
            <a:off x="533520" y="3490920"/>
            <a:ext cx="81532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9323-2EB1-488B-8D66-A8BD9DE89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838080" y="2286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crivere un prodotto di deidroalogenazione: Trovare il carboni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dentificare tutti i carb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 atomi di idrogeno. Rimuovere gli elementi H e X dai carb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formare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0002a"/>
          <p:cNvPicPr/>
          <p:nvPr/>
        </p:nvPicPr>
        <p:blipFill>
          <a:blip r:embed="rId1"/>
          <a:stretch/>
        </p:blipFill>
        <p:spPr>
          <a:xfrm>
            <a:off x="304920" y="3048120"/>
            <a:ext cx="845820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1C54-70D6-4147-9113-B3DBDAD29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858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1371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che il doppio legame di un alchene consiste di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di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83808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5341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8236-054F-4A67-937E-A91C15B0C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685800" y="4548240"/>
            <a:ext cx="7804080" cy="1776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685800" y="1666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alcheni sono classificati in base al numero degli atomi di carbonio legati ai carboni del doppio leg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0003c"/>
          <p:cNvPicPr/>
          <p:nvPr/>
        </p:nvPicPr>
        <p:blipFill>
          <a:blip r:embed="rId2"/>
          <a:stretch/>
        </p:blipFill>
        <p:spPr>
          <a:xfrm>
            <a:off x="990720" y="2230560"/>
            <a:ext cx="7162560" cy="1350720"/>
          </a:xfrm>
          <a:prstGeom prst="rect">
            <a:avLst/>
          </a:prstGeom>
          <a:ln w="0">
            <a:noFill/>
          </a:ln>
        </p:spPr>
      </p:pic>
      <p:sp>
        <p:nvSpPr>
          <p:cNvPr id="87" name="Line 9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41560" y="3733920"/>
            <a:ext cx="2661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ficazione degli alchen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lla base del numero di grupp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legati al doppio lega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3" descr=""/>
          <p:cNvPicPr/>
          <p:nvPr/>
        </p:nvPicPr>
        <p:blipFill>
          <a:blip r:embed="rId3"/>
          <a:stretch/>
        </p:blipFill>
        <p:spPr>
          <a:xfrm>
            <a:off x="1600200" y="6515280"/>
            <a:ext cx="4876920" cy="26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DDF5-CBF8-46F4-AF70-668F1708C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5720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295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che la rotazione attorno al doppio legame è impedi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276920" y="2193840"/>
            <a:ext cx="112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1"/>
          <a:stretch/>
        </p:blipFill>
        <p:spPr>
          <a:xfrm>
            <a:off x="304920" y="2597040"/>
            <a:ext cx="2046240" cy="45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"/>
          <p:cNvPicPr/>
          <p:nvPr/>
        </p:nvPicPr>
        <p:blipFill>
          <a:blip r:embed="rId2"/>
          <a:stretch/>
        </p:blipFill>
        <p:spPr>
          <a:xfrm>
            <a:off x="2590920" y="1967040"/>
            <a:ext cx="56386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19T15:57:51Z</dcterms:modified>
  <cp:revision>602</cp:revision>
  <dc:subject/>
  <dc:title>PowerPoint Presentation</dc:title>
</cp:coreProperties>
</file>