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24.png" ContentType="image/png"/>
  <Override PartName="/ppt/media/image1.png" ContentType="image/png"/>
  <Override PartName="/ppt/media/image2.jpeg" ContentType="image/jpeg"/>
  <Override PartName="/ppt/media/image20.png" ContentType="image/png"/>
  <Override PartName="/ppt/media/image36.jpeg" ContentType="image/jpeg"/>
  <Override PartName="/ppt/media/image26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9.png" ContentType="image/png"/>
  <Override PartName="/ppt/media/image34.png" ContentType="image/png"/>
  <Override PartName="/ppt/media/image44.jpeg" ContentType="image/jpeg"/>
  <Override PartName="/ppt/media/image12.png" ContentType="image/png"/>
  <Override PartName="/ppt/media/image32.png" ContentType="image/png"/>
  <Override PartName="/ppt/media/image35.jpeg" ContentType="image/jpeg"/>
  <Override PartName="/ppt/media/image10.jpeg" ContentType="image/jpeg"/>
  <Override PartName="/ppt/media/image29.jpeg" ContentType="image/jpeg"/>
  <Override PartName="/ppt/media/image37.jpeg" ContentType="image/jpeg"/>
  <Override PartName="/ppt/media/image13.png" ContentType="image/png"/>
  <Override PartName="/ppt/media/image31.jpeg" ContentType="image/jpeg"/>
  <Override PartName="/ppt/media/image41.png" ContentType="image/png"/>
  <Override PartName="/ppt/media/image30.jpeg" ContentType="image/jpeg"/>
  <Override PartName="/ppt/media/image43.png" ContentType="image/png"/>
  <Override PartName="/ppt/media/image11.png" ContentType="image/png"/>
  <Override PartName="/ppt/media/image45.jpeg" ContentType="image/jpeg"/>
  <Override PartName="/ppt/media/image7.jpeg" ContentType="image/jpeg"/>
  <Override PartName="/ppt/media/image28.jpeg" ContentType="image/jpeg"/>
  <Override PartName="/ppt/media/image4.jpeg" ContentType="image/jpeg"/>
  <Override PartName="/ppt/media/image40.png" ContentType="image/png"/>
  <Override PartName="/ppt/media/image39.jpeg" ContentType="image/jpeg"/>
  <Override PartName="/ppt/media/image38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5.jpeg" ContentType="image/jpeg"/>
  <Override PartName="/ppt/media/image25.png" ContentType="image/png"/>
  <Override PartName="/ppt/media/image19.jpeg" ContentType="image/jpeg"/>
  <Override PartName="/ppt/media/image4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7075-CB74-4F22-89E2-2A1F05D3A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B3FC-BBEC-4673-A975-97CD3B598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BA5F-FCFF-4FAB-94B8-377951C7F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CF4C-C4E7-4AFC-8BFC-00E67CA7B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D49F-4CF7-4DCA-B2F7-52A7ECE66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7DB3-DDBB-4A89-88A5-69BE05E89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D35A-B9C9-4B5F-A376-5E9036B97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9989-7E50-454C-B3B7-A3F684B2F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E752-6146-480D-8593-119AFC65E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0817-D65B-46C3-A587-4E9845B1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26A7-9387-4224-BD50-8E916B63F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E3D1-6C87-4603-B9A9-97A6B0DB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C542C-E5C1-405A-9831-81FC9D4F87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-7920" y="6423120"/>
            <a:ext cx="2120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</a:rPr>
              <a:t>Fondamenti di chimica organica</a:t>
            </a:r>
            <a:br>
              <a:rPr sz="1100"/>
            </a:br>
            <a:r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Janice Gorzynski Smith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324400" y="6508800"/>
            <a:ext cx="3372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</a:rPr>
              <a:t>Copyright © 2009 – The McGraw-Hill Companies sr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8729640" y="6400800"/>
            <a:ext cx="414360" cy="4572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8440560" y="0"/>
            <a:ext cx="70344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5A1F0-143E-4469-A42F-F987975281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993960" y="1020600"/>
            <a:ext cx="716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ndamenti di chimica organic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3108600" y="2682720"/>
            <a:ext cx="330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nice Gorzynski Smi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niversity of Hawai’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981080" y="6172200"/>
            <a:ext cx="5486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The McGraw-Hill Companies, Inc. Permission required for reproduction or display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354600" y="3809880"/>
            <a:ext cx="869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pitolo 8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2938320" y="5257800"/>
            <a:ext cx="3691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pared by Rabi Ann Musa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te University of New York at Alban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D8F5F-8310-4DB4-809D-E3D3D1CDCC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533520" y="16668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228600" y="129528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ausa della rotazione impedita, sono possibili due stereoisomeri per il 2-butene. I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2-butene e i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2-butene sono stereoisomeri, ma non sono reciproca immagine speculare: sono perciò diastereoisomer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152280" y="730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cheni—I prodotti delle reazioni di elimin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0004a"/>
          <p:cNvPicPr/>
          <p:nvPr/>
        </p:nvPicPr>
        <p:blipFill>
          <a:blip r:embed="rId1"/>
          <a:stretch/>
        </p:blipFill>
        <p:spPr>
          <a:xfrm>
            <a:off x="1600200" y="3092400"/>
            <a:ext cx="586728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88CBA-D685-4A24-8398-98A76F5D31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609480" y="2286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228600" y="16765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gni volta che su ogni estremità del doppio legame carbonio-carbonio i due gruppi sono diversi l’uno dall’altro, sono possibili due diastereoisomer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152280" y="9907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cheni—I prodotti delle reazioni di elimin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0004b"/>
          <p:cNvPicPr/>
          <p:nvPr/>
        </p:nvPicPr>
        <p:blipFill>
          <a:blip r:embed="rId1"/>
          <a:stretch/>
        </p:blipFill>
        <p:spPr>
          <a:xfrm>
            <a:off x="533520" y="3352680"/>
            <a:ext cx="807696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08365-1341-4BEC-B50A-A8DFBD8D8E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457200" y="3952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228600" y="163188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generale, gli alchen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ono più stabili degli alchen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erchè i gruppi legati ai carboni del doppio legame sono ben lontani, riducendo così le interazioni sterich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152280" y="10350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cheni—I prodotti delle reazioni di elimin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0004c"/>
          <p:cNvPicPr/>
          <p:nvPr/>
        </p:nvPicPr>
        <p:blipFill>
          <a:blip r:embed="rId1"/>
          <a:stretch/>
        </p:blipFill>
        <p:spPr>
          <a:xfrm>
            <a:off x="533520" y="3435480"/>
            <a:ext cx="8076960" cy="28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43868-9464-4B63-B544-78E7FCF91B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609480" y="1666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228600" y="121932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stabilità di un alchene aumenta con il numero di gruppi R legati al doppio legam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152280" y="730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cheni—I prodotti delle reazioni di elimin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0005a"/>
          <p:cNvPicPr/>
          <p:nvPr/>
        </p:nvPicPr>
        <p:blipFill>
          <a:blip r:embed="rId1"/>
          <a:stretch/>
        </p:blipFill>
        <p:spPr>
          <a:xfrm>
            <a:off x="533520" y="2133720"/>
            <a:ext cx="8153280" cy="1773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7"/>
          <p:cNvSpPr/>
          <p:nvPr/>
        </p:nvSpPr>
        <p:spPr>
          <a:xfrm>
            <a:off x="228600" y="3917880"/>
            <a:ext cx="8686800" cy="29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ù alta è la percentuale di caratter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più facilmente un atomo accetta densità elettronica. Perciò i carboni ibridi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ono maggiormente in grado di accettare densità elettronica e gli atomi di carbonio ibridati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ono maggiormente in grado di donare densità elettronica 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 conseguenza, aumentare il numero di gruppi elettron-donatori su un atomo in grado di accettare densità elettronica rende l’alchene più stabil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E75E0-0979-4BEA-8BF8-B1E5488667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609480" y="3952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228600" y="172404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tra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2-butene (un alchene disostituito) è più stabile de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2-butene (un altro alchene disostituito), ma entrambi sono più stabili dell’1-butene (un alchene monosostituito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152280" y="11430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cheni—I prodotti delle reazioni di elimin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0005c"/>
          <p:cNvPicPr/>
          <p:nvPr/>
        </p:nvPicPr>
        <p:blipFill>
          <a:blip r:embed="rId1"/>
          <a:stretch/>
        </p:blipFill>
        <p:spPr>
          <a:xfrm>
            <a:off x="990720" y="3552840"/>
            <a:ext cx="723888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DC711-5490-4569-8037-4F76F8227B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380880" y="2286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228600" y="1698480"/>
            <a:ext cx="868680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 sono due meccanismi per l’eliminazione—E2 e E1, proprio come ci sono due meccanismi per la sostituzione nucleofila, 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e 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meccanismo E2 — eliminazione bimolecula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meccanismo E1 — eliminazione monomolecula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meccanismi E2 e E1 differiscono per i momenti in cui avvengono la rottura e la formazione dei legami, in analogia ai meccanismi 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e 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reazioni E2 e 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hanno alcune caratteristiche in comune, come pure la E1 e la 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152280" y="8827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E7B30-545D-45E3-AEF7-2ABD19F897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"/>
          <p:cNvSpPr/>
          <p:nvPr/>
        </p:nvSpPr>
        <p:spPr>
          <a:xfrm>
            <a:off x="609480" y="3049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228600" y="1546200"/>
            <a:ext cx="86868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meccanismo più comune per la deidroalogenazione è quello E2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2 segue una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inetica del secondo ordi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e sia l’alogenuro alchilico che la base compaiono nell’equazione di velocità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152280" y="10350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2209680" y="3886200"/>
            <a:ext cx="4800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locità = k[(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Br][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H]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228600" y="466416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reazione è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oncertat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tutti i legami sono scissi e formati in un unico stadi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2FAE7-14AE-4D31-ACEA-39EFEE4E6C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609480" y="3049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152280" y="9907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1" descr="mechanism_1_c_la_764"/>
          <p:cNvPicPr/>
          <p:nvPr/>
        </p:nvPicPr>
        <p:blipFill>
          <a:blip r:embed="rId1"/>
          <a:stretch/>
        </p:blipFill>
        <p:spPr>
          <a:xfrm>
            <a:off x="457200" y="2332080"/>
            <a:ext cx="800100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4EE0B-5E63-4E4F-BA9F-9347E7C426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"/>
          <p:cNvSpPr/>
          <p:nvPr/>
        </p:nvSpPr>
        <p:spPr>
          <a:xfrm>
            <a:off x="609480" y="3952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152280" y="10350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762120" y="1752480"/>
            <a:ext cx="193320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8.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agramma di energ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 una reazione E2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3" descr=""/>
          <p:cNvPicPr/>
          <p:nvPr/>
        </p:nvPicPr>
        <p:blipFill>
          <a:blip r:embed="rId1"/>
          <a:stretch/>
        </p:blipFill>
        <p:spPr>
          <a:xfrm>
            <a:off x="0" y="3527280"/>
            <a:ext cx="3352680" cy="1430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4" descr=""/>
          <p:cNvPicPr/>
          <p:nvPr/>
        </p:nvPicPr>
        <p:blipFill>
          <a:blip r:embed="rId2"/>
          <a:stretch/>
        </p:blipFill>
        <p:spPr>
          <a:xfrm>
            <a:off x="533520" y="2514600"/>
            <a:ext cx="2090520" cy="4888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5" descr=""/>
          <p:cNvPicPr/>
          <p:nvPr/>
        </p:nvPicPr>
        <p:blipFill>
          <a:blip r:embed="rId3"/>
          <a:stretch/>
        </p:blipFill>
        <p:spPr>
          <a:xfrm>
            <a:off x="3352680" y="1523880"/>
            <a:ext cx="571500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080E5-44F6-4F18-992C-02139DA768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"/>
          <p:cNvSpPr/>
          <p:nvPr/>
        </p:nvSpPr>
        <p:spPr>
          <a:xfrm>
            <a:off x="685800" y="7632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228600" y="1600200"/>
            <a:ext cx="8686800" cy="29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’è uno stretto parallelismo fra i meccanismi E2 e S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 per come la velocità è influenzata dalla natura della base, del gruppo uscente e dal solvent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base compare nell’equazione di velocità, pertanto la velocità della reazione E2 aumenta all’aumentare della forza della bas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 reazioni E2 sono generalmente condotte con basi forti cariche negativamente, com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H 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R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152280" y="806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CD293-3D7E-4763-9C0D-FEC0E8EE55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609480" y="3049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228600" y="16765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reazioni di eliminazione comportano una perdita di elementi da parte del materiale di partenza per formare un nuovo legam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nel prodott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152280" y="11113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ratteristiche generali dell’eliminaz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"/>
          <p:cNvPicPr/>
          <p:nvPr/>
        </p:nvPicPr>
        <p:blipFill>
          <a:blip r:embed="rId1"/>
          <a:stretch/>
        </p:blipFill>
        <p:spPr>
          <a:xfrm>
            <a:off x="219240" y="3043080"/>
            <a:ext cx="8467560" cy="32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B7069-58C2-4F49-AD65-C8C82FFDC2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"/>
          <p:cNvSpPr/>
          <p:nvPr/>
        </p:nvSpPr>
        <p:spPr>
          <a:xfrm>
            <a:off x="457200" y="471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152280" y="12636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9" descr=""/>
          <p:cNvPicPr/>
          <p:nvPr/>
        </p:nvPicPr>
        <p:blipFill>
          <a:blip r:embed="rId1"/>
          <a:stretch/>
        </p:blipFill>
        <p:spPr>
          <a:xfrm>
            <a:off x="228600" y="2322360"/>
            <a:ext cx="8691480" cy="24782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1" descr=""/>
          <p:cNvPicPr/>
          <p:nvPr/>
        </p:nvPicPr>
        <p:blipFill>
          <a:blip r:embed="rId2"/>
          <a:stretch/>
        </p:blipFill>
        <p:spPr>
          <a:xfrm>
            <a:off x="228600" y="5037120"/>
            <a:ext cx="8610480" cy="5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0285D-F3D8-4F22-9653-6FBD446B47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"/>
          <p:cNvSpPr/>
          <p:nvPr/>
        </p:nvSpPr>
        <p:spPr>
          <a:xfrm>
            <a:off x="533520" y="47160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228600" y="1752480"/>
            <a:ext cx="8686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meccanismi 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e E2 differiscono nel modo in cui il gruppo R influenza la velocità della reazio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152280" y="11113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8" descr=""/>
          <p:cNvPicPr/>
          <p:nvPr/>
        </p:nvPicPr>
        <p:blipFill>
          <a:blip r:embed="rId1"/>
          <a:stretch/>
        </p:blipFill>
        <p:spPr>
          <a:xfrm>
            <a:off x="228600" y="3049560"/>
            <a:ext cx="8745480" cy="25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F70A7-23F5-4329-B9F4-5DAF3C1250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"/>
          <p:cNvSpPr/>
          <p:nvPr/>
        </p:nvSpPr>
        <p:spPr>
          <a:xfrm>
            <a:off x="533520" y="38088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228600" y="1639800"/>
            <a:ext cx="8686800" cy="29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’aumentare della velocità della reazione E2 all’aumentare dei sostituenti alchilici può essere razionalizzata in termini di stabilità dello stato di transizion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llo stato di transizione il doppio legame è parzialmente formato. Perciò, aumentare la stabiltà del doppio legame con i sostituenti alchilici stabilizza lo stato di transizione (cioè si abbassa la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e questo fa aumentare la velocità della reazion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52280" y="10666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8" descr=""/>
          <p:cNvPicPr/>
          <p:nvPr/>
        </p:nvPicPr>
        <p:blipFill>
          <a:blip r:embed="rId1"/>
          <a:stretch/>
        </p:blipFill>
        <p:spPr>
          <a:xfrm>
            <a:off x="609480" y="4446720"/>
            <a:ext cx="7467840" cy="22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A2535-8F62-4148-99CB-3837471180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9" descr=""/>
          <p:cNvPicPr/>
          <p:nvPr/>
        </p:nvPicPr>
        <p:blipFill>
          <a:blip r:embed="rId1"/>
          <a:stretch/>
        </p:blipFill>
        <p:spPr>
          <a:xfrm>
            <a:off x="990720" y="2895480"/>
            <a:ext cx="7010280" cy="39592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2"/>
          <p:cNvSpPr/>
          <p:nvPr/>
        </p:nvSpPr>
        <p:spPr>
          <a:xfrm>
            <a:off x="609480" y="763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228600" y="838080"/>
            <a:ext cx="8686800" cy="22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lle reazioni  E2, aumentando il numero dei gruppi R sul carbonio che contiene il gruppo uscente, si forma un alchene più sostituito e più stabil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lle reazioni seguenti, poichè l’alchene disostituito è più stabile, l’alogenuro alchilico 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reagisce più velocemente dell’alogenuro alchilico 1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52280" y="4572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DAF84-019C-4751-814A-132E9BFD06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380880" y="2430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228600" y="1554120"/>
            <a:ext cx="868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Tabella 8.2 riassume le caratteristiche del meccanismo E2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152280" y="8827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9" descr="characteristicse2_m_tb_764"/>
          <p:cNvPicPr/>
          <p:nvPr/>
        </p:nvPicPr>
        <p:blipFill>
          <a:blip r:embed="rId1"/>
          <a:stretch/>
        </p:blipFill>
        <p:spPr>
          <a:xfrm>
            <a:off x="457200" y="2278080"/>
            <a:ext cx="8229600" cy="35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D60C5-79D3-44EC-B461-35A489797A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"/>
          <p:cNvSpPr/>
          <p:nvPr/>
        </p:nvSpPr>
        <p:spPr>
          <a:xfrm>
            <a:off x="533520" y="7632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228600" y="1066680"/>
            <a:ext cx="8686800" cy="30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icordare che quando gli alogenuri alchilici hanno due o più atomi di carbonio 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diversi, si può formare una miscela di alchen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uando accade questo, uno dei prodotti generalmente è più abbondant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 prodotto principale è il prodotto più stabile — quello con il doppio legame più sostituit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uesto fenomeno è chiamato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regola di Zaitsev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457200" y="609480"/>
            <a:ext cx="5410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Regola di Zaitsev (Saytzeff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0010"/>
          <p:cNvPicPr/>
          <p:nvPr/>
        </p:nvPicPr>
        <p:blipFill>
          <a:blip r:embed="rId1"/>
          <a:stretch/>
        </p:blipFill>
        <p:spPr>
          <a:xfrm>
            <a:off x="609480" y="4141800"/>
            <a:ext cx="807732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5E221-624F-4BA7-BBB7-5EB5B93842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"/>
          <p:cNvSpPr/>
          <p:nvPr/>
        </p:nvSpPr>
        <p:spPr>
          <a:xfrm>
            <a:off x="990720" y="349200"/>
            <a:ext cx="7467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228600" y="1957320"/>
            <a:ext cx="8686800" cy="17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egola di Zaitsev: nelle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-eliminazioni il prodotto principale presenta il doppio legame più sostituit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na reazione è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regioselettiva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e fornisce in maniera predominante o esclusiva un isomero costituzionale, quando è possibile ottenerne più di uno. La reazione E2 è regioselettiva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152280" y="1157400"/>
            <a:ext cx="87631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300" spc="-1" strike="noStrike">
                <a:solidFill>
                  <a:srgbClr val="000000"/>
                </a:solidFill>
                <a:latin typeface="Arial"/>
              </a:rPr>
              <a:t>La Regola di Zaitsev (Saytzeff)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B6DC1-D699-4455-B101-5BEFC5AFED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"/>
          <p:cNvSpPr/>
          <p:nvPr/>
        </p:nvSpPr>
        <p:spPr>
          <a:xfrm>
            <a:off x="533520" y="15228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228600" y="1295280"/>
            <a:ext cx="8686800" cy="29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uando è possibile formare una miscela di stereoisomeri mediante deidroalogenazione, il prodotto maggioritario è l’isomero più stabil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a reazione è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stereoselettiva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 forma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maniera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edominante o esclusiva uno stereoisomero, quando due o più sono possibil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reazione E2 è stereoselettiva perchè porta alla formazione preferenziale di uno stereoisomer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Regola di Zaitsev (Saytzeff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6" descr="0011b"/>
          <p:cNvPicPr/>
          <p:nvPr/>
        </p:nvPicPr>
        <p:blipFill>
          <a:blip r:embed="rId1"/>
          <a:stretch/>
        </p:blipFill>
        <p:spPr>
          <a:xfrm>
            <a:off x="762120" y="4343400"/>
            <a:ext cx="7467480" cy="19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94309-48AC-4D9A-A640-7CBAD64C72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"/>
          <p:cNvSpPr/>
          <p:nvPr/>
        </p:nvSpPr>
        <p:spPr>
          <a:xfrm>
            <a:off x="457200" y="763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228600" y="990720"/>
            <a:ext cx="8686800" cy="17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deidroalogenazione di (CH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CI con H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 per formare (CH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=CH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può essere usata per illustrare il secondo meccanismo generale delle eliminazioni, il meccanismo E1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a reazione E1 ha una cinetica del primo ordine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152280" y="6094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1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2743200" y="2590920"/>
            <a:ext cx="40384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locità = k[(CH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CI]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228600" y="2971800"/>
            <a:ext cx="8686800" cy="39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reazione E1 avviene attraverso un meccanismo a due stadi: il legame del gruppo uscente si scinde prima che il legame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i formi. Lo stadio lento è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monomolecolar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coinvolgendo solo l’alogenuro alchilic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 meccanismi E1 e E2 implicano lo stesso numero di legami scissi e formati. La sola differenza è nella scissione temporale di questi eventi. Nella reazione E1 il gruppo uscente si stacca prima della rimozione del protone in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e la reazione avviene in due stadi. NelIa reazione E2 il gruppo uscente si stacca nel momento in cui il protone in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viene rimosso, e la reazione avviene in un singolo stadio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A2E96-7D66-4CB0-B64D-7E4004C320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"/>
          <p:cNvSpPr/>
          <p:nvPr/>
        </p:nvSpPr>
        <p:spPr>
          <a:xfrm>
            <a:off x="609480" y="763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3" descr="mechanism_2_c_la_764"/>
          <p:cNvPicPr/>
          <p:nvPr/>
        </p:nvPicPr>
        <p:blipFill>
          <a:blip r:embed="rId1"/>
          <a:stretch/>
        </p:blipFill>
        <p:spPr>
          <a:xfrm>
            <a:off x="685800" y="1563840"/>
            <a:ext cx="7543800" cy="30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EFE8F-04C0-41BC-BA11-89E5CAEE7B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457200" y="3049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228600" y="137160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equazioni [1] e [2] mostrano degli esempi di reazioni di eliminazione. In entrambe le reazioni, una base rimuove gli elementi di un acido (HX) dal  materiale organico di partenz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ratteristiche generali dell’eliminaz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0001b"/>
          <p:cNvPicPr/>
          <p:nvPr/>
        </p:nvPicPr>
        <p:blipFill>
          <a:blip r:embed="rId1"/>
          <a:stretch/>
        </p:blipFill>
        <p:spPr>
          <a:xfrm>
            <a:off x="609480" y="3124080"/>
            <a:ext cx="8001000" cy="31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B9F5C-E827-4F7F-90BE-CACA5D2AB4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533520" y="24300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152280" y="8827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1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252720" y="1523880"/>
            <a:ext cx="19332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8.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agramma di energ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 una reazione E1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7" descr=""/>
          <p:cNvPicPr/>
          <p:nvPr/>
        </p:nvPicPr>
        <p:blipFill>
          <a:blip r:embed="rId1"/>
          <a:stretch/>
        </p:blipFill>
        <p:spPr>
          <a:xfrm>
            <a:off x="39600" y="3657600"/>
            <a:ext cx="2475000" cy="15955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8" descr=""/>
          <p:cNvPicPr/>
          <p:nvPr/>
        </p:nvPicPr>
        <p:blipFill>
          <a:blip r:embed="rId2"/>
          <a:stretch/>
        </p:blipFill>
        <p:spPr>
          <a:xfrm>
            <a:off x="76320" y="2370240"/>
            <a:ext cx="2057400" cy="449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9" descr=""/>
          <p:cNvPicPr/>
          <p:nvPr/>
        </p:nvPicPr>
        <p:blipFill>
          <a:blip r:embed="rId3"/>
          <a:stretch/>
        </p:blipFill>
        <p:spPr>
          <a:xfrm>
            <a:off x="2590920" y="1600200"/>
            <a:ext cx="640080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061A0-AF9C-4EDB-8F3D-FE9B0356B4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228600" y="124776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velocità di una reazione E1 aumenta all’aumentare dei gruppi R presenti sul carbonio recante il gruppo uscent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152280" y="77616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1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0013"/>
          <p:cNvPicPr/>
          <p:nvPr/>
        </p:nvPicPr>
        <p:blipFill>
          <a:blip r:embed="rId1"/>
          <a:stretch/>
        </p:blipFill>
        <p:spPr>
          <a:xfrm>
            <a:off x="2438280" y="2057400"/>
            <a:ext cx="4267440" cy="311472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7"/>
          <p:cNvSpPr/>
          <p:nvPr/>
        </p:nvSpPr>
        <p:spPr>
          <a:xfrm>
            <a:off x="228600" y="5178600"/>
            <a:ext cx="8686800" cy="14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forza della base in generale determina se una reazione di eliminazione segue il meccanismo E1 o E2. Basi forti com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OH 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OR favoriscono le reazioni E2, mentre le basi deboli come H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O e ROH favoriscono le E1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457200" y="1666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ACAA5-2A1B-45DB-BE92-52AEE95862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"/>
          <p:cNvSpPr/>
          <p:nvPr/>
        </p:nvSpPr>
        <p:spPr>
          <a:xfrm>
            <a:off x="533520" y="31896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228600" y="1523880"/>
            <a:ext cx="8686800" cy="16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reazioni E1 sono regioselettive, e favoriscono la formazione dell’alchene più sostituito e quindi più stabil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regola di Zaitsev si applica anche alle reazioni E1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152280" y="9907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1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6" descr="0014"/>
          <p:cNvPicPr/>
          <p:nvPr/>
        </p:nvPicPr>
        <p:blipFill>
          <a:blip r:embed="rId1"/>
          <a:stretch/>
        </p:blipFill>
        <p:spPr>
          <a:xfrm>
            <a:off x="990720" y="3260880"/>
            <a:ext cx="7162560" cy="28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20FE9-D7C4-4C0C-AD63-23A9589850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"/>
          <p:cNvSpPr/>
          <p:nvPr/>
        </p:nvSpPr>
        <p:spPr>
          <a:xfrm>
            <a:off x="609480" y="2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228600" y="1554120"/>
            <a:ext cx="868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Tabella 8.3 riassume la caratteristiche del meccanismo E1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152280" y="8827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1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8" descr="characteristics_e1_tb_764"/>
          <p:cNvPicPr/>
          <p:nvPr/>
        </p:nvPicPr>
        <p:blipFill>
          <a:blip r:embed="rId1"/>
          <a:stretch/>
        </p:blipFill>
        <p:spPr>
          <a:xfrm>
            <a:off x="304920" y="2271600"/>
            <a:ext cx="8305560" cy="35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10619-E1B7-4DB1-84AF-0FA471CFAC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"/>
          <p:cNvSpPr/>
          <p:nvPr/>
        </p:nvSpPr>
        <p:spPr>
          <a:xfrm>
            <a:off x="1523880" y="22860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228600" y="990720"/>
            <a:ext cx="868680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e reazioni S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 ed E1 hanno esattamente lo stesso primo stadio, cioè la formazione di un carbocatione. Differiscono per quanto accade successivamente al carbocation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152280" y="533520"/>
            <a:ext cx="8763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Reazioni S</a:t>
            </a:r>
            <a:r>
              <a:rPr b="1" lang="en-US" sz="23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1 ed E1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228600" y="5651640"/>
            <a:ext cx="868680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oichè le reazioni E1 avvengono spesso in competizione con le S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, le reazioni E1 degli alogenuri alchilici sono molto meno utili delle reazioni E2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0" descr=""/>
          <p:cNvPicPr/>
          <p:nvPr/>
        </p:nvPicPr>
        <p:blipFill>
          <a:blip r:embed="rId1"/>
          <a:stretch/>
        </p:blipFill>
        <p:spPr>
          <a:xfrm>
            <a:off x="406440" y="1996920"/>
            <a:ext cx="7975440" cy="36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EBA45-9749-410C-83BB-91F0F90F54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"/>
          <p:cNvSpPr/>
          <p:nvPr/>
        </p:nvSpPr>
        <p:spPr>
          <a:xfrm>
            <a:off x="380880" y="2286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228600" y="149544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forza della base è il fattore più importante nel determinare il meccanismo della eliminazione. Basi forti favoriscono il meccanismo E2, basi deboli il meccanismo E1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152280" y="9586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do un Meccanismo è E1 o E2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8" descr="comparison_e1_e2_me_tb_764"/>
          <p:cNvPicPr/>
          <p:nvPr/>
        </p:nvPicPr>
        <p:blipFill>
          <a:blip r:embed="rId1"/>
          <a:stretch/>
        </p:blipFill>
        <p:spPr>
          <a:xfrm>
            <a:off x="838080" y="3274920"/>
            <a:ext cx="7467840" cy="31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2BC5B-CEC9-4ED2-9E67-A9DF416172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7621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228600" y="14479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gni singola reazione di eliminazione produce un legam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i un alchene. Due reazioni di eliminazione consecutive producono due legam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i un alchin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152280" y="838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e Reazioni E2 nella Sintesi degli Alchin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10" descr=""/>
          <p:cNvPicPr/>
          <p:nvPr/>
        </p:nvPicPr>
        <p:blipFill>
          <a:blip r:embed="rId1"/>
          <a:stretch/>
        </p:blipFill>
        <p:spPr>
          <a:xfrm>
            <a:off x="380880" y="3048120"/>
            <a:ext cx="830592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6F3F6-3476-4F97-A4CA-F24DDA964F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"/>
          <p:cNvSpPr/>
          <p:nvPr/>
        </p:nvSpPr>
        <p:spPr>
          <a:xfrm>
            <a:off x="762120" y="7632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228600" y="1295280"/>
            <a:ext cx="8686800" cy="20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rimuovere due moli di HX da un dialogenuro come substrato, sono necessarie due reazioni di eliminazion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ono essere usati due diversi tipi di materiale di partenza: un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ialogenuro vicinal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 un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ialogenuro gemina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152280" y="7621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e Reazioni E2 nella Sintesi degli Alchin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8" descr=""/>
          <p:cNvPicPr/>
          <p:nvPr/>
        </p:nvPicPr>
        <p:blipFill>
          <a:blip r:embed="rId1"/>
          <a:stretch/>
        </p:blipFill>
        <p:spPr>
          <a:xfrm>
            <a:off x="523800" y="3346560"/>
            <a:ext cx="785808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F87B6-1D1B-464D-9838-0BF05C97CD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"/>
          <p:cNvSpPr/>
          <p:nvPr/>
        </p:nvSpPr>
        <p:spPr>
          <a:xfrm>
            <a:off x="533520" y="763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228600" y="1087560"/>
            <a:ext cx="8686800" cy="25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sintetizzare gli alchini mediante deidroalogenazione sono necessarie basi più forti rispetto a quelle necessarie per la sintesi degli alcheni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tipica base è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ione ammiduro), usato come sale sodico Na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sodio ammide). Può essere usato anche KOC(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con DMSO come solven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152280" y="6094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e Reazioni E2 nella Sintesi degli Alchin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5" descr="0020a"/>
          <p:cNvPicPr/>
          <p:nvPr/>
        </p:nvPicPr>
        <p:blipFill>
          <a:blip r:embed="rId1"/>
          <a:stretch/>
        </p:blipFill>
        <p:spPr>
          <a:xfrm>
            <a:off x="533520" y="3622680"/>
            <a:ext cx="8153280" cy="30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AA0E6-5055-4419-A712-53C8601638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2"/>
          <p:cNvSpPr/>
          <p:nvPr/>
        </p:nvSpPr>
        <p:spPr>
          <a:xfrm>
            <a:off x="609480" y="31896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152280" y="10666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e Reazioni E2 nella Sintesi degli Alchin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1"/>
          <p:cNvSpPr/>
          <p:nvPr/>
        </p:nvSpPr>
        <p:spPr>
          <a:xfrm>
            <a:off x="84960" y="1676520"/>
            <a:ext cx="258120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8.9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empi di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idroalogenazione di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alogenuri per formare alchin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13" descr=""/>
          <p:cNvPicPr/>
          <p:nvPr/>
        </p:nvPicPr>
        <p:blipFill>
          <a:blip r:embed="rId1"/>
          <a:stretch/>
        </p:blipFill>
        <p:spPr>
          <a:xfrm>
            <a:off x="1295280" y="2765520"/>
            <a:ext cx="696600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3E8FB-6D71-4298-8116-C1F404D29F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609480" y="3952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228600" y="1832040"/>
            <a:ext cx="8686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rimozione degli elementi HX è chiamata deidroalogenazio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a deidroalogenazio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è un esempio d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eliminazio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frecce ricurve mostrano come quattro legami si rompano o si formino in questo process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152280" y="11113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ratteristiche generali dell’eliminaz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0001c"/>
          <p:cNvPicPr/>
          <p:nvPr/>
        </p:nvPicPr>
        <p:blipFill>
          <a:blip r:embed="rId1"/>
          <a:stretch/>
        </p:blipFill>
        <p:spPr>
          <a:xfrm>
            <a:off x="1295280" y="4567320"/>
            <a:ext cx="6400800" cy="15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7288E-A906-4EFF-A03E-715DD60432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"/>
          <p:cNvSpPr/>
          <p:nvPr/>
        </p:nvSpPr>
        <p:spPr>
          <a:xfrm>
            <a:off x="457200" y="1522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152280" y="1752480"/>
            <a:ext cx="86868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buoni nucleofili, che sono anche basi deboli, favoriscono la sostituzione rispetto alla eliminazione. Alcuni anioni danno in generale prodotti di sostituzione perchè sono buoni nucleofili, ma basi deboli. Questi comprendono  I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Br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HS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N, e 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O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76320" y="942840"/>
            <a:ext cx="89913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dire il Meccanismo dai Reagenti: S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, S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, E1 o E2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6" descr="0021a"/>
          <p:cNvPicPr/>
          <p:nvPr/>
        </p:nvPicPr>
        <p:blipFill>
          <a:blip r:embed="rId1"/>
          <a:srcRect l="20724" t="45216" r="20724" b="0"/>
          <a:stretch/>
        </p:blipFill>
        <p:spPr>
          <a:xfrm>
            <a:off x="1676520" y="4068720"/>
            <a:ext cx="6019560" cy="17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86200-1CF0-4D80-AC9A-4C2357ECEE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380880" y="1522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228600" y="1676520"/>
            <a:ext cx="868680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basi stericamente impedite e non nucleofile favoriscono l’eliminazione rispetto alla sostituzione. KOC(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è troppo stericamente ingombrato per attaccare un carbonio tetravalente, ma è in grado di rimuovere un piccolo protone, favorendo l’eliminazione  rispetto alla sostituzio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152280" y="942840"/>
            <a:ext cx="89154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dire il Meccanismo dai Reagenti: S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, S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, E1 o E2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6" descr="0021b"/>
          <p:cNvPicPr/>
          <p:nvPr/>
        </p:nvPicPr>
        <p:blipFill>
          <a:blip r:embed="rId1"/>
          <a:srcRect l="9090" t="44678" r="9090" b="0"/>
          <a:stretch/>
        </p:blipFill>
        <p:spPr>
          <a:xfrm>
            <a:off x="533520" y="4319640"/>
            <a:ext cx="8153280" cy="17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4AD09-C329-4A28-93D7-815F76028C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"/>
          <p:cNvSpPr/>
          <p:nvPr/>
        </p:nvSpPr>
        <p:spPr>
          <a:xfrm>
            <a:off x="533520" y="39528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228600" y="167652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basi più comuni usate nelle reazioni di eliminazione sono atomi di ossigeno carichi negativamente, come lo ione H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 i suoi derivati alchilici, R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chiamati alcossid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152280" y="11113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ratteristiche generali dell’eliminaz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used_in_dehydrohalo_tb_764"/>
          <p:cNvPicPr/>
          <p:nvPr/>
        </p:nvPicPr>
        <p:blipFill>
          <a:blip r:embed="rId1"/>
          <a:stretch/>
        </p:blipFill>
        <p:spPr>
          <a:xfrm>
            <a:off x="533520" y="3490920"/>
            <a:ext cx="8153280" cy="26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52EBA-6111-4285-836E-4E66C18C7A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"/>
          <p:cNvSpPr/>
          <p:nvPr/>
        </p:nvSpPr>
        <p:spPr>
          <a:xfrm>
            <a:off x="838080" y="22860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228600" y="137160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scrivere un prodotto di deidroalogenazione: Trovare il carbonio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Identificare tutti i carb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n atomi di idrogeno. Rimuovere gli elementi H e X dai carb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formare un legam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152280" y="838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ratteristiche generali dell’eliminaz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0002a"/>
          <p:cNvPicPr/>
          <p:nvPr/>
        </p:nvPicPr>
        <p:blipFill>
          <a:blip r:embed="rId1"/>
          <a:stretch/>
        </p:blipFill>
        <p:spPr>
          <a:xfrm>
            <a:off x="304920" y="3048120"/>
            <a:ext cx="8458200" cy="31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4F44C-AFDF-4A5F-8A9B-223A4F4F3F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"/>
          <p:cNvSpPr/>
          <p:nvPr/>
        </p:nvSpPr>
        <p:spPr>
          <a:xfrm>
            <a:off x="685800" y="1522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228600" y="13716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cordare che il doppio legame di un alchene consiste di un legam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di un legam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304920" y="838080"/>
            <a:ext cx="8762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cheni—I prodotti delle reazioni di elimin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"/>
          <p:cNvPicPr/>
          <p:nvPr/>
        </p:nvPicPr>
        <p:blipFill>
          <a:blip r:embed="rId1"/>
          <a:stretch/>
        </p:blipFill>
        <p:spPr>
          <a:xfrm>
            <a:off x="304920" y="2286000"/>
            <a:ext cx="853416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6280C-F800-48F6-B0B0-8D9A1B177C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4" descr=""/>
          <p:cNvPicPr/>
          <p:nvPr/>
        </p:nvPicPr>
        <p:blipFill>
          <a:blip r:embed="rId1"/>
          <a:stretch/>
        </p:blipFill>
        <p:spPr>
          <a:xfrm>
            <a:off x="685800" y="4548240"/>
            <a:ext cx="7804080" cy="1776240"/>
          </a:xfrm>
          <a:prstGeom prst="rect">
            <a:avLst/>
          </a:prstGeom>
          <a:ln w="0">
            <a:noFill/>
          </a:ln>
        </p:spPr>
      </p:pic>
      <p:sp>
        <p:nvSpPr>
          <p:cNvPr id="83" name="Text Box 2"/>
          <p:cNvSpPr/>
          <p:nvPr/>
        </p:nvSpPr>
        <p:spPr>
          <a:xfrm>
            <a:off x="685800" y="1666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228600" y="123516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i alcheni sono classificati in base al numero degli atomi di carbonio legati ai carboni del doppio legam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152280" y="730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cheni—I prodotti delle reazioni di elimin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0003c"/>
          <p:cNvPicPr/>
          <p:nvPr/>
        </p:nvPicPr>
        <p:blipFill>
          <a:blip r:embed="rId2"/>
          <a:stretch/>
        </p:blipFill>
        <p:spPr>
          <a:xfrm>
            <a:off x="990720" y="2230560"/>
            <a:ext cx="7162560" cy="1350720"/>
          </a:xfrm>
          <a:prstGeom prst="rect">
            <a:avLst/>
          </a:prstGeom>
          <a:ln w="0">
            <a:noFill/>
          </a:ln>
        </p:spPr>
      </p:pic>
      <p:sp>
        <p:nvSpPr>
          <p:cNvPr id="87" name="Line 9"/>
          <p:cNvSpPr/>
          <p:nvPr/>
        </p:nvSpPr>
        <p:spPr>
          <a:xfrm>
            <a:off x="228600" y="3733920"/>
            <a:ext cx="8610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241560" y="3733920"/>
            <a:ext cx="26618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8.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ficazione degli alchen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lla base del numero di grupp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legati al doppio legam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3" descr=""/>
          <p:cNvPicPr/>
          <p:nvPr/>
        </p:nvPicPr>
        <p:blipFill>
          <a:blip r:embed="rId3"/>
          <a:stretch/>
        </p:blipFill>
        <p:spPr>
          <a:xfrm>
            <a:off x="1600200" y="6515280"/>
            <a:ext cx="4876920" cy="26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3BD2A-B413-434A-90D0-287B155230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457200" y="1666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228600" y="12952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cordare che la rotazione attorno al doppio legame è impedit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152280" y="730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cheni—I prodotti delle reazioni di elimin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2"/>
          <p:cNvSpPr/>
          <p:nvPr/>
        </p:nvSpPr>
        <p:spPr>
          <a:xfrm>
            <a:off x="1276920" y="2193840"/>
            <a:ext cx="1125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8.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5" descr=""/>
          <p:cNvPicPr/>
          <p:nvPr/>
        </p:nvPicPr>
        <p:blipFill>
          <a:blip r:embed="rId1"/>
          <a:stretch/>
        </p:blipFill>
        <p:spPr>
          <a:xfrm>
            <a:off x="304920" y="2597040"/>
            <a:ext cx="2046240" cy="451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6" descr=""/>
          <p:cNvPicPr/>
          <p:nvPr/>
        </p:nvPicPr>
        <p:blipFill>
          <a:blip r:embed="rId2"/>
          <a:stretch/>
        </p:blipFill>
        <p:spPr>
          <a:xfrm>
            <a:off x="2590920" y="1967040"/>
            <a:ext cx="5638680" cy="45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18:12:23Z</dcterms:created>
  <dc:creator> </dc:creator>
  <dc:description/>
  <dc:language>en-US</dc:language>
  <cp:lastModifiedBy>User Name</cp:lastModifiedBy>
  <dcterms:modified xsi:type="dcterms:W3CDTF">2008-11-19T15:57:51Z</dcterms:modified>
  <cp:revision>602</cp:revision>
  <dc:subject/>
  <dc:title>PowerPoint Presentation</dc:title>
</cp:coreProperties>
</file>