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4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17.jpeg" ContentType="image/jpeg"/>
  <Override PartName="/ppt/media/image3.png" ContentType="image/png"/>
  <Override PartName="/ppt/media/image33.png" ContentType="image/png"/>
  <Override PartName="/ppt/media/image9.png" ContentType="image/png"/>
  <Override PartName="/ppt/media/image34.png" ContentType="image/png"/>
  <Override PartName="/ppt/media/image44.jpeg" ContentType="image/jpeg"/>
  <Override PartName="/ppt/media/image12.png" ContentType="image/png"/>
  <Override PartName="/ppt/media/image32.png" ContentType="image/png"/>
  <Override PartName="/ppt/media/image35.jpeg" ContentType="image/jpeg"/>
  <Override PartName="/ppt/media/image10.jpeg" ContentType="image/jpeg"/>
  <Override PartName="/ppt/media/image29.jpeg" ContentType="image/jpeg"/>
  <Override PartName="/ppt/media/image37.jpeg" ContentType="image/jpeg"/>
  <Override PartName="/ppt/media/image13.png" ContentType="image/png"/>
  <Override PartName="/ppt/media/image31.jpeg" ContentType="image/jpeg"/>
  <Override PartName="/ppt/media/image41.png" ContentType="image/png"/>
  <Override PartName="/ppt/media/image30.jpeg" ContentType="image/jpeg"/>
  <Override PartName="/ppt/media/image43.png" ContentType="image/png"/>
  <Override PartName="/ppt/media/image11.png" ContentType="image/png"/>
  <Override PartName="/ppt/media/image45.jpeg" ContentType="image/jpeg"/>
  <Override PartName="/ppt/media/image7.jpeg" ContentType="image/jpeg"/>
  <Override PartName="/ppt/media/image28.jpeg" ContentType="image/jpe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5.jpeg" ContentType="image/jpeg"/>
  <Override PartName="/ppt/media/image25.png" ContentType="image/png"/>
  <Override PartName="/ppt/media/image19.jpeg" ContentType="image/jpe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20E-2B81-4C83-8874-7E108F4B0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F713-1328-480A-9F91-0821D7E09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8AA9-4FAB-45A2-83BF-DA7165564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91AE-B59C-4E7E-B935-D5458DC4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6410-8728-4ECD-B6C3-52857618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DEEB-7600-4486-BDFC-03E52379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48F3-ABD1-4FAD-A846-85546FBDF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CB58-9EC1-44D1-817C-790D9DCC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CAFF-2D8A-4041-A21B-3C4AAD1C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5AF-8393-4924-BFC6-D62CFE3FE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B34-2B29-484D-B035-EB296781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F3E5-ACD5-473E-9632-6336F1A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E8906-C4FD-41CC-9895-690C633FBA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7920" y="6423120"/>
            <a:ext cx="2120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Fondamenti di chimica organica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5324400" y="6508800"/>
            <a:ext cx="3372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imes New Roman"/>
              </a:rPr>
              <a:t>Copyright © 2009 – The McGraw-Hill Companies srl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729640" y="6400800"/>
            <a:ext cx="414360" cy="4572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8440560" y="0"/>
            <a:ext cx="703440" cy="914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9C9F3-E46D-4035-85F3-F667F531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993960" y="1020600"/>
            <a:ext cx="716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ondamenti di chimica organic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108600" y="2682720"/>
            <a:ext cx="330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ice Gorzynski Smit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University of Hawai’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1981080" y="6172200"/>
            <a:ext cx="5486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pyright © The McGraw-Hill Companies, Inc. Permission required for reproduction or display.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354600" y="3809880"/>
            <a:ext cx="869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itolo 8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2938320" y="5257800"/>
            <a:ext cx="3691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pared by Rabi Ann Musa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te University of New York at Alb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5BA25-B4A4-4FA0-ADC2-35B09F3FBE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533520" y="1666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228600" y="12952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causa della rotazione impedita, sono possibili due stereoisomeri per il 2-butene.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e i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sono stereoisomeri, ma non sono reciproca immagine speculare: sono perciò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0004a"/>
          <p:cNvPicPr/>
          <p:nvPr/>
        </p:nvPicPr>
        <p:blipFill>
          <a:blip r:embed="rId1"/>
          <a:stretch/>
        </p:blipFill>
        <p:spPr>
          <a:xfrm>
            <a:off x="1600200" y="3092400"/>
            <a:ext cx="5867280" cy="33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D385-2ED8-419C-BB61-22841812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609480" y="2286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volta che su ogni estremità del doppio legame carbonio-carbonio i due gruppi sono diversi l’uno dall’altro, sono possibili due diastereoisomer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6" descr="0004b"/>
          <p:cNvPicPr/>
          <p:nvPr/>
        </p:nvPicPr>
        <p:blipFill>
          <a:blip r:embed="rId1"/>
          <a:stretch/>
        </p:blipFill>
        <p:spPr>
          <a:xfrm>
            <a:off x="533520" y="3352680"/>
            <a:ext cx="807696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BF46-6050-450D-B605-43DC4521A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457200" y="3952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28600" y="163188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generale, 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ono più stabili degli alcheni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erchè i gruppi legati ai carboni del doppio legame sono ben lontani, riducendo così le interazioni sterich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0004c"/>
          <p:cNvPicPr/>
          <p:nvPr/>
        </p:nvPicPr>
        <p:blipFill>
          <a:blip r:embed="rId1"/>
          <a:stretch/>
        </p:blipFill>
        <p:spPr>
          <a:xfrm>
            <a:off x="533520" y="3435480"/>
            <a:ext cx="8076960" cy="28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2C1E8-1864-48DA-BC9B-C6B6E2B4AB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"/>
          <p:cNvSpPr/>
          <p:nvPr/>
        </p:nvSpPr>
        <p:spPr>
          <a:xfrm>
            <a:off x="609480" y="166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28600" y="121932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stabilità di un alchene aumenta con il numero di gruppi R legati al doppio legam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0005a"/>
          <p:cNvPicPr/>
          <p:nvPr/>
        </p:nvPicPr>
        <p:blipFill>
          <a:blip r:embed="rId1"/>
          <a:stretch/>
        </p:blipFill>
        <p:spPr>
          <a:xfrm>
            <a:off x="533520" y="2133720"/>
            <a:ext cx="8153280" cy="1773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228600" y="3917880"/>
            <a:ext cx="868680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ù alta è la percentuale di carattere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più facilmente un atomo accetta densità elettronica. Perciò i carboni ibrid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accettare densità elettronica e gli atomi di carbonio ibridati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p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ono maggiormente in grado di donare densità elettronica 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 conseguenza, aumentare il numero di gruppi elettron-donatori su un atomo in grado di accettare densità elettronica rende l’alchen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02DB-5E91-41F6-96B7-964875CE4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228600" y="17240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tra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chene disostituito) è più stabile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2-butene (un altro alchene disostituito), ma entrambi sono più stabili dell’1-butene (un alchene monosostituito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52280" y="1143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0005c"/>
          <p:cNvPicPr/>
          <p:nvPr/>
        </p:nvPicPr>
        <p:blipFill>
          <a:blip r:embed="rId1"/>
          <a:stretch/>
        </p:blipFill>
        <p:spPr>
          <a:xfrm>
            <a:off x="990720" y="3552840"/>
            <a:ext cx="723888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9116-2897-469D-9459-412E366ED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228600" y="1698480"/>
            <a:ext cx="8686800" cy="47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i sono due meccanismi per l’eliminazione—E2 e E1, proprio come ci sono due meccanismi per la sostituzione nucleofila,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2 — eliminazione bi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E1 — eliminazione monomolecular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E2 e E1 differiscono per i momenti in cui avvengono la rottura e la formazione dei legami, in analogia a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2 e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hanno alcune caratteristiche in comune, come pure la E1 e la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20226-5EE7-4BA3-896B-67D57C3682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228600" y="1546200"/>
            <a:ext cx="8686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l meccanismo più comune per la deidroalogenazione è quello E2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2 segue un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inetica del secondo ordi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e sia l’alogenuro alchilico che la base compaiono nell’equazione di velocità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2209680" y="3886200"/>
            <a:ext cx="4800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Br]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H]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" y="4664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azione è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concerta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utti i legami sono scissi e formati in un unico stadi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25E95-E2CB-4908-BF3C-68FD74D62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3049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1" descr="mechanism_1_c_la_764"/>
          <p:cNvPicPr/>
          <p:nvPr/>
        </p:nvPicPr>
        <p:blipFill>
          <a:blip r:embed="rId1"/>
          <a:stretch/>
        </p:blipFill>
        <p:spPr>
          <a:xfrm>
            <a:off x="457200" y="2332080"/>
            <a:ext cx="8001000" cy="18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7486-60F9-44C2-BB51-F39C36512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52280" y="10350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762120" y="1752480"/>
            <a:ext cx="1933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2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3" descr=""/>
          <p:cNvPicPr/>
          <p:nvPr/>
        </p:nvPicPr>
        <p:blipFill>
          <a:blip r:embed="rId1"/>
          <a:stretch/>
        </p:blipFill>
        <p:spPr>
          <a:xfrm>
            <a:off x="0" y="3527280"/>
            <a:ext cx="3352680" cy="1430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4" descr=""/>
          <p:cNvPicPr/>
          <p:nvPr/>
        </p:nvPicPr>
        <p:blipFill>
          <a:blip r:embed="rId2"/>
          <a:stretch/>
        </p:blipFill>
        <p:spPr>
          <a:xfrm>
            <a:off x="533520" y="2514600"/>
            <a:ext cx="209052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5" descr=""/>
          <p:cNvPicPr/>
          <p:nvPr/>
        </p:nvPicPr>
        <p:blipFill>
          <a:blip r:embed="rId3"/>
          <a:stretch/>
        </p:blipFill>
        <p:spPr>
          <a:xfrm>
            <a:off x="3352680" y="1523880"/>
            <a:ext cx="5715000" cy="45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2649C-A2FB-4C25-B294-96FFE6B6DE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"/>
          <p:cNvSpPr/>
          <p:nvPr/>
        </p:nvSpPr>
        <p:spPr>
          <a:xfrm>
            <a:off x="68580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28600" y="1600200"/>
            <a:ext cx="8686800" cy="29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’è uno stretto parallelismo fra i meccanismi E2 e S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 per come la velocità è influenzata dalla natura della base, del gruppo uscente e dal solve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base compare nell’equazione di velocità, pertanto la velocità della reazione E2 aumenta all’aumentare della forza della bas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 reazioni E2 sono generalmente condotte con basi forti cariche negativamente,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OR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280" y="806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A6EF1-8651-48AD-AF8E-772E00F5F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"/>
          <p:cNvSpPr/>
          <p:nvPr/>
        </p:nvSpPr>
        <p:spPr>
          <a:xfrm>
            <a:off x="609480" y="30492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2860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di eliminazione comportano una perdita di elementi da parte del materiale di partenza per formare un nuovo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nel prodott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1"/>
          <a:stretch/>
        </p:blipFill>
        <p:spPr>
          <a:xfrm>
            <a:off x="219240" y="3043080"/>
            <a:ext cx="8467560" cy="32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1A95-54A4-4A2E-818E-94D06F24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57200" y="4716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"/>
          <p:cNvSpPr/>
          <p:nvPr/>
        </p:nvSpPr>
        <p:spPr>
          <a:xfrm>
            <a:off x="152280" y="12636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"/>
          <p:cNvPicPr/>
          <p:nvPr/>
        </p:nvPicPr>
        <p:blipFill>
          <a:blip r:embed="rId1"/>
          <a:stretch/>
        </p:blipFill>
        <p:spPr>
          <a:xfrm>
            <a:off x="228600" y="2322360"/>
            <a:ext cx="8691480" cy="2478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"/>
          <p:cNvPicPr/>
          <p:nvPr/>
        </p:nvPicPr>
        <p:blipFill>
          <a:blip r:embed="rId2"/>
          <a:stretch/>
        </p:blipFill>
        <p:spPr>
          <a:xfrm>
            <a:off x="228600" y="5037120"/>
            <a:ext cx="8610480" cy="5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BAC94-80B9-47AF-9DE2-8CF2131AD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533520" y="471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228600" y="1752480"/>
            <a:ext cx="86868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eccanismi S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 e E2 differiscono nel modo in cui il gruppo R influenza la velocità della re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8" descr=""/>
          <p:cNvPicPr/>
          <p:nvPr/>
        </p:nvPicPr>
        <p:blipFill>
          <a:blip r:embed="rId1"/>
          <a:stretch/>
        </p:blipFill>
        <p:spPr>
          <a:xfrm>
            <a:off x="228600" y="3049560"/>
            <a:ext cx="8745480" cy="25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24BCC-DAFB-4912-876C-683325CFB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2"/>
          <p:cNvSpPr/>
          <p:nvPr/>
        </p:nvSpPr>
        <p:spPr>
          <a:xfrm>
            <a:off x="533520" y="3808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228600" y="1639800"/>
            <a:ext cx="868680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’aumentare della velocità della reazione E2 all’aumentare dei sostituenti alchilici può essere razionalizzata in termini di stabilità dello stato di transi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o stato di transizione il doppio legame è parzialmente formato. Perciò, aumentare la stabiltà del doppio legame con i sostituenti alchilici stabilizza lo stato di transizione (cioè si abbassa la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questo fa aumentare la velocità della reazion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609480" y="4446720"/>
            <a:ext cx="7467840" cy="22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06446-B141-4D45-978B-76CE5A24D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7010280" cy="3959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228600" y="838080"/>
            <a:ext cx="868680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 E2, aumentando il numero dei gruppi R sul carbonio che contiene il gruppo uscente, si forma un alchene più sostituito e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Nelle reazioni seguenti, poichè l’alchene disostituito è più stabile, l’alogenuro alchilico 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reagisce più velocemente dell’alogenuro alchilico 1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52280" y="4572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54A22-6C43-4BB4-BDD0-9B6F3C129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"/>
          <p:cNvSpPr/>
          <p:nvPr/>
        </p:nvSpPr>
        <p:spPr>
          <a:xfrm>
            <a:off x="380880" y="243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2 riassume le caratteristiche del meccanismo E2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2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9" descr="characteristicse2_m_tb_764"/>
          <p:cNvPicPr/>
          <p:nvPr/>
        </p:nvPicPr>
        <p:blipFill>
          <a:blip r:embed="rId1"/>
          <a:stretch/>
        </p:blipFill>
        <p:spPr>
          <a:xfrm>
            <a:off x="457200" y="2278080"/>
            <a:ext cx="822960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045D2-C1E0-4209-805C-2056DAE248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533520" y="7632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228600" y="1066680"/>
            <a:ext cx="8686800" cy="30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icordare che quando gli alogenuri alchilici hanno due o più atomi di carbonio 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diversi, si può formare una miscela di alchen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accade questo, uno dei prodotti generalmente è più abbondant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 prodotto principale è il prodotto più stabile — quello con il doppio legame più sostituit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esto fenomeno è chiamato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regola di Zaitsev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457200" y="609480"/>
            <a:ext cx="5410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6" descr="0010"/>
          <p:cNvPicPr/>
          <p:nvPr/>
        </p:nvPicPr>
        <p:blipFill>
          <a:blip r:embed="rId1"/>
          <a:stretch/>
        </p:blipFill>
        <p:spPr>
          <a:xfrm>
            <a:off x="609480" y="4141800"/>
            <a:ext cx="8077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09CA-D154-4200-ABEA-5BAAA8DBF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"/>
          <p:cNvSpPr/>
          <p:nvPr/>
        </p:nvSpPr>
        <p:spPr>
          <a:xfrm>
            <a:off x="990720" y="349200"/>
            <a:ext cx="7467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228600" y="1957320"/>
            <a:ext cx="8686800" cy="177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Regola di Zaitsev: nelle </a:t>
            </a:r>
            <a:r>
              <a:rPr b="1" lang="en-US" sz="21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-eliminazioni il prodotto principale presenta il doppio legame più sostituito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100" spc="-1" strike="noStrike">
                <a:solidFill>
                  <a:srgbClr val="3333cc"/>
                </a:solidFill>
                <a:latin typeface="Arial"/>
              </a:rPr>
              <a:t>regioselettiva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e fornisce in maniera predominante o esclusiva un isomero costituzionale, quando è possibile ottenerne più di uno. La reazione E2 è regioselettiva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152280" y="1157400"/>
            <a:ext cx="8763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3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2A5E6-A052-45A0-8AD6-B39E0F20F1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2"/>
          <p:cNvSpPr/>
          <p:nvPr/>
        </p:nvSpPr>
        <p:spPr>
          <a:xfrm>
            <a:off x="533520" y="152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228600" y="1295280"/>
            <a:ext cx="8686800" cy="29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Quando è possibile formare una miscela di stereoisomeri mediante deidroalogenazione, il prodotto maggioritario è l’isomero più stabil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stereoselettiva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 form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maniera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edominante o esclusiva uno stereoisomero, quando due o più sono possibili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68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2 è stereoselettiva perchè porta alla formazione preferenziale di uno stereoisomer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152280" y="6858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a Regola di Zaitsev (Saytzeff)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6" descr="0011b"/>
          <p:cNvPicPr/>
          <p:nvPr/>
        </p:nvPicPr>
        <p:blipFill>
          <a:blip r:embed="rId1"/>
          <a:stretch/>
        </p:blipFill>
        <p:spPr>
          <a:xfrm>
            <a:off x="762120" y="4343400"/>
            <a:ext cx="74674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2222C-3607-4CA3-8340-025EA44756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2"/>
          <p:cNvSpPr/>
          <p:nvPr/>
        </p:nvSpPr>
        <p:spPr>
          <a:xfrm>
            <a:off x="45720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228600" y="990720"/>
            <a:ext cx="8686800" cy="17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deidroalogenazione di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 con 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 per formare 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=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può essere usata per illustrare il secondo meccanismo generale delle eliminazioni, i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a reazione E1 ha una cinetica del primo ordi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2743200" y="2590920"/>
            <a:ext cx="403848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locità = k[(CH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CI]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" y="2971800"/>
            <a:ext cx="8686800" cy="39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reazione E1 avviene attraverso un meccanismo a due stadi: il legame del gruppo uscente si scinde prima che il legame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si formi. Lo stadio lento è </a:t>
            </a:r>
            <a:r>
              <a:rPr b="1" lang="en-US" sz="2200" spc="-1" strike="noStrike">
                <a:solidFill>
                  <a:srgbClr val="3333cc"/>
                </a:solidFill>
                <a:latin typeface="Arial"/>
              </a:rPr>
              <a:t>monomolecolare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coinvolgendo solo l’alogenuro alchilico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 meccanismi E1 e E2 implicano lo stesso numero di legami scissi e formati. La sola differenza è nella scissione temporale di questi eventi. Nella reazione E1 il gruppo uscente si stacca prima della rimozione de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, e la reazione avviene in due stadi. NelIa reazione E2 il gruppo uscente si stacca nel momento in cui il protone in </a:t>
            </a:r>
            <a:r>
              <a:rPr b="1" lang="en-US" sz="2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viene rimosso, e la reazione avviene in un singolo stadio.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9FD2-B420-42B8-8893-F3AE172348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"/>
          <p:cNvSpPr/>
          <p:nvPr/>
        </p:nvSpPr>
        <p:spPr>
          <a:xfrm>
            <a:off x="609480" y="763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3" descr="mechanism_2_c_la_764"/>
          <p:cNvPicPr/>
          <p:nvPr/>
        </p:nvPicPr>
        <p:blipFill>
          <a:blip r:embed="rId1"/>
          <a:stretch/>
        </p:blipFill>
        <p:spPr>
          <a:xfrm>
            <a:off x="685800" y="1563840"/>
            <a:ext cx="7543800" cy="30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CF55-6D23-454D-9E36-B0FDF27F7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457200" y="304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equazioni [1] e [2] mostrano degli esempi di reazioni di eliminazione. In entrambe le reazioni, una base rimuove gli elementi di un acido (HX) dal  materiale organico di partenz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91440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0001b"/>
          <p:cNvPicPr/>
          <p:nvPr/>
        </p:nvPicPr>
        <p:blipFill>
          <a:blip r:embed="rId1"/>
          <a:stretch/>
        </p:blipFill>
        <p:spPr>
          <a:xfrm>
            <a:off x="609480" y="3124080"/>
            <a:ext cx="8001000" cy="31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7636C-A9F4-46DF-ACB0-DBF65C007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"/>
          <p:cNvSpPr/>
          <p:nvPr/>
        </p:nvSpPr>
        <p:spPr>
          <a:xfrm>
            <a:off x="533520" y="2430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52720" y="1523880"/>
            <a:ext cx="19332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gramma di energ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 una reazione E1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"/>
          <p:cNvPicPr/>
          <p:nvPr/>
        </p:nvPicPr>
        <p:blipFill>
          <a:blip r:embed="rId1"/>
          <a:stretch/>
        </p:blipFill>
        <p:spPr>
          <a:xfrm>
            <a:off x="39600" y="3657600"/>
            <a:ext cx="2475000" cy="15955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"/>
          <p:cNvPicPr/>
          <p:nvPr/>
        </p:nvPicPr>
        <p:blipFill>
          <a:blip r:embed="rId2"/>
          <a:stretch/>
        </p:blipFill>
        <p:spPr>
          <a:xfrm>
            <a:off x="76320" y="2370240"/>
            <a:ext cx="2057400" cy="449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9" descr=""/>
          <p:cNvPicPr/>
          <p:nvPr/>
        </p:nvPicPr>
        <p:blipFill>
          <a:blip r:embed="rId3"/>
          <a:stretch/>
        </p:blipFill>
        <p:spPr>
          <a:xfrm>
            <a:off x="2590920" y="1600200"/>
            <a:ext cx="640080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E8020-01B9-4FE2-B5D6-CA990D888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228600" y="1247760"/>
            <a:ext cx="8686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velocità di una reazione E1 aumenta all’aumentare dei gruppi R presenti sul carbonio recante il gruppo uscent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52280" y="77616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0013"/>
          <p:cNvPicPr/>
          <p:nvPr/>
        </p:nvPicPr>
        <p:blipFill>
          <a:blip r:embed="rId1"/>
          <a:stretch/>
        </p:blipFill>
        <p:spPr>
          <a:xfrm>
            <a:off x="2438280" y="2057400"/>
            <a:ext cx="4267440" cy="311472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7"/>
          <p:cNvSpPr/>
          <p:nvPr/>
        </p:nvSpPr>
        <p:spPr>
          <a:xfrm>
            <a:off x="228600" y="5178600"/>
            <a:ext cx="8686800" cy="14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a forza della base in generale determina se una reazione di eliminazione segue il meccanismo E1 o E2. Basi forti com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H 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R favoriscono le reazioni E2, mentre le basi deboli come H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O e ROH favoriscono le E1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8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D42D-EE56-445C-8376-021B0BC6B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"/>
          <p:cNvSpPr/>
          <p:nvPr/>
        </p:nvSpPr>
        <p:spPr>
          <a:xfrm>
            <a:off x="533520" y="31896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228600" y="1523880"/>
            <a:ext cx="8686800" cy="16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reazioni E1 sono regioselettive, e favoriscono la formazione dell’alchene più sostituito e quindi più stabil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egola di Zaitsev si applica anche alle reazioni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152280" y="990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6" descr="0014"/>
          <p:cNvPicPr/>
          <p:nvPr/>
        </p:nvPicPr>
        <p:blipFill>
          <a:blip r:embed="rId1"/>
          <a:stretch/>
        </p:blipFill>
        <p:spPr>
          <a:xfrm>
            <a:off x="990720" y="3260880"/>
            <a:ext cx="7162560" cy="28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969-EEA7-4AC3-B1BA-193B7A0310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609480" y="24300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228600" y="15541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 Tabella 8.3 riassume la caratteristiche del meccanismo E1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152280" y="8827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l Meccanismo dell’Eliminazione  — E1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characteristics_e1_tb_764"/>
          <p:cNvPicPr/>
          <p:nvPr/>
        </p:nvPicPr>
        <p:blipFill>
          <a:blip r:embed="rId1"/>
          <a:stretch/>
        </p:blipFill>
        <p:spPr>
          <a:xfrm>
            <a:off x="304920" y="2271600"/>
            <a:ext cx="8305560" cy="35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BD604-BAAC-4D12-B3C5-4C1E0CD35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"/>
          <p:cNvSpPr/>
          <p:nvPr/>
        </p:nvSpPr>
        <p:spPr>
          <a:xfrm>
            <a:off x="1523880" y="2286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228600" y="99072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e reazioni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 ed E1 hanno esattamente lo stesso primo stadio, cioè la formazione di un carbocatione. Differiscono per quanto accade successivamente al carbocatione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52280" y="533520"/>
            <a:ext cx="8763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eazioni S</a:t>
            </a:r>
            <a:r>
              <a:rPr b="1" lang="en-US" sz="23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 ed E1 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28600" y="5651640"/>
            <a:ext cx="868680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oichè le reazioni E1 avvengono spesso in competizione con le S</a:t>
            </a:r>
            <a:r>
              <a:rPr b="1" lang="en-US" sz="21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1, le reazioni E1 degli alogenuri alchilici sono molto meno utili delle reazioni E2.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" descr=""/>
          <p:cNvPicPr/>
          <p:nvPr/>
        </p:nvPicPr>
        <p:blipFill>
          <a:blip r:embed="rId1"/>
          <a:stretch/>
        </p:blipFill>
        <p:spPr>
          <a:xfrm>
            <a:off x="406440" y="1996920"/>
            <a:ext cx="797544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068A0-9FEF-40B0-9519-36018F833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"/>
          <p:cNvSpPr/>
          <p:nvPr/>
        </p:nvSpPr>
        <p:spPr>
          <a:xfrm>
            <a:off x="380880" y="2286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49544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forza della base è il fattore più importante nel determinare il meccanismo della eliminazione. Basi forti favoriscono il meccanismo E2, basi deboli il meccanismo E1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52280" y="958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do un Meccanismo è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8" descr="comparison_e1_e2_me_tb_764"/>
          <p:cNvPicPr/>
          <p:nvPr/>
        </p:nvPicPr>
        <p:blipFill>
          <a:blip r:embed="rId1"/>
          <a:stretch/>
        </p:blipFill>
        <p:spPr>
          <a:xfrm>
            <a:off x="838080" y="3274920"/>
            <a:ext cx="7467840" cy="31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C3F59-B275-42CF-9158-CF387DE5A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62120" y="22860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28600" y="14479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gni singola reazione di eliminazione produc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ene. Due reazioni di eliminazione consecutive producono due legam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i un alchin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10" descr=""/>
          <p:cNvPicPr/>
          <p:nvPr/>
        </p:nvPicPr>
        <p:blipFill>
          <a:blip r:embed="rId1"/>
          <a:stretch/>
        </p:blipFill>
        <p:spPr>
          <a:xfrm>
            <a:off x="380880" y="3048120"/>
            <a:ext cx="8305920" cy="32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6D7CA-703C-4234-A58B-C15A79171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2"/>
          <p:cNvSpPr/>
          <p:nvPr/>
        </p:nvSpPr>
        <p:spPr>
          <a:xfrm>
            <a:off x="762120" y="763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228600" y="1295280"/>
            <a:ext cx="868680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rimuovere due moli di HX da un dialogenuro come substrato, sono necessarie due reazioni di eliminazion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ono essere usati due diversi tipi di materiale di partenza: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vicinal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un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dialogenuro geminal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52280" y="7621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8" descr=""/>
          <p:cNvPicPr/>
          <p:nvPr/>
        </p:nvPicPr>
        <p:blipFill>
          <a:blip r:embed="rId1"/>
          <a:stretch/>
        </p:blipFill>
        <p:spPr>
          <a:xfrm>
            <a:off x="523800" y="3346560"/>
            <a:ext cx="785808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7FCD-C301-48D7-AD6C-0B24FDD5A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33520" y="763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228600" y="1087560"/>
            <a:ext cx="8686800" cy="25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intetizzare gli alchini mediante deidroalogenazione sono necessarie basi più forti rispetto a quelle necessarie per la sintesi degli alcheni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tipica base è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ione ammiduro), usato come sale sodico NaN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sodio ammide). Può essere usato anche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on DMSO come solvent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52280" y="6094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5" descr="0020a"/>
          <p:cNvPicPr/>
          <p:nvPr/>
        </p:nvPicPr>
        <p:blipFill>
          <a:blip r:embed="rId1"/>
          <a:stretch/>
        </p:blipFill>
        <p:spPr>
          <a:xfrm>
            <a:off x="533520" y="3622680"/>
            <a:ext cx="815328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063D-1BFB-4961-92EC-C9BF20F73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2"/>
          <p:cNvSpPr/>
          <p:nvPr/>
        </p:nvSpPr>
        <p:spPr>
          <a:xfrm>
            <a:off x="609480" y="318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52280" y="10666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 Reazioni E2 nella Sintesi degli Alchini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1"/>
          <p:cNvSpPr/>
          <p:nvPr/>
        </p:nvSpPr>
        <p:spPr>
          <a:xfrm>
            <a:off x="84960" y="1676520"/>
            <a:ext cx="258120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9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sempi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idroalogenazione di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alogenuri per formare alchi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13" descr=""/>
          <p:cNvPicPr/>
          <p:nvPr/>
        </p:nvPicPr>
        <p:blipFill>
          <a:blip r:embed="rId1"/>
          <a:stretch/>
        </p:blipFill>
        <p:spPr>
          <a:xfrm>
            <a:off x="1295280" y="2765520"/>
            <a:ext cx="696600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BFD4-4FA8-4119-9870-41E6D724F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9480" y="395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28600" y="1832040"/>
            <a:ext cx="8686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 rimozione degli elementi HX è chiamata deidroaloge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 algn="just">
              <a:spcBef>
                <a:spcPts val="15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a deidroalogenazio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è un esempio d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elimina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frecce ricurve mostrano come quattro legami si rompano o si formino in questo process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0001c"/>
          <p:cNvPicPr/>
          <p:nvPr/>
        </p:nvPicPr>
        <p:blipFill>
          <a:blip r:embed="rId1"/>
          <a:stretch/>
        </p:blipFill>
        <p:spPr>
          <a:xfrm>
            <a:off x="1295280" y="4567320"/>
            <a:ext cx="640080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4821B-1A77-49DB-9AC4-BA5DBB9CCF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2"/>
          <p:cNvSpPr/>
          <p:nvPr/>
        </p:nvSpPr>
        <p:spPr>
          <a:xfrm>
            <a:off x="457200" y="152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52280" y="1752480"/>
            <a:ext cx="8686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buoni nucleofili, che sono anche basi deboli, favoriscono la sostituzione rispetto alla eliminazione. Alcuni anioni danno in generale prodotti di sostituzione perchè sono buoni nucleofili, ma basi deboli. Questi comprendono  I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Br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HS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N, e  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76320" y="942840"/>
            <a:ext cx="899136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6" descr="0021a"/>
          <p:cNvPicPr/>
          <p:nvPr/>
        </p:nvPicPr>
        <p:blipFill>
          <a:blip r:embed="rId1"/>
          <a:srcRect l="20724" t="45216" r="20724" b="0"/>
          <a:stretch/>
        </p:blipFill>
        <p:spPr>
          <a:xfrm>
            <a:off x="1676520" y="4068720"/>
            <a:ext cx="6019560" cy="17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32D5-CCFD-48BB-9C70-A0365F629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2"/>
          <p:cNvSpPr/>
          <p:nvPr/>
        </p:nvSpPr>
        <p:spPr>
          <a:xfrm>
            <a:off x="380880" y="1522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3"/>
          <p:cNvSpPr/>
          <p:nvPr/>
        </p:nvSpPr>
        <p:spPr>
          <a:xfrm>
            <a:off x="228600" y="1676520"/>
            <a:ext cx="86868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stericamente impedite e non nucleofile favoriscono l’eliminazione rispetto alla sostituzione. KOC(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è troppo stericamente ingombrato per attaccare un carbonio tetravalente, ma è in grado di rimuovere un piccolo protone, favorendo l’eliminazione  rispetto alla sostituzion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52280" y="942840"/>
            <a:ext cx="891540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dire il Meccanismo dai Reagenti: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, S</a:t>
            </a:r>
            <a:r>
              <a:rPr b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, E1 o E2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6" descr="0021b"/>
          <p:cNvPicPr/>
          <p:nvPr/>
        </p:nvPicPr>
        <p:blipFill>
          <a:blip r:embed="rId1"/>
          <a:srcRect l="9090" t="44678" r="9090" b="0"/>
          <a:stretch/>
        </p:blipFill>
        <p:spPr>
          <a:xfrm>
            <a:off x="533520" y="4319640"/>
            <a:ext cx="8153280" cy="17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F9E5-E7AB-47DB-ACD2-026A57AA85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533520" y="395280"/>
            <a:ext cx="807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"/>
          <p:cNvSpPr/>
          <p:nvPr/>
        </p:nvSpPr>
        <p:spPr>
          <a:xfrm>
            <a:off x="228600" y="167652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basi più comuni usate nelle reazioni di eliminazione sono atomi di ossigeno carichi negativamente, come lo ione H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 i suoi derivati alchilici, R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chiamati alcossidi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"/>
          <p:cNvSpPr/>
          <p:nvPr/>
        </p:nvSpPr>
        <p:spPr>
          <a:xfrm>
            <a:off x="152280" y="111132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used_in_dehydrohalo_tb_764"/>
          <p:cNvPicPr/>
          <p:nvPr/>
        </p:nvPicPr>
        <p:blipFill>
          <a:blip r:embed="rId1"/>
          <a:stretch/>
        </p:blipFill>
        <p:spPr>
          <a:xfrm>
            <a:off x="533520" y="3490920"/>
            <a:ext cx="8153280" cy="26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C93B-2073-41EF-AC4A-9BD0CFC699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838080" y="22860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28600" y="1371600"/>
            <a:ext cx="86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scrivere un prodotto di deidroalogenazione: Trovare il carbonio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Identificare tutti 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n atomi di idrogeno. Rimuovere gli elementi H e X dai carboni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formare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152280" y="838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ratteristiche generali dell’eliminaz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6" descr="0002a"/>
          <p:cNvPicPr/>
          <p:nvPr/>
        </p:nvPicPr>
        <p:blipFill>
          <a:blip r:embed="rId1"/>
          <a:stretch/>
        </p:blipFill>
        <p:spPr>
          <a:xfrm>
            <a:off x="304920" y="3048120"/>
            <a:ext cx="8458200" cy="31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9D65E-85C0-419F-BC33-C2573C9FD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685800" y="152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28600" y="137160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il doppio legame di un alchene consist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di un legame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04920" y="838080"/>
            <a:ext cx="8762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8534160" cy="44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DAF98-CA18-4CBD-85D7-6E5016B24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4" descr=""/>
          <p:cNvPicPr/>
          <p:nvPr/>
        </p:nvPicPr>
        <p:blipFill>
          <a:blip r:embed="rId1"/>
          <a:stretch/>
        </p:blipFill>
        <p:spPr>
          <a:xfrm>
            <a:off x="685800" y="4548240"/>
            <a:ext cx="7804080" cy="17762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"/>
          <p:cNvSpPr/>
          <p:nvPr/>
        </p:nvSpPr>
        <p:spPr>
          <a:xfrm>
            <a:off x="685800" y="1666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28600" y="12351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i alcheni sono classificati in base al numero degli atomi di carbonio legati ai carboni del doppio legam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0003c"/>
          <p:cNvPicPr/>
          <p:nvPr/>
        </p:nvPicPr>
        <p:blipFill>
          <a:blip r:embed="rId2"/>
          <a:stretch/>
        </p:blipFill>
        <p:spPr>
          <a:xfrm>
            <a:off x="990720" y="2230560"/>
            <a:ext cx="7162560" cy="1350720"/>
          </a:xfrm>
          <a:prstGeom prst="rect">
            <a:avLst/>
          </a:prstGeom>
          <a:ln w="0">
            <a:noFill/>
          </a:ln>
        </p:spPr>
      </p:pic>
      <p:sp>
        <p:nvSpPr>
          <p:cNvPr id="87" name="Line 9"/>
          <p:cNvSpPr/>
          <p:nvPr/>
        </p:nvSpPr>
        <p:spPr>
          <a:xfrm>
            <a:off x="228600" y="3733920"/>
            <a:ext cx="8610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1"/>
          <p:cNvSpPr/>
          <p:nvPr/>
        </p:nvSpPr>
        <p:spPr>
          <a:xfrm>
            <a:off x="241560" y="3733920"/>
            <a:ext cx="26618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1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assificazione degli alchen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lla base del numero di gruppi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legati al doppio legam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3" descr=""/>
          <p:cNvPicPr/>
          <p:nvPr/>
        </p:nvPicPr>
        <p:blipFill>
          <a:blip r:embed="rId3"/>
          <a:stretch/>
        </p:blipFill>
        <p:spPr>
          <a:xfrm>
            <a:off x="1600200" y="6515280"/>
            <a:ext cx="4876920" cy="26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egnaposto numero diapositiva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9D61-04BC-43BD-AC4B-76CF85B2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457200" y="16668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ogenuri Alchilici e Reazioni di Eliminazion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28600" y="129528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3920" indent="-223920" algn="just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cordare che la rotazione attorno al doppio legame è impedit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52280" y="730080"/>
            <a:ext cx="8763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lcheni—I prodotti delle reazioni di eliminazion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1276920" y="2193840"/>
            <a:ext cx="1125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cc"/>
                </a:solidFill>
                <a:latin typeface="Tahoma"/>
              </a:rPr>
              <a:t>Figura 8.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5" descr=""/>
          <p:cNvPicPr/>
          <p:nvPr/>
        </p:nvPicPr>
        <p:blipFill>
          <a:blip r:embed="rId1"/>
          <a:stretch/>
        </p:blipFill>
        <p:spPr>
          <a:xfrm>
            <a:off x="304920" y="2597040"/>
            <a:ext cx="2046240" cy="4510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6" descr=""/>
          <p:cNvPicPr/>
          <p:nvPr/>
        </p:nvPicPr>
        <p:blipFill>
          <a:blip r:embed="rId2"/>
          <a:stretch/>
        </p:blipFill>
        <p:spPr>
          <a:xfrm>
            <a:off x="2590920" y="1967040"/>
            <a:ext cx="563868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8T18:12:23Z</dcterms:created>
  <dc:creator> </dc:creator>
  <dc:description/>
  <dc:language>en-US</dc:language>
  <cp:lastModifiedBy>User Name</cp:lastModifiedBy>
  <dcterms:modified xsi:type="dcterms:W3CDTF">2008-11-19T15:57:51Z</dcterms:modified>
  <cp:revision>602</cp:revision>
  <dc:subject/>
  <dc:title>PowerPoint Presentation</dc:title>
</cp:coreProperties>
</file>