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9.png" ContentType="image/png"/>
  <Override PartName="/ppt/media/image34.png" ContentType="image/png"/>
  <Override PartName="/ppt/media/image44.jpeg" ContentType="image/jpeg"/>
  <Override PartName="/ppt/media/image12.png" ContentType="image/png"/>
  <Override PartName="/ppt/media/image32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13.png" ContentType="image/pn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11.png" ContentType="image/png"/>
  <Override PartName="/ppt/media/image45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5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013E-7FA6-4D30-B67F-678535FF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CCEA-5579-4CA4-8FC9-9173973E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3E4-BB54-4EE7-BFEA-568776E9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983F-4366-40AF-8E6B-18DDA2D6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F51A-24DE-4014-A444-AA39BC13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5691-1F62-4C18-917C-EAD7905A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2A11-1EC0-4370-B6AE-BB8ED1B1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35E-B212-467C-95EC-611D8218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0F5-317C-4CD1-B6E9-E60B7B73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97A-545F-492C-AA2F-04CFF669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2F9-D2C2-4A56-9B47-B5F1C1BD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6F9-6EE8-4528-BEE7-B1646CAE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286F-6004-45D7-92FE-64F97AD07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48A1-FB8B-4EA0-B91A-29D6EAF14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396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54600" y="380988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olo 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F75A-D4C3-4FC4-B047-CEFA07B35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33520" y="1666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28600" y="12952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usa della rotazione impedita, sono possibili due stereoisomeri per il 2-butene.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e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sono stereoisomeri, ma non sono reciproca immagine speculare: sono perciò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0004a"/>
          <p:cNvPicPr/>
          <p:nvPr/>
        </p:nvPicPr>
        <p:blipFill>
          <a:blip r:embed="rId1"/>
          <a:stretch/>
        </p:blipFill>
        <p:spPr>
          <a:xfrm>
            <a:off x="1600200" y="3092400"/>
            <a:ext cx="58672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6D9E-A87E-4A38-8C62-35AAAAFEE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0948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volta che su ogni estremità del doppio legame carbonio-carbonio i due gruppi sono diversi l’uno dall’altro, sono possibili due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0004b"/>
          <p:cNvPicPr/>
          <p:nvPr/>
        </p:nvPicPr>
        <p:blipFill>
          <a:blip r:embed="rId1"/>
          <a:stretch/>
        </p:blipFill>
        <p:spPr>
          <a:xfrm>
            <a:off x="533520" y="3352680"/>
            <a:ext cx="80769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66F7-C317-411C-B4BB-A17BB76DB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57200" y="395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16318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e, 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no più stabili de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rchè i gruppi legati ai carboni del doppio legame sono ben lontani, riducendo così le interazioni ster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0004c"/>
          <p:cNvPicPr/>
          <p:nvPr/>
        </p:nvPicPr>
        <p:blipFill>
          <a:blip r:embed="rId1"/>
          <a:stretch/>
        </p:blipFill>
        <p:spPr>
          <a:xfrm>
            <a:off x="533520" y="3435480"/>
            <a:ext cx="807696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8B64-F1AB-4315-9CBD-A6B5A8B24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609480" y="1666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12193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abilità di un alchene aumenta con il numero di gruppi R legati al doppio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05a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1773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228600" y="3917880"/>
            <a:ext cx="868680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ù alta è 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più facilmente un atomo accetta densità elettronica. Perciò i carbon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accettare densità elettronica e gli atomi di carbonio ibridat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donare densità elettronica 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 conseguenza, aumentare il numero di gruppi elettron-donatori su un atomo in grado di accettare densità elettronica rende l’alchen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223D-2B89-498A-B3F6-706DAEDE8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7240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chene disostituito) è più stabile d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tro alchene disostituito), ma entrambi sono più stabili dell’1-butene (un alchene monosostituito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1143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05c"/>
          <p:cNvPicPr/>
          <p:nvPr/>
        </p:nvPicPr>
        <p:blipFill>
          <a:blip r:embed="rId1"/>
          <a:stretch/>
        </p:blipFill>
        <p:spPr>
          <a:xfrm>
            <a:off x="990720" y="3552840"/>
            <a:ext cx="72388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C71A-91DC-4E8A-8BC7-D3AD93DBB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698480"/>
            <a:ext cx="86868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due meccanismi per l’eliminazione—E2 e E1, proprio come ci sono due meccanismi per la sostituzione nucleofila,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2 — eliminazione bi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1 — eliminazione mono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E2 e E1 differiscono per i momenti in cui avvengono la rottura e la formazione dei legami, in analogia a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hanno alcune caratteristiche in comune, come pure la E1 e la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38B2-B84E-4EB2-8A97-86E9DA36C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28600" y="1546200"/>
            <a:ext cx="8686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più comune per la deidroalogenazione è quello E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2 segue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netica del secondo ord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sia l’alogenuro alchilico che la base compaiono nell’equazione di velocità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09680" y="388620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Br]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" y="4664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zio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cert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utti i legami sono scissi e formati in un unico stad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51C0-265E-43F2-9EAD-385B80703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mechanism_1_c_la_764"/>
          <p:cNvPicPr/>
          <p:nvPr/>
        </p:nvPicPr>
        <p:blipFill>
          <a:blip r:embed="rId1"/>
          <a:stretch/>
        </p:blipFill>
        <p:spPr>
          <a:xfrm>
            <a:off x="457200" y="2332080"/>
            <a:ext cx="800100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E368-E4CA-4DD6-9947-E92313177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62120" y="1752480"/>
            <a:ext cx="1933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2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0" y="3527280"/>
            <a:ext cx="3352680" cy="1430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209052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3352680" y="1523880"/>
            <a:ext cx="57150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76C4-C522-4584-9B2B-7D79B9EB3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68580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28600" y="1600200"/>
            <a:ext cx="8686800" cy="29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o stretto parallelismo fra i meccanismi E2 e S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 per come la velocità è influenzata dalla natura della base, del gruppo uscente e dal solv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base compare nell’equazione di velocità, pertanto la velocità della reazione E2 aumenta all’aumentare della forza della bas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eazioni E2 sono generalmente condotte con basi forti cariche negativamente,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721C-1646-43FC-8DCF-BA8F5EF77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60948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di eliminazione comportano una perdita di elementi da parte del materiale di partenza per formare un nuovo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l prodot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19240" y="3043080"/>
            <a:ext cx="84675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C94A-1A75-4962-9400-D824364B8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7200" y="471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52280" y="12636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1"/>
          <a:stretch/>
        </p:blipFill>
        <p:spPr>
          <a:xfrm>
            <a:off x="228600" y="2322360"/>
            <a:ext cx="8691480" cy="2478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2"/>
          <a:stretch/>
        </p:blipFill>
        <p:spPr>
          <a:xfrm>
            <a:off x="228600" y="5037120"/>
            <a:ext cx="86104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E78F-D1C2-4AD9-AE1D-73568DC70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533520" y="471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28600" y="1752480"/>
            <a:ext cx="868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E2 differiscono nel modo in cui il gruppo R influenza la velocità della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228600" y="3049560"/>
            <a:ext cx="87454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F95D-E033-47E2-91F0-B5FB7E4CF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28600" y="1639800"/>
            <a:ext cx="868680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umentare della velocità della reazione E2 all’aumentare dei sostituenti alchilici può essere razionalizzata in termini di stabilità dello stato di transi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o stato di transizione il doppio legame è parzialmente formato. Perciò, aumentare la stabiltà del doppio legame con i sostituenti alchilici stabilizza lo stato di transizione (cioè si abbassa la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questo fa aumentare la velocità della re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609480" y="4446720"/>
            <a:ext cx="74678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4E94-50BC-4197-A2AC-771657D40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010280" cy="3959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28600" y="838080"/>
            <a:ext cx="868680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 E2, aumentando il numero dei gruppi R sul carbonio che contiene il gruppo uscente, si forma un alchene più sostituito 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seguenti, poichè l’alchene disostituito è più stabile, l’alogenuro alchilico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reagisce più velocemente dell’alogenuro alchilico 1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8727-1E35-4B18-96B0-835889D75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80880" y="243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2 riassume le caratteristiche del meccanismo E2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characteristicse2_m_tb_764"/>
          <p:cNvPicPr/>
          <p:nvPr/>
        </p:nvPicPr>
        <p:blipFill>
          <a:blip r:embed="rId1"/>
          <a:stretch/>
        </p:blipFill>
        <p:spPr>
          <a:xfrm>
            <a:off x="457200" y="2278080"/>
            <a:ext cx="82296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EC86-B7CE-4D7F-B12F-2AC76031D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533520" y="763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28600" y="1066680"/>
            <a:ext cx="8686800" cy="30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quando gli alogenuri alchilici hanno due o più atomi di carbonio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versi, si può formare una miscela di alche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accade questo, uno dei prodotti generalmente è più abbonda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rodotto principale è il prodotto più stabile — quello con il doppio legame più sostitui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o fenomeno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regola di Zaitsev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57200" y="609480"/>
            <a:ext cx="541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0010"/>
          <p:cNvPicPr/>
          <p:nvPr/>
        </p:nvPicPr>
        <p:blipFill>
          <a:blip r:embed="rId1"/>
          <a:stretch/>
        </p:blipFill>
        <p:spPr>
          <a:xfrm>
            <a:off x="609480" y="4141800"/>
            <a:ext cx="80773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CA2D-E81F-4B3F-AB29-C5D85E6F7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990720" y="34920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28600" y="1957320"/>
            <a:ext cx="868680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gola di Zaitsev: nell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eliminazioni il prodotto principale presenta il doppio legame più sostitui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egioselettiv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fornisce in maniera predominante o esclusiva un isomero costituzionale, quando è possibile ottenerne più di uno. La reazione E2 è regioselettiv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52280" y="115740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6E1B-DF2E-4489-AA7E-FCC499F74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533520" y="152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28600" y="1295280"/>
            <a:ext cx="868680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è possibile formare una miscela di stereoisomeri mediante deidroalogenazione, il prodotto maggioritario è l’isomero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ereoselettiv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form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manier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dominante o esclusiva uno stereoisomero, quando due o più sono possibi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2 è stereoselettiva perchè porta alla formazione preferenziale di uno stereoisomer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0011b"/>
          <p:cNvPicPr/>
          <p:nvPr/>
        </p:nvPicPr>
        <p:blipFill>
          <a:blip r:embed="rId1"/>
          <a:stretch/>
        </p:blipFill>
        <p:spPr>
          <a:xfrm>
            <a:off x="762120" y="4343400"/>
            <a:ext cx="74674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FA6A-CBC9-4218-AD83-B4CDADEF2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45720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28600" y="990720"/>
            <a:ext cx="868680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deidroalogenazione di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 con 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per formare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=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uò essere usata per illustrare il secondo meccanismo generale delle eliminazioni, i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E1 ha una cinetica del primo ordin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743200" y="2590920"/>
            <a:ext cx="4038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8600" y="2971800"/>
            <a:ext cx="868680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1 avviene attraverso un meccanismo a due stadi: il legame del gruppo uscente si scinde prima ch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formi. Lo stadio lento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molecolar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coinvolgendo solo l’alogenuro alchilic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meccanismi E1 e E2 implicano lo stesso numero di legami scissi e formati. La sola differenza è nella scissione temporale di questi eventi. Nella reazione E1 il gruppo uscente si stacca prima della rimozione de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la reazione avviene in due stadi. NelIa reazione E2 il gruppo uscente si stacca nel momento in cui i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viene rimosso, e la reazione avviene in un singolo stadi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131C-45DD-44A2-AAB8-2328CF6B6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mechanism_2_c_la_764"/>
          <p:cNvPicPr/>
          <p:nvPr/>
        </p:nvPicPr>
        <p:blipFill>
          <a:blip r:embed="rId1"/>
          <a:stretch/>
        </p:blipFill>
        <p:spPr>
          <a:xfrm>
            <a:off x="685800" y="1563840"/>
            <a:ext cx="75438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AE14-5AD5-4E0C-ACE0-BBE65736D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equazioni [1] e [2] mostrano degli esempi di reazioni di eliminazione. In entrambe le reazioni, una base rimuove gli elementi di un acido (HX) dal  materiale organico di part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09480" y="3124080"/>
            <a:ext cx="800100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A67C-E1D6-4641-B1C6-EBEE8ECDA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33520" y="243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52720" y="1523880"/>
            <a:ext cx="1933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1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"/>
          <p:cNvPicPr/>
          <p:nvPr/>
        </p:nvPicPr>
        <p:blipFill>
          <a:blip r:embed="rId1"/>
          <a:stretch/>
        </p:blipFill>
        <p:spPr>
          <a:xfrm>
            <a:off x="39600" y="3657600"/>
            <a:ext cx="2475000" cy="1595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"/>
          <p:cNvPicPr/>
          <p:nvPr/>
        </p:nvPicPr>
        <p:blipFill>
          <a:blip r:embed="rId2"/>
          <a:stretch/>
        </p:blipFill>
        <p:spPr>
          <a:xfrm>
            <a:off x="76320" y="2370240"/>
            <a:ext cx="2057400" cy="449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64008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AB5E-CFF7-4606-B499-9075ED577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locità di una reazione E1 aumenta all’aumentare dei gruppi R presenti sul carbonio recante il gruppo uscent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52280" y="77616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0013"/>
          <p:cNvPicPr/>
          <p:nvPr/>
        </p:nvPicPr>
        <p:blipFill>
          <a:blip r:embed="rId1"/>
          <a:stretch/>
        </p:blipFill>
        <p:spPr>
          <a:xfrm>
            <a:off x="2438280" y="2057400"/>
            <a:ext cx="4267440" cy="3114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517860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orza della base in generale determina se una reazione di eliminazione segue il meccanismo E1 o E2. Basi forti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R favoriscono le reazioni E2, mentre le basi deboli come 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 e ROH favoriscono le E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8444-C6E6-4E18-83C2-5BD9B2DBC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533520" y="31896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28600" y="1523880"/>
            <a:ext cx="86868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1 sono regioselettive, e favoriscono la formazione dell’alchene più sostituito e quindi più stabi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gola di Zaitsev si applica anche alle reazioni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0014"/>
          <p:cNvPicPr/>
          <p:nvPr/>
        </p:nvPicPr>
        <p:blipFill>
          <a:blip r:embed="rId1"/>
          <a:stretch/>
        </p:blipFill>
        <p:spPr>
          <a:xfrm>
            <a:off x="990720" y="3260880"/>
            <a:ext cx="716256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5FC6-D926-4340-A3E0-039CD106D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609480" y="2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3 riassume la caratteristiche de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characteristics_e1_tb_764"/>
          <p:cNvPicPr/>
          <p:nvPr/>
        </p:nvPicPr>
        <p:blipFill>
          <a:blip r:embed="rId1"/>
          <a:stretch/>
        </p:blipFill>
        <p:spPr>
          <a:xfrm>
            <a:off x="304920" y="2271600"/>
            <a:ext cx="830556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281C-67D6-4221-8380-81D5340F8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523880" y="2286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" y="9907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reazioni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 ed E1 hanno esattamente lo stesso primo stadio, cioè la formazione di un carbocatione. Differiscono per quanto accade successivamente al carbocat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52280" y="533520"/>
            <a:ext cx="8763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azioni S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 ed E1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28600" y="565164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ichè le reazioni E1 avvengono spesso in competizione con le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 le reazioni E1 degli alogenuri alchilici sono molto meno utili delle reazioni E2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406440" y="1996920"/>
            <a:ext cx="797544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325F-9552-4C92-9444-423D3DDBD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28600" y="14954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forza della base è il fattore più importante nel determinare il meccanismo della eliminazione. Basi forti favoriscono il meccanismo E2, basi deboli il meccanismo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do un Meccanismo è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comparison_e1_e2_me_tb_764"/>
          <p:cNvPicPr/>
          <p:nvPr/>
        </p:nvPicPr>
        <p:blipFill>
          <a:blip r:embed="rId1"/>
          <a:stretch/>
        </p:blipFill>
        <p:spPr>
          <a:xfrm>
            <a:off x="838080" y="3274920"/>
            <a:ext cx="746784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D9DB-44F9-42B1-B875-5D99C8C31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28600" y="1447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singola reazione di eliminazione produc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ene. Due reazioni di eliminazione consecutive producono du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in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83059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B843-2394-4C82-9F48-18BB42077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76212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295280"/>
            <a:ext cx="868680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rimuovere due moli di HX da un dialogenuro come substrato, sono necessarie due reazioni di eliminazio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ono essere usati due diversi tipi di materiale di partenza: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vicin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gemi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52280" y="762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523800" y="3346560"/>
            <a:ext cx="78580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914D-DA12-4A35-9523-41184A7C7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53352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28600" y="1087560"/>
            <a:ext cx="868680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intetizzare gli alchini mediante deidroalogenazione sono necessarie basi più forti rispetto a quelle necessarie per la sintesi degli alchen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ipica base è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one ammiduro), usato come sale sodico Na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sodio ammide). Può essere usato anche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on DMSO come solv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0020a"/>
          <p:cNvPicPr/>
          <p:nvPr/>
        </p:nvPicPr>
        <p:blipFill>
          <a:blip r:embed="rId1"/>
          <a:stretch/>
        </p:blipFill>
        <p:spPr>
          <a:xfrm>
            <a:off x="533520" y="3622680"/>
            <a:ext cx="81532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E267-26D3-4A4B-82A0-A5B8B892F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609480" y="3189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84960" y="1676520"/>
            <a:ext cx="2581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idroalogenazione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logenuri per formare alchi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"/>
          <p:cNvPicPr/>
          <p:nvPr/>
        </p:nvPicPr>
        <p:blipFill>
          <a:blip r:embed="rId1"/>
          <a:stretch/>
        </p:blipFill>
        <p:spPr>
          <a:xfrm>
            <a:off x="1295280" y="2765520"/>
            <a:ext cx="6966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AF10-8678-4E20-89FA-F62AF5166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28600" y="183204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mozione degli elementi HX è chiamata deidroaloge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deidroalogen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esempio d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limi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frecce ricurve mostrano come quattro legami si rompano o si formino in questo proces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0001c"/>
          <p:cNvPicPr/>
          <p:nvPr/>
        </p:nvPicPr>
        <p:blipFill>
          <a:blip r:embed="rId1"/>
          <a:stretch/>
        </p:blipFill>
        <p:spPr>
          <a:xfrm>
            <a:off x="1295280" y="4567320"/>
            <a:ext cx="64008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E63D-11B4-4709-8FC8-7FB1E553F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57200" y="152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2280" y="1752480"/>
            <a:ext cx="8686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buoni nucleofili, che sono anche basi deboli, favoriscono la sostituzione rispetto alla eliminazione. Alcuni anioni danno in generale prodotti di sostituzione perchè sono buoni nucleofili, ma basi deboli. Questi comprendono  I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, e 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76320" y="942840"/>
            <a:ext cx="8991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0021a"/>
          <p:cNvPicPr/>
          <p:nvPr/>
        </p:nvPicPr>
        <p:blipFill>
          <a:blip r:embed="rId1"/>
          <a:srcRect l="20724" t="45216" r="20724" b="0"/>
          <a:stretch/>
        </p:blipFill>
        <p:spPr>
          <a:xfrm>
            <a:off x="1676520" y="4068720"/>
            <a:ext cx="60195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ADAD-EEE8-4B1C-977A-E2B865592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0880" y="152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28600" y="1676520"/>
            <a:ext cx="86868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stericamente impedite e non nucleofile favoriscono l’eliminazione rispetto alla sostituzione.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è troppo stericamente ingombrato per attaccare un carbonio tetravalente, ma è in grado di rimuovere un piccolo protone, favorendo l’eliminazione  rispetto alla sostitu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52280" y="942840"/>
            <a:ext cx="8915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0021b"/>
          <p:cNvPicPr/>
          <p:nvPr/>
        </p:nvPicPr>
        <p:blipFill>
          <a:blip r:embed="rId1"/>
          <a:srcRect l="9090" t="44678" r="9090" b="0"/>
          <a:stretch/>
        </p:blipFill>
        <p:spPr>
          <a:xfrm>
            <a:off x="533520" y="4319640"/>
            <a:ext cx="81532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4C3C-4B90-4FCE-95F3-E711C393E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33520" y="395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28600" y="1676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più comuni usate nelle reazioni di eliminazione sono atomi di ossigeno carichi negativamente, come lo ione H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 i suoi derivati alchilici, 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hiamati alcoss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used_in_dehydrohalo_tb_764"/>
          <p:cNvPicPr/>
          <p:nvPr/>
        </p:nvPicPr>
        <p:blipFill>
          <a:blip r:embed="rId1"/>
          <a:stretch/>
        </p:blipFill>
        <p:spPr>
          <a:xfrm>
            <a:off x="533520" y="3490920"/>
            <a:ext cx="81532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048A-D7F6-429A-A38D-DB448DC93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838080" y="2286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crivere un prodotto di deidroalogenazione: Trovare il carboni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dentificare tutti 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 atomi di idrogeno. Rimuovere gli elementi H e X da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formar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0002a"/>
          <p:cNvPicPr/>
          <p:nvPr/>
        </p:nvPicPr>
        <p:blipFill>
          <a:blip r:embed="rId1"/>
          <a:stretch/>
        </p:blipFill>
        <p:spPr>
          <a:xfrm>
            <a:off x="304920" y="3048120"/>
            <a:ext cx="845820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2A77-1E31-4F07-96CE-5273D5C85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858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1371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il doppio legame di un alchene consist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83808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5341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AF71-30BB-4C51-B0FE-21F9941F1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685800" y="4548240"/>
            <a:ext cx="7804080" cy="1776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685800" y="1666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lcheni sono classificati in base al numero degli atomi di carbonio legati ai carboni del doppio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0003c"/>
          <p:cNvPicPr/>
          <p:nvPr/>
        </p:nvPicPr>
        <p:blipFill>
          <a:blip r:embed="rId2"/>
          <a:stretch/>
        </p:blipFill>
        <p:spPr>
          <a:xfrm>
            <a:off x="990720" y="2230560"/>
            <a:ext cx="7162560" cy="1350720"/>
          </a:xfrm>
          <a:prstGeom prst="rect">
            <a:avLst/>
          </a:prstGeom>
          <a:ln w="0">
            <a:noFill/>
          </a:ln>
        </p:spPr>
      </p:pic>
      <p:sp>
        <p:nvSpPr>
          <p:cNvPr id="87" name="Line 9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41560" y="3733920"/>
            <a:ext cx="2661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ficazione degli alche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lla base del numero di grupp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legati al doppio leg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3" descr=""/>
          <p:cNvPicPr/>
          <p:nvPr/>
        </p:nvPicPr>
        <p:blipFill>
          <a:blip r:embed="rId3"/>
          <a:stretch/>
        </p:blipFill>
        <p:spPr>
          <a:xfrm>
            <a:off x="1600200" y="6515280"/>
            <a:ext cx="4876920" cy="26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7DDB-21FE-4FB4-BC1B-963495BC5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295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la rotazione attorno al doppio legame è impedi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276920" y="2193840"/>
            <a:ext cx="112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1"/>
          <a:stretch/>
        </p:blipFill>
        <p:spPr>
          <a:xfrm>
            <a:off x="304920" y="2597040"/>
            <a:ext cx="2046240" cy="45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2590920" y="1967040"/>
            <a:ext cx="5638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19T15:57:51Z</dcterms:modified>
  <cp:revision>602</cp:revision>
  <dc:subject/>
  <dc:title>PowerPoint Presentation</dc:title>
</cp:coreProperties>
</file>