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067-0361-42B1-BD66-2CECA6E9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D76-9E11-456D-B60E-29604106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315-710C-40FB-B696-2DE961B3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AA0-5940-4F7D-9987-F9AEDE43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4FA-1D69-4B28-830F-71055B22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713-0CB1-4673-9F9F-67E54FEE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984-C7A0-42A1-862C-A87CC620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128-4F74-4911-BF19-AA3A215B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D2E-CEA5-4371-97CE-595207E4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35A-0A8E-462F-8EF5-496DE8AC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86D-61E2-40C6-AC16-FA35DDB4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EF8-2879-416C-9DA4-C184DA59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698C-04AC-412D-BA63-A2027C8EC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1B3A-17CF-4BF4-B8EE-AE5713ACC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52800" y="3809880"/>
            <a:ext cx="506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9461-11A7-4868-97D8-3EA1D6C79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8600" y="1676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 evidenze dell’alogenazione suggeriscono che il meccanismo coinvolge intermedi radicalici, e non ionic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0005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D90D-B849-41A5-99E8-38743FD9A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763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143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logenazione radicalica ha tre passaggi distin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28600" y="4572000"/>
            <a:ext cx="8686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meccanismo (come l’alogenazione radicalica), che prevede due o più stadi che si ripetono,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ccanismo a caten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i stadi più importanti dell’alogenazione radicalica son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gli stadi di propagazione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 portano alla formazione dei prodot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4576-8006-4DDD-B4DC-204CC6E1E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52388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—Meccanism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mechanism_151_c_la_764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97BB-7AF7-4DB5-B198-036A0C4D9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743200" y="152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28600" y="1295280"/>
            <a:ext cx="868680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grado gli alcani subiscano reazioni radicaliche sia con C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he con B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la clorurazione e la bromurazione mostrano due importanti differenz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è più veloce della bromur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non è selettiva, e fornisce una miscela di prodotti, mentre la bromurazione è spesso selettiva, e fornisce un prodotto principa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ze fra Clorurazione e Bromur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0008a"/>
          <p:cNvPicPr/>
          <p:nvPr/>
        </p:nvPicPr>
        <p:blipFill>
          <a:blip r:embed="rId1"/>
          <a:stretch/>
        </p:blipFill>
        <p:spPr>
          <a:xfrm>
            <a:off x="457200" y="4095720"/>
            <a:ext cx="8381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3195-2826-4346-90BB-24FC436FB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743200" y="166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2868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carboni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è un carbonio adiacente a un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omolisi del legame C—H allilico del propene genera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che ha un elettrone spaiato sul carbonio adiacente al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13b"/>
          <p:cNvPicPr/>
          <p:nvPr/>
        </p:nvPicPr>
        <p:blipFill>
          <a:blip r:embed="rId1"/>
          <a:stretch/>
        </p:blipFill>
        <p:spPr>
          <a:xfrm>
            <a:off x="914400" y="2843280"/>
            <a:ext cx="7238880" cy="1042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228600" y="398772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energia di dissociazione di questo processo è inferiore anche a quella di un legame C—H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91 kcal/mol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o significa che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più stabile del radicale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013c"/>
          <p:cNvPicPr/>
          <p:nvPr/>
        </p:nvPicPr>
        <p:blipFill>
          <a:blip r:embed="rId2"/>
          <a:stretch/>
        </p:blipFill>
        <p:spPr>
          <a:xfrm>
            <a:off x="685800" y="5518080"/>
            <a:ext cx="8229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B5F4-9B14-4C5C-B843-A7CDAEC57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895480" y="228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allilico è più stabile di altri radicali in quanto può essere descritto con due strutture di risonanz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380880" y="2828880"/>
            <a:ext cx="8464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009B-7A7D-4D0E-85F1-77FB8B5D2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895480" y="76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HBr si lega agli alcheni per formare bromuri alchilici in presenza di luce, calore o perossid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gioselettività dell’addizione a un alchene asimmetrico è diversa dall’addizione di HBr in assenza di luce, calore o perossid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18c"/>
          <p:cNvPicPr/>
          <p:nvPr/>
        </p:nvPicPr>
        <p:blipFill>
          <a:blip r:embed="rId1"/>
          <a:stretch/>
        </p:blipFill>
        <p:spPr>
          <a:xfrm>
            <a:off x="685800" y="2878200"/>
            <a:ext cx="8077320" cy="298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28600" y="5943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ddizione di HBr ad alcheni in presenza di luce, calore o perossidi avviene con un meccanismo radical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49EC-FB2B-4DF7-9A10-159DDA30C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00400" y="76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 Re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176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mechanism_154_c_la_764"/>
          <p:cNvPicPr/>
          <p:nvPr/>
        </p:nvPicPr>
        <p:blipFill>
          <a:blip r:embed="rId1"/>
          <a:stretch/>
        </p:blipFill>
        <p:spPr>
          <a:xfrm>
            <a:off x="533520" y="1095480"/>
            <a:ext cx="7848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FC32-C393-49AC-9C17-F7C4554C0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895480" y="76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136520"/>
            <a:ext cx="86868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nel primo stadio di propagazione (l’addizione di B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al doppio legame) ci sono due possibili percor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A] forma il radica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eno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B] forma il radicale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8600" y="3139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2° più stabile si forma più velocemente, e quindi il percorso [B] è favori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0019"/>
          <p:cNvPicPr/>
          <p:nvPr/>
        </p:nvPicPr>
        <p:blipFill>
          <a:blip r:embed="rId1"/>
          <a:stretch/>
        </p:blipFill>
        <p:spPr>
          <a:xfrm>
            <a:off x="685800" y="4143240"/>
            <a:ext cx="77724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23F4-2CF8-4876-8603-310CCB1F8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895480" y="166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" y="1251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radicalico mostra anche perchè la regioselettività dell’addizione di HBr dipende dalle condizioni di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059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31D0-AB70-46EC-865B-7AC46187A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295280"/>
            <a:ext cx="8686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significativo gruppo di reazioni prevede intermedi radical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intermedio reattivo con un singolo elettrone spaiato, che si forma dall’omolisi di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radicale contiene un atomo che non ha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mostrare il movimento di singoli elettroni nei processi radicalici si us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recce a una sola punt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0001a"/>
          <p:cNvPicPr/>
          <p:nvPr/>
        </p:nvPicPr>
        <p:blipFill>
          <a:blip r:embed="rId1"/>
          <a:stretch/>
        </p:blipFill>
        <p:spPr>
          <a:xfrm>
            <a:off x="2971800" y="5372280"/>
            <a:ext cx="2971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78C3-80EF-4830-8A19-51D418060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53360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el carbonio sono classificati come primari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econdari (2°) o terziari 3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rbonio radicalico è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 è trigonale planare, come i carbocationi ibridat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orbitale non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iene un elettrone spaiato e si estende al di sopra e al di sotto del carbonio trigonal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85800" y="4495680"/>
            <a:ext cx="7848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5B52-173D-4CC2-A3F7-6CB9C6D53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2280" y="882720"/>
            <a:ext cx="8763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228600" y="39625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71696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147600" y="4038480"/>
            <a:ext cx="2297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tà relativa di radical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 carbonio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 e 2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7804440" cy="1658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48FF-6D68-49E9-AA5F-A159A66ED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143000"/>
            <a:ext cx="8686800" cy="56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si formano dalla rottura di legami covalenti per aggiunta di energia sotto for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lore 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(h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reazioni radicaliche avvengono in presenza di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iziatore radical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niziatori radicalici contengono un legame particolarmente debole che serve come sorgente di radic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perossi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mposti con struttura generale RO—OR, sono gli iniziatori radicalici usati più comune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aldando un perossido si causa l’omolisi del debole legame O—O, che forma due radicali R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anno due principali tipi di reazione—reagiscono con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onds, e si addizionano a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e Reazioni Radicalich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FCC7-1DDE-4AD2-923C-9BD80D54E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1430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trappa un atomo di idrogeno da un legame 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—H per formare H—X e un carbonio radical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6541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-H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003a"/>
          <p:cNvPicPr/>
          <p:nvPr/>
        </p:nvPicPr>
        <p:blipFill>
          <a:blip r:embed="rId1"/>
          <a:stretch/>
        </p:blipFill>
        <p:spPr>
          <a:xfrm>
            <a:off x="1690560" y="1905120"/>
            <a:ext cx="562464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28600" y="41148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i può anche addizionare al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i un doppio legame carbonio—carboni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0003b"/>
          <p:cNvPicPr/>
          <p:nvPr/>
        </p:nvPicPr>
        <p:blipFill>
          <a:blip r:embed="rId2"/>
          <a:stretch/>
        </p:blipFill>
        <p:spPr>
          <a:xfrm>
            <a:off x="2209680" y="4924440"/>
            <a:ext cx="4724640" cy="1704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152280" y="35812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=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47FF-9BF7-445E-9C74-CF164B77A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847800"/>
            <a:ext cx="868680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, una volta formato, reagisce rapidamente con qualsiasi specie disponibile, di solito con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stab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ue radicali reagiscono per formare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e Radicali che reagiscono l’uno con l’altr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0003c"/>
          <p:cNvPicPr/>
          <p:nvPr/>
        </p:nvPicPr>
        <p:blipFill>
          <a:blip r:embed="rId1"/>
          <a:stretch/>
        </p:blipFill>
        <p:spPr>
          <a:xfrm>
            <a:off x="2343240" y="2287440"/>
            <a:ext cx="4743360" cy="12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28600" y="3581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azione di un radicale con ossigeno (che nella sua configurazione elettronica più stabile è un diradicale) è un altro esempio di due radicali che reagiscono l’uno con l’altr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0003d"/>
          <p:cNvPicPr/>
          <p:nvPr/>
        </p:nvPicPr>
        <p:blipFill>
          <a:blip r:embed="rId2"/>
          <a:stretch/>
        </p:blipFill>
        <p:spPr>
          <a:xfrm>
            <a:off x="990720" y="4648320"/>
            <a:ext cx="7010280" cy="788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28600" y="541008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composti che impediscono alle reazioni radicaliche di avvenire sono chiamati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nibito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equestratori 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Oltre a 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anche la vitamina E e altri composti correlati sono inibitori radica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819520" y="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F5FF-EDD2-468E-98C9-9E6BBD7F8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895480" y="763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1066680"/>
            <a:ext cx="868680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calore o di luce, gli alcani reagiscono con gli alogeni per formare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è una reazione di sostituzione radical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degli alcani è utilizzabile solo con Cl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La reazione con F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violenta, e la reazione con I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lenta per essere di utilità prat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 un alcano che possiede più di un tipo di atomi di idrogeno, la reazione può fornire una miscela di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0004b"/>
          <p:cNvPicPr/>
          <p:nvPr/>
        </p:nvPicPr>
        <p:blipFill>
          <a:blip r:embed="rId1"/>
          <a:stretch/>
        </p:blipFill>
        <p:spPr>
          <a:xfrm>
            <a:off x="304920" y="4038480"/>
            <a:ext cx="8458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36CD-2F10-4AFF-ABC3-C4B46A4C7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273320" y="5105520"/>
            <a:ext cx="7794360" cy="1473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895480" y="76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082520"/>
            <a:ext cx="8686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un singolo atomo di idrogeno, su un carbonio, viene sostituito da un atomo di alogeno si ha l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alogenazio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viene usato un eccesso di alogeno, è possibile sostituire più di un atomo di idrogeno, su un singolo carbonio, con atomi di al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monoalogenazione può essere ottenuta sperimentalmente aggiungendo alogeno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eccesso di alc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disegnare i prodotti di alogenazione di un alcano, bisogna disegnare solo i prodotti di monoalogenazione, a meno che non sia indicato di fare altrimenti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60" y="4724280"/>
            <a:ext cx="2085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genazione complet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ando u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cesso di C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6:37Z</dcterms:modified>
  <cp:revision>871</cp:revision>
  <dc:subject/>
  <dc:title>PowerPoint Presentation</dc:title>
</cp:coreProperties>
</file>