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3D4B-3145-45CD-AB08-6D79FE6E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80F-5786-4B70-AD06-62537326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663A-185C-4F3A-9E86-2BF585F5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0B8B-8B06-4407-A4E2-38B88EC2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654D-C199-4A2B-9CE5-A1322A75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BF72-8B78-40B9-9A0E-6DBE1676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858-BDB2-43B8-A91C-150C560E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C482-73A0-449B-85B0-6B839FD5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CB31-52DF-4AC5-95A6-FE55205D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B82-A201-491E-8223-D48E488F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99E-1484-4077-AEDC-8832B72E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8719-3687-4314-9DDD-AC2E71CD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010E-889D-4E2B-8F29-BA45DAD79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8A6E-33AE-40D6-AB1A-7A7EC90EA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152800" y="3809880"/>
            <a:ext cx="506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C2F1-9932-4F9A-9AB4-5F9EEA961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28600" y="16765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e evidenze dell’alogenazione suggeriscono che il meccanismo coinvolge intermedi radicalici, e non ionic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0005"/>
          <p:cNvPicPr/>
          <p:nvPr/>
        </p:nvPicPr>
        <p:blipFill>
          <a:blip r:embed="rId1"/>
          <a:stretch/>
        </p:blipFill>
        <p:spPr>
          <a:xfrm>
            <a:off x="457200" y="2743200"/>
            <a:ext cx="83059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B45E-AA8C-4CCC-A378-73F9B5FF2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763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143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logenazione radicalica ha tre passaggi distin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28600" y="4572000"/>
            <a:ext cx="868680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meccanismo (come l’alogenazione radicalica), che prevede due o più stadi che si ripetono,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ccanismo a caten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li stadi più importanti dell’alogenazione radicalica son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gli stadi di propagazione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 portano alla formazione dei prodot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6108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5505-B8AC-490A-925F-B986648E8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52388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—Meccanism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mechanism_151_c_la_764"/>
          <p:cNvPicPr/>
          <p:nvPr/>
        </p:nvPicPr>
        <p:blipFill>
          <a:blip r:embed="rId1"/>
          <a:stretch/>
        </p:blipFill>
        <p:spPr>
          <a:xfrm>
            <a:off x="838080" y="838080"/>
            <a:ext cx="72392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3F57-94AE-4A6A-941C-9D82CADF1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2743200" y="152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28600" y="1295280"/>
            <a:ext cx="868680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lgrado gli alcani subiscano reazioni radicaliche sia con C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he con Br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la clorurazione e la bromurazione mostrano due importanti differenz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è più veloce della bromur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non è selettiva, e fornisce una miscela di prodotti, mentre la bromurazione è spesso selettiva, e fornisce un prodotto principa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fferenze fra Clorurazione e Bromur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0008a"/>
          <p:cNvPicPr/>
          <p:nvPr/>
        </p:nvPicPr>
        <p:blipFill>
          <a:blip r:embed="rId1"/>
          <a:stretch/>
        </p:blipFill>
        <p:spPr>
          <a:xfrm>
            <a:off x="457200" y="4095720"/>
            <a:ext cx="8381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31D6-0595-4A13-A18E-B214EB65A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743200" y="1666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22868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carboni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è un carbonio adiacente a un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omolisi del legame C—H allilico del propene genera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che ha un elettrone spaiato sul carbonio adiacente al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13b"/>
          <p:cNvPicPr/>
          <p:nvPr/>
        </p:nvPicPr>
        <p:blipFill>
          <a:blip r:embed="rId1"/>
          <a:stretch/>
        </p:blipFill>
        <p:spPr>
          <a:xfrm>
            <a:off x="914400" y="2843280"/>
            <a:ext cx="7238880" cy="1042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228600" y="398772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energia di dissociazione di questo processo è inferiore anche a quella di un legame C—H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91 kcal/mol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o significa che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più stabile del radicale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0013c"/>
          <p:cNvPicPr/>
          <p:nvPr/>
        </p:nvPicPr>
        <p:blipFill>
          <a:blip r:embed="rId2"/>
          <a:stretch/>
        </p:blipFill>
        <p:spPr>
          <a:xfrm>
            <a:off x="685800" y="5518080"/>
            <a:ext cx="8229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125B-B10D-4194-BA01-B12813CA9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2895480" y="228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28600" y="1600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allilico è più stabile di altri radicali in quanto può essere descritto con due strutture di risonanz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1"/>
          <a:stretch/>
        </p:blipFill>
        <p:spPr>
          <a:xfrm>
            <a:off x="380880" y="2828880"/>
            <a:ext cx="84646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FF0A-23A2-4CCF-B0FD-B716711BA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2895480" y="763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HBr si lega agli alcheni per formare bromuri alchilici in presenza di luce, calore o perossid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gioselettività dell’addizione a un alchene asimmetrico è diversa dall’addizione di HBr in assenza di luce, calore o perossid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18c"/>
          <p:cNvPicPr/>
          <p:nvPr/>
        </p:nvPicPr>
        <p:blipFill>
          <a:blip r:embed="rId1"/>
          <a:stretch/>
        </p:blipFill>
        <p:spPr>
          <a:xfrm>
            <a:off x="685800" y="2878200"/>
            <a:ext cx="8077320" cy="2989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228600" y="594360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ddizione di HBr ad alcheni in presenza di luce, calore o perossidi avviene con un meccanismo radical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B63D-80DC-4A6D-B326-F03D4B737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200400" y="76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 Re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5176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mechanism_154_c_la_764"/>
          <p:cNvPicPr/>
          <p:nvPr/>
        </p:nvPicPr>
        <p:blipFill>
          <a:blip r:embed="rId1"/>
          <a:stretch/>
        </p:blipFill>
        <p:spPr>
          <a:xfrm>
            <a:off x="533520" y="1095480"/>
            <a:ext cx="78483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0DA7-95CC-49F5-B441-A46A71120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895480" y="763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1136520"/>
            <a:ext cx="86868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nel primo stadio di propagazione (l’addizione di B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al doppio legame) ci sono due possibili percor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A] forma il radicale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eno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B] forma il radicale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28600" y="3139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2° più stabile si forma più velocemente, e quindi il percorso [B] è favori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0019"/>
          <p:cNvPicPr/>
          <p:nvPr/>
        </p:nvPicPr>
        <p:blipFill>
          <a:blip r:embed="rId1"/>
          <a:stretch/>
        </p:blipFill>
        <p:spPr>
          <a:xfrm>
            <a:off x="685800" y="4143240"/>
            <a:ext cx="77724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03FF-8462-4052-AD67-313E91A5D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895480" y="1666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28600" y="1251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radicalico mostra anche perchè la regioselettività dell’addizione di HBr dipende dalle condizioni di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3059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BB15-6097-4E2F-87EA-0CA18B9A4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295280"/>
            <a:ext cx="86868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significativo gruppo di reazioni prevede intermedi radical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intermedio reattivo con un singolo elettrone spaiato, che si forma dall’omolisi di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radicale contiene un atomo che non ha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mostrare il movimento di singoli elettroni nei processi radicalici si usa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recce a una sola punt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0001a"/>
          <p:cNvPicPr/>
          <p:nvPr/>
        </p:nvPicPr>
        <p:blipFill>
          <a:blip r:embed="rId1"/>
          <a:stretch/>
        </p:blipFill>
        <p:spPr>
          <a:xfrm>
            <a:off x="2971800" y="5372280"/>
            <a:ext cx="29718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A42E-C5B3-4CBF-8115-85296B697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53360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el carbonio sono classificati come primari 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econdari (2°) o terziari 3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rbonio radicalico è ibrida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 è trigonale planare, come i carbocationi ibridat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orbitale non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tiene un elettrone spaiato e si estende al di sopra e al di sotto del carbonio trigonal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85800" y="4495680"/>
            <a:ext cx="7848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1530-13B8-4A5F-982F-6898C07E9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52280" y="882720"/>
            <a:ext cx="87631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228600" y="39625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7716960" cy="2332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"/>
          <p:cNvSpPr/>
          <p:nvPr/>
        </p:nvSpPr>
        <p:spPr>
          <a:xfrm>
            <a:off x="147600" y="4038480"/>
            <a:ext cx="2297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bilità relativa di radical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 carbonio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 e 2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7804440" cy="16588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2896-23CC-406C-B776-48490A8F3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28600" y="1143000"/>
            <a:ext cx="8686800" cy="56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si formano dalla rottura di legami covalenti per aggiunta di energia sotto forma d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lore 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ce (h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une reazioni radicaliche avvengono in presenza di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iziatore radical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iniziatori radicalici contengono un legame particolarmente debole che serve come sorgente di radic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 perossi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omposti con struttura generale RO—OR, sono gli iniziatori radicalici usati più comune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caldando un perossido si causa l’omolisi del debole legame O—O, che forma due radicali R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anno due principali tipi di reazione—reagiscono con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onds, e si addizionano a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e Reazioni Radicalich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E070-B03E-4024-ACBA-45E173BA5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1430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trappa un atomo di idrogeno da un legame 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C—H per formare H—X e un carbonio radical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65412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-H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0003a"/>
          <p:cNvPicPr/>
          <p:nvPr/>
        </p:nvPicPr>
        <p:blipFill>
          <a:blip r:embed="rId1"/>
          <a:stretch/>
        </p:blipFill>
        <p:spPr>
          <a:xfrm>
            <a:off x="1690560" y="1905120"/>
            <a:ext cx="562464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228600" y="41148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i può anche addizionare al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i un doppio legame carbonio—carboni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0003b"/>
          <p:cNvPicPr/>
          <p:nvPr/>
        </p:nvPicPr>
        <p:blipFill>
          <a:blip r:embed="rId2"/>
          <a:stretch/>
        </p:blipFill>
        <p:spPr>
          <a:xfrm>
            <a:off x="2209680" y="4924440"/>
            <a:ext cx="4724640" cy="1704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152280" y="358128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=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48E1-9EB7-43C3-A3DC-66EC9D39C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847800"/>
            <a:ext cx="868680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, una volta formato, reagisce rapidamente con qualsiasi specie disponibile, di solito con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stab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ue radicali reagiscono per formare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ue Radicali che reagiscono l’uno con l’altr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0003c"/>
          <p:cNvPicPr/>
          <p:nvPr/>
        </p:nvPicPr>
        <p:blipFill>
          <a:blip r:embed="rId1"/>
          <a:stretch/>
        </p:blipFill>
        <p:spPr>
          <a:xfrm>
            <a:off x="2343240" y="2287440"/>
            <a:ext cx="4743360" cy="12938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28600" y="358128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azione di un radicale con ossigeno (che nella sua configurazione elettronica più stabile è un diradicale) è un altro esempio di due radicali che reagiscono l’uno con l’altr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0003d"/>
          <p:cNvPicPr/>
          <p:nvPr/>
        </p:nvPicPr>
        <p:blipFill>
          <a:blip r:embed="rId2"/>
          <a:stretch/>
        </p:blipFill>
        <p:spPr>
          <a:xfrm>
            <a:off x="990720" y="4648320"/>
            <a:ext cx="7010280" cy="788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228600" y="541008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composti che impediscono alle reazioni radicaliche di avvenire sono chiamati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nibitor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equestratori 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Oltre a O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anche la vitamina E e altri composti correlati sono inibitori radica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819520" y="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5CC5-AFA6-47E0-B382-02D1236E7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895480" y="763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28600" y="1066680"/>
            <a:ext cx="868680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calore o di luce, gli alcani reagiscono con gli alogeni per formare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è una reazione di sostituzione radical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degli alcani è utilizzabile solo con Cl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La reazione con F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violenta, e la reazione con I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lenta per essere di utilità prat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 un alcano che possiede più di un tipo di atomi di idrogeno, la reazione può fornire una miscela di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0004b"/>
          <p:cNvPicPr/>
          <p:nvPr/>
        </p:nvPicPr>
        <p:blipFill>
          <a:blip r:embed="rId1"/>
          <a:stretch/>
        </p:blipFill>
        <p:spPr>
          <a:xfrm>
            <a:off x="304920" y="4038480"/>
            <a:ext cx="8458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6342-9F92-4666-90A5-4A8C0FB30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1273320" y="5105520"/>
            <a:ext cx="7794360" cy="1473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2895480" y="763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8600" y="1082520"/>
            <a:ext cx="8686800" cy="37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un singolo atomo di idrogeno, su un carbonio, viene sostituito da un atomo di alogeno si ha l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alogenazio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viene usato un eccesso di alogeno, è possibile sostituire più di un atomo di idrogeno, su un singolo carbonio, con atomi di al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monoalogenazione può essere ottenuta sperimentalmente aggiungendo alogeno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eccesso di alc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disegnare i prodotti di alogenazione di un alcano, bisogna disegnare solo i prodotti di monoalogenazione, a meno che non sia indicato di fare altrimenti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2560" y="4724280"/>
            <a:ext cx="20858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ogenazione complet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C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sando u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cesso di C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6:37Z</dcterms:modified>
  <cp:revision>871</cp:revision>
  <dc:subject/>
  <dc:title>PowerPoint Presentation</dc:title>
</cp:coreProperties>
</file>