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7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B1EA-9022-4B7F-9163-EA40F1A1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50AA-E0B6-4A3F-A717-DA6DB4C4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9D62-5A04-478F-BF51-39F538D2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A979-A917-4ED2-9CE1-9C458A30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C888-1ED2-4EB8-A249-C9C2EA7E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E01A-B603-4FA9-9D74-D5E0F17B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699A-E837-457C-B391-D97EDF5B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8AC6-1892-4219-B092-48D775BE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CDA1-21BB-429E-A3EB-FDACFD33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863F-8262-4E53-A309-79C5D01D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2616-036A-456B-BACE-97C99E17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536E-FB35-4B03-9A49-3E21E397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5AF8-031F-4E31-B520-2AD7F3A97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7FEB-F564-4F7E-BFBF-1D498B50B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152800" y="3809880"/>
            <a:ext cx="506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DD4D-6C37-4960-A29A-949A0EB83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2895480" y="2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28600" y="16765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e evidenze dell’alogenazione suggeriscono che il meccanismo coinvolge intermedi radicalici, e non ionic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—Meccanismo di Re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0005"/>
          <p:cNvPicPr/>
          <p:nvPr/>
        </p:nvPicPr>
        <p:blipFill>
          <a:blip r:embed="rId1"/>
          <a:stretch/>
        </p:blipFill>
        <p:spPr>
          <a:xfrm>
            <a:off x="457200" y="2743200"/>
            <a:ext cx="83059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CE10-C668-4D02-A447-6C2A48C40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895480" y="763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28600" y="11430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alogenazione radicalica ha tre passaggi distint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—Meccanismo di Re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28600" y="4572000"/>
            <a:ext cx="868680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 meccanismo (come l’alogenazione radicalica), che prevede due o più stadi che si ripetono, è chiamat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eccanismo a caten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li stadi più importanti dell’alogenazione radicalica son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gli stadi di propagazione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 portano alla formazione dei prodot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61084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BAEB-9820-4FA4-9903-279ADD32B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52388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—Meccanism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mechanism_151_c_la_764"/>
          <p:cNvPicPr/>
          <p:nvPr/>
        </p:nvPicPr>
        <p:blipFill>
          <a:blip r:embed="rId1"/>
          <a:stretch/>
        </p:blipFill>
        <p:spPr>
          <a:xfrm>
            <a:off x="838080" y="838080"/>
            <a:ext cx="72392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8032-1A54-4D37-9538-63161789F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2743200" y="1522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28600" y="1295280"/>
            <a:ext cx="8686800" cy="26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lgrado gli alcani subiscano reazioni radicaliche sia con C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he con Br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la clorurazione e la bromurazione mostrano due importanti differenz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lorurazione è più veloce della bromura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lorurazione non è selettiva, e fornisce una miscela di prodotti, mentre la bromurazione è spesso selettiva, e fornisce un prodotto principa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fferenze fra Clorurazione e Bromur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0008a"/>
          <p:cNvPicPr/>
          <p:nvPr/>
        </p:nvPicPr>
        <p:blipFill>
          <a:blip r:embed="rId1"/>
          <a:stretch/>
        </p:blipFill>
        <p:spPr>
          <a:xfrm>
            <a:off x="457200" y="4095720"/>
            <a:ext cx="8381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7AE5-1CA7-4B3F-8C25-DFD10B7ED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2743200" y="1666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228680"/>
            <a:ext cx="868680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carboni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è un carbonio adiacente a un doppio legam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omolisi del legame C—H allilico del propene genera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che ha un elettrone spaiato sul carbonio adiacente al doppio legam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Radicalica al Carbonio Allilic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0013b"/>
          <p:cNvPicPr/>
          <p:nvPr/>
        </p:nvPicPr>
        <p:blipFill>
          <a:blip r:embed="rId1"/>
          <a:stretch/>
        </p:blipFill>
        <p:spPr>
          <a:xfrm>
            <a:off x="914400" y="2843280"/>
            <a:ext cx="7238880" cy="1042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228600" y="3987720"/>
            <a:ext cx="868680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energia di dissociazione di questo processo è inferiore anche a quella di un legame C—H 3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91 kcal/mol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esto significa che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più stabile del radicale 3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0013c"/>
          <p:cNvPicPr/>
          <p:nvPr/>
        </p:nvPicPr>
        <p:blipFill>
          <a:blip r:embed="rId2"/>
          <a:stretch/>
        </p:blipFill>
        <p:spPr>
          <a:xfrm>
            <a:off x="685800" y="5518080"/>
            <a:ext cx="822960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D137-5B31-4B69-BF96-AD82BFD1C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2895480" y="2286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28600" y="16002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radicale allilico è più stabile di altri radicali in quanto può essere descritto con due strutture di risonanz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Radicalica al Carbonio Allilic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"/>
          <p:cNvPicPr/>
          <p:nvPr/>
        </p:nvPicPr>
        <p:blipFill>
          <a:blip r:embed="rId1"/>
          <a:stretch/>
        </p:blipFill>
        <p:spPr>
          <a:xfrm>
            <a:off x="380880" y="2828880"/>
            <a:ext cx="84646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B40C-4B09-477B-B2B7-8FDC3B2D6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2895480" y="763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1143000"/>
            <a:ext cx="8686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HBr si lega agli alcheni per formare bromuri alchilici in presenza di luce, calore o perossid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regioselettività dell’addizione a un alchene asimmetrico è diversa dall’addizione di HBr in assenza di luce, calore o perossidi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0018c"/>
          <p:cNvPicPr/>
          <p:nvPr/>
        </p:nvPicPr>
        <p:blipFill>
          <a:blip r:embed="rId1"/>
          <a:stretch/>
        </p:blipFill>
        <p:spPr>
          <a:xfrm>
            <a:off x="685800" y="2878200"/>
            <a:ext cx="8077320" cy="2989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228600" y="594360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ddizione di HBr ad alcheni in presenza di luce, calore o perossidi avviene con un meccanismo radicalico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866D-6138-4A11-B9C8-440ABCC3E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200400" y="76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cal Rea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52280" y="5176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mechanism_154_c_la_764"/>
          <p:cNvPicPr/>
          <p:nvPr/>
        </p:nvPicPr>
        <p:blipFill>
          <a:blip r:embed="rId1"/>
          <a:stretch/>
        </p:blipFill>
        <p:spPr>
          <a:xfrm>
            <a:off x="533520" y="1095480"/>
            <a:ext cx="784836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6CAC-FE39-46B4-B956-29624355D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895480" y="763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28600" y="1136520"/>
            <a:ext cx="868680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re che nel primo stadio di propagazione (l’addizione di B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al doppio legame) ci sono due possibili percors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ercorso [A] forma il radicale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meno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ercorso [B] forma il radicale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52280" y="577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228600" y="3139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radicale 2° più stabile si forma più velocemente, e quindi il percorso [B] è favori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0019"/>
          <p:cNvPicPr/>
          <p:nvPr/>
        </p:nvPicPr>
        <p:blipFill>
          <a:blip r:embed="rId1"/>
          <a:stretch/>
        </p:blipFill>
        <p:spPr>
          <a:xfrm>
            <a:off x="685800" y="4143240"/>
            <a:ext cx="777240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2613-28B5-4CC4-8794-648F162DB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895480" y="1666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28600" y="1251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radicalico mostra anche perchè la regioselettività dell’addizione di HBr dipende dalle condizioni di re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3059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0C62-4462-44FA-A2A3-8B6E22804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295280"/>
            <a:ext cx="86868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significativo gruppo di reazioni prevede intermedi radical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 intermedio reattivo con un singolo elettrone spaiato, che si forma dall’omolisi di un legame coval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radicale contiene un atomo che non ha un ottetto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mostrare il movimento di singoli elettroni nei processi radicalici si usa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recce a una sola punt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0001a"/>
          <p:cNvPicPr/>
          <p:nvPr/>
        </p:nvPicPr>
        <p:blipFill>
          <a:blip r:embed="rId1"/>
          <a:stretch/>
        </p:blipFill>
        <p:spPr>
          <a:xfrm>
            <a:off x="2971800" y="5372280"/>
            <a:ext cx="29718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340D-AEC3-482B-9919-F83A37084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2895480" y="2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53360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del carbonio sono classificati come primari (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econdari (2°) o terziari 3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carbonio radicalico è ibrida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d è trigonale planare, come i carbocationi ibridat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orbitale non ibrid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tiene un elettrone spaiato e si estende al di sopra e al di sotto del carbonio trigonale plan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685800" y="4495680"/>
            <a:ext cx="7848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FAF9-A116-403B-B2CC-A5D9C4D16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52280" y="882720"/>
            <a:ext cx="87631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>
            <a:off x="228600" y="396252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7716960" cy="2332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4"/>
          <p:cNvSpPr/>
          <p:nvPr/>
        </p:nvSpPr>
        <p:spPr>
          <a:xfrm>
            <a:off x="147600" y="4038480"/>
            <a:ext cx="22975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13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bilità relativa di radical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 carbonio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 e 2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7804440" cy="16588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7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718E-A692-4322-AB5D-D5DA115CE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28600" y="1143000"/>
            <a:ext cx="8686800" cy="56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si formano dalla rottura di legami covalenti per aggiunta di energia sotto forma d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lore 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uce (h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une reazioni radicaliche avvengono in presenza di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iziatore radical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iniziatori radicalici contengono un legame particolarmente debole che serve come sorgente di radica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 perossid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composti con struttura generale RO—OR, sono gli iniziatori radicalici usati più comune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caldando un perossido si causa l’omolisi del debole legame O—O, che forma due radicali RO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danno due principali tipi di reazione—reagiscono con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onds, e si addizionano a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e Reazioni Radicalich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2648-F479-4252-AD1B-28739B17C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28600" y="1143000"/>
            <a:ext cx="86868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trappa un atomo di idrogeno da un legame 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C—H per formare H—X e un carbonio radical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280" y="65412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zione di un Radicale 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on un legame C-H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0003a"/>
          <p:cNvPicPr/>
          <p:nvPr/>
        </p:nvPicPr>
        <p:blipFill>
          <a:blip r:embed="rId1"/>
          <a:stretch/>
        </p:blipFill>
        <p:spPr>
          <a:xfrm>
            <a:off x="1690560" y="1905120"/>
            <a:ext cx="5624640" cy="15238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228600" y="4114800"/>
            <a:ext cx="86868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i può anche addizionare al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di un doppio legame carbonio—carboni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0003b"/>
          <p:cNvPicPr/>
          <p:nvPr/>
        </p:nvPicPr>
        <p:blipFill>
          <a:blip r:embed="rId2"/>
          <a:stretch/>
        </p:blipFill>
        <p:spPr>
          <a:xfrm>
            <a:off x="2209680" y="4924440"/>
            <a:ext cx="4724640" cy="17049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152280" y="358128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zione di un Radicale 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on un legame C=C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A862-AA87-497E-8EE7-177AE66CE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8600" y="847800"/>
            <a:ext cx="868680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, una volta formato, reagisce rapidamente con qualsiasi specie disponibile, di solito con un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o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stabil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ue radicali reagiscono per formare un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ue Radicali che reagiscono l’uno con l’altr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0003c"/>
          <p:cNvPicPr/>
          <p:nvPr/>
        </p:nvPicPr>
        <p:blipFill>
          <a:blip r:embed="rId1"/>
          <a:stretch/>
        </p:blipFill>
        <p:spPr>
          <a:xfrm>
            <a:off x="2343240" y="2287440"/>
            <a:ext cx="4743360" cy="12938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228600" y="358128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reazione di un radicale con ossigeno (che nella sua configurazione elettronica più stabile è un diradicale) è un altro esempio di due radicali che reagiscono l’uno con l’altr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0003d"/>
          <p:cNvPicPr/>
          <p:nvPr/>
        </p:nvPicPr>
        <p:blipFill>
          <a:blip r:embed="rId2"/>
          <a:stretch/>
        </p:blipFill>
        <p:spPr>
          <a:xfrm>
            <a:off x="990720" y="4648320"/>
            <a:ext cx="7010280" cy="788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228600" y="541008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 composti che impediscono alle reazioni radicaliche di avvenire sono chiamati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inibitor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sequestratori radica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Oltre a O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anche la vitamina E e altri composti correlati sono inibitori radica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2819520" y="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FF09-EE40-4469-986F-511D8735D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2895480" y="763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28600" y="1066680"/>
            <a:ext cx="8686800" cy="29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presenza di calore o di luce, gli alcani reagiscono con gli alogeni per formare alogenuri alchi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logenazione è una reazione di sostituzione radicalic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logenazione degli alcani è utilizzabile solo con Cl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o 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La reazione con F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troppo violenta, e la reazione con I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troppo lenta per essere di utilità pratic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 un alcano che possiede più di un tipo di atomi di idrogeno, la reazione può fornire una miscela di alogenuri alchi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0004b"/>
          <p:cNvPicPr/>
          <p:nvPr/>
        </p:nvPicPr>
        <p:blipFill>
          <a:blip r:embed="rId1"/>
          <a:stretch/>
        </p:blipFill>
        <p:spPr>
          <a:xfrm>
            <a:off x="304920" y="4038480"/>
            <a:ext cx="8458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EF46-12C5-4E60-8CFD-7D927B14A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1"/>
          <a:stretch/>
        </p:blipFill>
        <p:spPr>
          <a:xfrm>
            <a:off x="1273320" y="5105520"/>
            <a:ext cx="7794360" cy="14731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2895480" y="763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28600" y="1082520"/>
            <a:ext cx="8686800" cy="37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un singolo atomo di idrogeno, su un carbonio, viene sostituito da un atomo di alogeno si ha la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onoalogenazio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viene usato un eccesso di alogeno, è possibile sostituire più di un atomo di idrogeno, su un singolo carbonio, con atomi di aloge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monoalogenazione può essere ottenuta sperimentalmente aggiungendo alogeno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 un eccesso di alca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disegnare i prodotti di alogenazione di un alcano, bisogna disegnare solo i prodotti di monoalogenazione, a meno che non sia indicato di fare altrimenti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2560" y="4724280"/>
            <a:ext cx="20858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13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ogenazione complet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 C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sando u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cesso di C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06:37Z</dcterms:modified>
  <cp:revision>871</cp:revision>
  <dc:subject/>
  <dc:title>PowerPoint Presentation</dc:title>
</cp:coreProperties>
</file>