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7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5.jpeg" ContentType="image/jpeg"/>
  <Override PartName="/ppt/media/image2.jpeg" ContentType="image/jpe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35ED-6058-4EED-AB0D-6025F4AFC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60A4-F52D-486A-A4D8-E00DA1EF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227E-8D8C-4E9C-B062-C1B919B04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E56F-695F-4B48-B19B-EEABD86AE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2139-040D-4C04-8D04-C1AD1D8A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D1B4-5004-4512-85A2-929E2121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67C9-2F1A-421F-B64B-E64419DB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DE23-7AA1-4F83-A579-1FFEDE86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867A-5084-4CFF-8CBA-53A26294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8CBC-F8F8-4400-BE1D-7FFC4AB4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33B3-E733-45FF-853A-E4C2642E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DF75-1626-4F04-95CC-E27F4E2D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2565-F62E-4ACE-AC73-26E1AABC6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A523-58E1-4776-BF94-ED12DEA78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9252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10860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981080" y="6172200"/>
            <a:ext cx="548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152800" y="3809880"/>
            <a:ext cx="5060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pitolo 1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D065-1FCC-44D6-B998-A94FA68EC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2895480" y="2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28600" y="16765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e evidenze dell’alogenazione suggeriscono che il meccanismo coinvolge intermedi radicalici, e non ionici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degli Alcani—Meccanismo di Re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0005"/>
          <p:cNvPicPr/>
          <p:nvPr/>
        </p:nvPicPr>
        <p:blipFill>
          <a:blip r:embed="rId1"/>
          <a:stretch/>
        </p:blipFill>
        <p:spPr>
          <a:xfrm>
            <a:off x="457200" y="2743200"/>
            <a:ext cx="830592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5943-2F36-42B0-8E42-7AEDBC5AF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2895480" y="763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28600" y="114300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alogenazione radicalica ha tre passaggi distinti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degli Alcani—Meccanismo di Re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28600" y="4572000"/>
            <a:ext cx="8686800" cy="21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 meccanismo (come l’alogenazione radicalica), che prevede due o più stadi che si ripetono, è chiamato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meccanismo a caten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li stadi più importanti dell’alogenazione radicalica sono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gli stadi di propagazione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e portano alla formazione dei prodott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61084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9245-3B02-4DA0-8F57-E4AD7F5B9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1523880" y="9036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—Meccanism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mechanism_151_c_la_764"/>
          <p:cNvPicPr/>
          <p:nvPr/>
        </p:nvPicPr>
        <p:blipFill>
          <a:blip r:embed="rId1"/>
          <a:stretch/>
        </p:blipFill>
        <p:spPr>
          <a:xfrm>
            <a:off x="838080" y="838080"/>
            <a:ext cx="7239240" cy="59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AF56-0069-4C64-B184-5EACA8E4D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2743200" y="1522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228600" y="1295280"/>
            <a:ext cx="8686800" cy="26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lgrado gli alcani subiscano reazioni radicaliche sia con Cl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che con Br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la clorurazione e la bromurazione mostrano due importanti differenz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clorurazione è più veloce della bromurazion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clorurazione non è selettiva, e fornisce una miscela di prodotti, mentre la bromurazione è spesso selettiva, e fornisce un prodotto principa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52280" y="838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fferenze fra Clorurazione e Bromur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0008a"/>
          <p:cNvPicPr/>
          <p:nvPr/>
        </p:nvPicPr>
        <p:blipFill>
          <a:blip r:embed="rId1"/>
          <a:stretch/>
        </p:blipFill>
        <p:spPr>
          <a:xfrm>
            <a:off x="457200" y="4095720"/>
            <a:ext cx="83818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F5B9-9367-43BB-A478-A646628D3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2743200" y="1666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28600" y="1228680"/>
            <a:ext cx="8686800" cy="14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carboni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llilico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è un carbonio adiacente a un doppio legam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omolisi del legame C—H allilico del propene genera il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radica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llilic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che ha un elettrone spaiato sul carbonio adiacente al doppio legam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Radicalica al Carbonio Allilic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0013b"/>
          <p:cNvPicPr/>
          <p:nvPr/>
        </p:nvPicPr>
        <p:blipFill>
          <a:blip r:embed="rId1"/>
          <a:stretch/>
        </p:blipFill>
        <p:spPr>
          <a:xfrm>
            <a:off x="914400" y="2843280"/>
            <a:ext cx="7238880" cy="10429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228600" y="3987720"/>
            <a:ext cx="8686800" cy="14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energia di dissociazione di questo processo è inferiore anche a quella di un legame C—H 3</a:t>
            </a:r>
            <a:r>
              <a:rPr b="1" lang="en-US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(91 kcal/mol)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Questo significa che il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radica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llilic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più stabile del radicale 3</a:t>
            </a:r>
            <a:r>
              <a:rPr b="1" lang="en-US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0013c"/>
          <p:cNvPicPr/>
          <p:nvPr/>
        </p:nvPicPr>
        <p:blipFill>
          <a:blip r:embed="rId2"/>
          <a:stretch/>
        </p:blipFill>
        <p:spPr>
          <a:xfrm>
            <a:off x="685800" y="5518080"/>
            <a:ext cx="822960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D278-0AB7-48A3-B2BB-E35125D82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2895480" y="2286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28600" y="16002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radicale allilico è più stabile di altri radicali in quanto può essere descritto con due strutture di risonanza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Radicalica al Carbonio Allilic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" descr=""/>
          <p:cNvPicPr/>
          <p:nvPr/>
        </p:nvPicPr>
        <p:blipFill>
          <a:blip r:embed="rId1"/>
          <a:stretch/>
        </p:blipFill>
        <p:spPr>
          <a:xfrm>
            <a:off x="380880" y="2828880"/>
            <a:ext cx="84646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A6A0-72A8-4582-9055-25E70B004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2895480" y="763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28600" y="1143000"/>
            <a:ext cx="868680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HBr si lega agli alcheni per formare bromuri alchilici in presenza di luce, calore o perossid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regioselettività dell’addizione a un alchene asimmetrico è diversa dall’addizione di HBr in assenza di luce, calore o perossidi.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52280" y="6094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izione Radicalica ai Doppi Legami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0018c"/>
          <p:cNvPicPr/>
          <p:nvPr/>
        </p:nvPicPr>
        <p:blipFill>
          <a:blip r:embed="rId1"/>
          <a:stretch/>
        </p:blipFill>
        <p:spPr>
          <a:xfrm>
            <a:off x="685800" y="2878200"/>
            <a:ext cx="8077320" cy="29890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228600" y="594360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addizione di HBr ad alcheni in presenza di luce, calore o perossidi avviene con un meccanismo radicalico.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B048-2137-4786-BF59-219C19DB9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3200400" y="763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cal Rea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52280" y="51768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ddizione Radicalica ai Doppi Legami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9" descr="mechanism_154_c_la_764"/>
          <p:cNvPicPr/>
          <p:nvPr/>
        </p:nvPicPr>
        <p:blipFill>
          <a:blip r:embed="rId1"/>
          <a:stretch/>
        </p:blipFill>
        <p:spPr>
          <a:xfrm>
            <a:off x="533520" y="1095480"/>
            <a:ext cx="784836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D238-3230-48C4-94B6-CAA6C6929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895480" y="763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28600" y="1136520"/>
            <a:ext cx="868680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re che nel primo stadio di propagazione (l’addizione di B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 al doppio legame) ci sono due possibili percors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percorso [A] forma il radicale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meno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percorso [B] forma il radicale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iù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52280" y="577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izione Radicalica ai Doppi Legami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228600" y="3139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radicale 2° più stabile si forma più velocemente, e quindi il percorso [B] è favori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0019"/>
          <p:cNvPicPr/>
          <p:nvPr/>
        </p:nvPicPr>
        <p:blipFill>
          <a:blip r:embed="rId1"/>
          <a:stretch/>
        </p:blipFill>
        <p:spPr>
          <a:xfrm>
            <a:off x="685800" y="4143240"/>
            <a:ext cx="777240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864B-4BD7-47E3-B251-03858B9D1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895480" y="16668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228600" y="12510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meccanismo radicalico mostra anche perchè la regioselettività dell’addizione di HBr dipende dalle condizioni di re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izione Radicalica ai Doppi Legami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830592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634B-6958-4548-85B8-FC06090D6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819520" y="152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1295280"/>
            <a:ext cx="868680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significativo gruppo di reazioni prevede intermedi radicalic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adica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un intermedio reattivo con un singolo elettrone spaiato, che si forma dall’omolisi di un legame coval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radicale contiene un atomo che non ha un ottetto di elettr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mostrare il movimento di singoli elettroni nei processi radicalici si usan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recce a una sola punta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rodu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4" descr="0001a"/>
          <p:cNvPicPr/>
          <p:nvPr/>
        </p:nvPicPr>
        <p:blipFill>
          <a:blip r:embed="rId1"/>
          <a:stretch/>
        </p:blipFill>
        <p:spPr>
          <a:xfrm>
            <a:off x="2971800" y="5372280"/>
            <a:ext cx="297180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DE3A-8964-44ED-9F99-4D56F0788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2895480" y="2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8600" y="1533600"/>
            <a:ext cx="86868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radicali del carbonio sono classificati come primari (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econdari (2°) o terziari 3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carbonio radicalico è ibrida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d è trigonale planare, come i carbocationi ibridat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orbitale non ibrid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tiene un elettrone spaiato e si estende al di sopra e al di sotto del carbonio trigonale plana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rodu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0001b"/>
          <p:cNvPicPr/>
          <p:nvPr/>
        </p:nvPicPr>
        <p:blipFill>
          <a:blip r:embed="rId1"/>
          <a:stretch/>
        </p:blipFill>
        <p:spPr>
          <a:xfrm>
            <a:off x="685800" y="4495680"/>
            <a:ext cx="78487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EFEF-DDE0-4BD2-9777-195E1C5F0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52280" y="882720"/>
            <a:ext cx="87631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rodu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9"/>
          <p:cNvSpPr/>
          <p:nvPr/>
        </p:nvSpPr>
        <p:spPr>
          <a:xfrm>
            <a:off x="228600" y="396252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3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7716960" cy="2332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4"/>
          <p:cNvSpPr/>
          <p:nvPr/>
        </p:nvSpPr>
        <p:spPr>
          <a:xfrm>
            <a:off x="147600" y="4038480"/>
            <a:ext cx="22975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13.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bilità relativa di radical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 carbonio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 e 2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6" descr=""/>
          <p:cNvPicPr/>
          <p:nvPr/>
        </p:nvPicPr>
        <p:blipFill>
          <a:blip r:embed="rId2"/>
          <a:stretch/>
        </p:blipFill>
        <p:spPr>
          <a:xfrm>
            <a:off x="380880" y="4952880"/>
            <a:ext cx="7804440" cy="16588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7"/>
          <p:cNvSpPr/>
          <p:nvPr/>
        </p:nvSpPr>
        <p:spPr>
          <a:xfrm>
            <a:off x="2819520" y="152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0E9E-245A-494B-BB44-0B2A06A33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28600" y="1143000"/>
            <a:ext cx="8686800" cy="56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radicali si formano dalla rottura di legami covalenti per aggiunta di energia sotto forma di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alore (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uce (h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cune reazioni radicaliche avvengono in presenza di 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niziatore radicalic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iniziatori radicalici contengono un legame particolarmente debole che serve come sorgente di radica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 perossid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composti con struttura generale RO—OR, sono gli iniziatori radicalici usati più comune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caldando un perossido si causa l’omolisi del debole legame O—O, che forma due radicali RO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radicali danno due principali tipi di reazione—reagiscono con legam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onds, e si addizionano a legam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e Reazioni Radicalich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2819520" y="152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CE95-D3B5-4BF1-A686-29F0C84D1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28600" y="1143000"/>
            <a:ext cx="868680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 radicale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strappa un atomo di idrogeno da un legame 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C—H per formare H—X e un carbonio radicalic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52280" y="654120"/>
            <a:ext cx="876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azione di un Radicale X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con un legame C-H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0003a"/>
          <p:cNvPicPr/>
          <p:nvPr/>
        </p:nvPicPr>
        <p:blipFill>
          <a:blip r:embed="rId1"/>
          <a:stretch/>
        </p:blipFill>
        <p:spPr>
          <a:xfrm>
            <a:off x="1690560" y="1905120"/>
            <a:ext cx="5624640" cy="15238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228600" y="4114800"/>
            <a:ext cx="868680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 radicale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si può anche addizionare al legame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di un doppio legame carbonio—carboni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0003b"/>
          <p:cNvPicPr/>
          <p:nvPr/>
        </p:nvPicPr>
        <p:blipFill>
          <a:blip r:embed="rId2"/>
          <a:stretch/>
        </p:blipFill>
        <p:spPr>
          <a:xfrm>
            <a:off x="2209680" y="4924440"/>
            <a:ext cx="4724640" cy="17049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8"/>
          <p:cNvSpPr/>
          <p:nvPr/>
        </p:nvSpPr>
        <p:spPr>
          <a:xfrm>
            <a:off x="152280" y="3581280"/>
            <a:ext cx="876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azione di un Radicale X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con un legame C=C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2819520" y="152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79DD-E4E7-4913-B6E6-11E1F9810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28600" y="847800"/>
            <a:ext cx="8686800" cy="15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 radicale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, una volta formato, reagisce rapidamente con qualsiasi specie disponibile, di solito con un legame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o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stabil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Due radicali reagiscono per formare un legame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ue Radicali che reagiscono l’uno con l’altr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0003c"/>
          <p:cNvPicPr/>
          <p:nvPr/>
        </p:nvPicPr>
        <p:blipFill>
          <a:blip r:embed="rId1"/>
          <a:stretch/>
        </p:blipFill>
        <p:spPr>
          <a:xfrm>
            <a:off x="2343240" y="2287440"/>
            <a:ext cx="4743360" cy="12938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228600" y="358128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reazione di un radicale con ossigeno (che nella sua configurazione elettronica più stabile è un diradicale) è un altro esempio di due radicali che reagiscono l’uno con l’altr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1" descr="0003d"/>
          <p:cNvPicPr/>
          <p:nvPr/>
        </p:nvPicPr>
        <p:blipFill>
          <a:blip r:embed="rId2"/>
          <a:stretch/>
        </p:blipFill>
        <p:spPr>
          <a:xfrm>
            <a:off x="990720" y="4648320"/>
            <a:ext cx="7010280" cy="7887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2"/>
          <p:cNvSpPr/>
          <p:nvPr/>
        </p:nvSpPr>
        <p:spPr>
          <a:xfrm>
            <a:off x="228600" y="5410080"/>
            <a:ext cx="868680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 composti che impediscono alle reazioni radicaliche di avvenire sono chiamati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inibitor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radicalic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sequestratori radicalic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 Oltre a O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anche la vitamina E e altri composti correlati sono inibitori radical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2819520" y="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E6A5-C18A-4829-AD68-F4E2DE93B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2895480" y="7632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28600" y="1066680"/>
            <a:ext cx="8686800" cy="29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 presenza di calore o di luce, gli alcani reagiscono con gli alogeni per formare alogenuri alchil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alogenazione è una reazione di sostituzione radicalic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alogenazione degli alcani è utilizzabile solo con Cl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o Br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 La reazione con F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troppo violenta, e la reazione con I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troppo lenta per essere di utilità pratic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 un alcano che possiede più di un tipo di atomi di idrogeno, la reazione può fornire una miscela di alogenuri alchil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degli Alca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0004b"/>
          <p:cNvPicPr/>
          <p:nvPr/>
        </p:nvPicPr>
        <p:blipFill>
          <a:blip r:embed="rId1"/>
          <a:stretch/>
        </p:blipFill>
        <p:spPr>
          <a:xfrm>
            <a:off x="304920" y="4038480"/>
            <a:ext cx="845820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FDE2-AC76-4A88-9B60-2E1096313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" descr=""/>
          <p:cNvPicPr/>
          <p:nvPr/>
        </p:nvPicPr>
        <p:blipFill>
          <a:blip r:embed="rId1"/>
          <a:stretch/>
        </p:blipFill>
        <p:spPr>
          <a:xfrm>
            <a:off x="1273320" y="5105520"/>
            <a:ext cx="7794360" cy="14731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"/>
          <p:cNvSpPr/>
          <p:nvPr/>
        </p:nvSpPr>
        <p:spPr>
          <a:xfrm>
            <a:off x="2895480" y="763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28600" y="1082520"/>
            <a:ext cx="8686800" cy="37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ndo un singolo atomo di idrogeno, su un carbonio, viene sostituito da un atomo di alogeno si ha la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monoalogenazion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ndo viene usato un eccesso di alogeno, è possibile sostituire più di un atomo di idrogeno, su un singolo carbonio, con atomi di alogen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monoalogenazione può essere ottenuta sperimentalmente aggiungendo alogeno 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 un eccesso di alcan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disegnare i prodotti di alogenazione di un alcano, bisogna disegnare solo i prodotti di monoalogenazione, a meno che non sia indicato di fare altrimenti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degli Alca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52560" y="4724280"/>
            <a:ext cx="208584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13.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ogenazione completa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 C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usando un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cesso di C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20T09:06:37Z</dcterms:modified>
  <cp:revision>871</cp:revision>
  <dc:subject/>
  <dc:title>PowerPoint Presentation</dc:title>
</cp:coreProperties>
</file>