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C84-C377-42FD-AE0F-CD6BE043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9C7-639D-4D41-9098-E61D93F0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2BD-24B6-4E19-AC74-2426D515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758-8869-4FA1-94FD-6E5CB0FF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B93-36A0-4477-B649-9D1C95EC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28B-119F-49AD-9F2F-5F0F7B55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2FA-4948-42E4-A00D-4CEF3482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919-35F5-431A-8B63-E0F0F6B1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59E-80C4-4EEB-90C8-2C6B4B5B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3C7-D5A2-4154-84CE-E05BEF95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056-A1AF-4ED6-9769-F79B1CA4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56F-4379-4A19-9375-0A26F370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4655-87C4-4F2C-B849-FEA8D5B68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3988-57CC-4448-A930-5B2235D3E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52800" y="380988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4E05-6097-4661-B744-C2087CF47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676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evidenze dell’alogenazione suggeriscono che il meccanismo coinvolge intermedi radicalici, e non ionic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0005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CF7E-9208-4620-BF2E-F10F7944A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143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logenazione radicalica ha tre passaggi distin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4572000"/>
            <a:ext cx="8686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meccanismo (come l’alogenazione radicalica), che prevede due o più stadi che si ripetono,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ccanismo a cate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stadi più importanti dell’alogenazione radicalica son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li stadi di propagazione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portano alla formazione dei prodot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DA33-20E5-4437-80CA-791C61412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—Meccanism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mechanism_151_c_la_764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FE77-BA8A-4778-9E76-C516E3A0C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7432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295280"/>
            <a:ext cx="86868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grado gli alcani subiscano reazioni radicaliche sia con 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he con B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la clorurazione e la bromurazione mostrano due importanti differenz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è più veloce della bromur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non è selettiva, e fornisce una miscela di prodotti, mentre la bromurazione è spesso selettiva, e fornisce un prodotto principa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ze fra Clorurazione e Bromur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008a"/>
          <p:cNvPicPr/>
          <p:nvPr/>
        </p:nvPicPr>
        <p:blipFill>
          <a:blip r:embed="rId1"/>
          <a:stretch/>
        </p:blipFill>
        <p:spPr>
          <a:xfrm>
            <a:off x="457200" y="4095720"/>
            <a:ext cx="838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6AB3-12FD-454F-A729-7AA630CF2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743200" y="1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2868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carboni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è un carbonio adiacente a un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omolisi del legame C—H allilico del propene genera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che ha un elettrone spaiato sul carbonio adiacente al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13b"/>
          <p:cNvPicPr/>
          <p:nvPr/>
        </p:nvPicPr>
        <p:blipFill>
          <a:blip r:embed="rId1"/>
          <a:stretch/>
        </p:blipFill>
        <p:spPr>
          <a:xfrm>
            <a:off x="914400" y="2843280"/>
            <a:ext cx="723888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28600" y="398772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energia di dissociazione di questo processo è inferiore anche a quella di un legame C—H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91 kcal/mol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o significa che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più stabile del radicale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013c"/>
          <p:cNvPicPr/>
          <p:nvPr/>
        </p:nvPicPr>
        <p:blipFill>
          <a:blip r:embed="rId2"/>
          <a:stretch/>
        </p:blipFill>
        <p:spPr>
          <a:xfrm>
            <a:off x="685800" y="5518080"/>
            <a:ext cx="822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9DE0-4CD2-47F4-AC16-C25DA9CDB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95480" y="228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allilico è più stabile di altri radicali in quanto può essere descritto con due strutture di risonanz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380880" y="2828880"/>
            <a:ext cx="846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8F41-248F-4780-8871-ED44FE54A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89548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HBr si lega agli alcheni per formare bromuri alchilici in presenza di luce, calore o perossid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gioselettività dell’addizione a un alchene asimmetrico è diversa dall’addizione di HBr in assenza di luce, calore o perossid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18c"/>
          <p:cNvPicPr/>
          <p:nvPr/>
        </p:nvPicPr>
        <p:blipFill>
          <a:blip r:embed="rId1"/>
          <a:stretch/>
        </p:blipFill>
        <p:spPr>
          <a:xfrm>
            <a:off x="685800" y="2878200"/>
            <a:ext cx="8077320" cy="298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28600" y="5943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ddizione di HBr ad alcheni in presenza di luce, calore o perossidi avviene con un meccanismo radical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A3B9-F7DF-4EF8-8031-77E42F858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00400" y="76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 Re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176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echanism_154_c_la_764"/>
          <p:cNvPicPr/>
          <p:nvPr/>
        </p:nvPicPr>
        <p:blipFill>
          <a:blip r:embed="rId1"/>
          <a:stretch/>
        </p:blipFill>
        <p:spPr>
          <a:xfrm>
            <a:off x="533520" y="1095480"/>
            <a:ext cx="784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C1D5-E7EE-4292-8B67-CD42066FB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895480" y="76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136520"/>
            <a:ext cx="8686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nel primo stadio di propagazione (l’addizione di 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al doppio legame) ci sono due possibili percor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A] forma il radica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eno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B] forma il radicale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39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2° più stabile si forma più velocemente, e quindi il percorso [B] è favori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0019"/>
          <p:cNvPicPr/>
          <p:nvPr/>
        </p:nvPicPr>
        <p:blipFill>
          <a:blip r:embed="rId1"/>
          <a:stretch/>
        </p:blipFill>
        <p:spPr>
          <a:xfrm>
            <a:off x="685800" y="4143240"/>
            <a:ext cx="7772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3867-12A0-49C1-ADCE-53AD23640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895480" y="166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251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radicalico mostra anche perchè la regioselettività dell’addizione di HBr dipende dalle condizioni di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B14A-E3A5-466E-A8E9-3B210A338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295280"/>
            <a:ext cx="8686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significativo gruppo di reazioni prevede intermedi radical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intermedio reattivo con un singolo elettrone spaiato, che si forma dall’omolisi di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radicale contiene un atomo che non ha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mostrare il movimento di singoli elettroni nei processi radicalici si us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ecce a una sola pun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0001a"/>
          <p:cNvPicPr/>
          <p:nvPr/>
        </p:nvPicPr>
        <p:blipFill>
          <a:blip r:embed="rId1"/>
          <a:stretch/>
        </p:blipFill>
        <p:spPr>
          <a:xfrm>
            <a:off x="2971800" y="5372280"/>
            <a:ext cx="2971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EF95-EFB0-41C8-8941-1678CBA69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3360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el carbonio sono classificati come primari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econdari (2°) o terziari 3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rbonio radicalico è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 è trigonale planare, come i carbocationi ibridat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orbitale non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ene un elettrone spaiato e si estende al di sopra e al di sotto del carbonio trigonal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8580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1346-E783-4303-AEAF-912F59A60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88272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169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147600" y="4038480"/>
            <a:ext cx="2297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à relativa di radical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arbonio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e 2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7804440" cy="165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769E-0C67-46D6-A331-B1BE5B8A3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8686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si formano dalla rottura di legami covalenti per aggiunta di energia sotto for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lore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(h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reazioni radicaliche avvengono in presenza di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iziatore radical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niziatori radicalici contengono un legame particolarmente debole che serve come sorgente di radic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peross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posti con struttura generale RO—OR, sono gli iniziatori radicalici usati più comune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aldando un perossido si causa l’omolisi del debole legame O—O, che forma due radicali R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anno due principali tipi di reazione—reagiscono con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onds, e si addizionano a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e Reazioni Radicali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C0A5-AAAB-46B1-B6A0-1FABF11F2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1430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trappa un atomo di idrogeno da un legame 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—H per formare H—X e un carbonio radical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65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-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003a"/>
          <p:cNvPicPr/>
          <p:nvPr/>
        </p:nvPicPr>
        <p:blipFill>
          <a:blip r:embed="rId1"/>
          <a:stretch/>
        </p:blipFill>
        <p:spPr>
          <a:xfrm>
            <a:off x="1690560" y="1905120"/>
            <a:ext cx="562464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28600" y="41148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i può anche addizionare al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 un doppio legame carbonio—carboni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003b"/>
          <p:cNvPicPr/>
          <p:nvPr/>
        </p:nvPicPr>
        <p:blipFill>
          <a:blip r:embed="rId2"/>
          <a:stretch/>
        </p:blipFill>
        <p:spPr>
          <a:xfrm>
            <a:off x="2209680" y="492444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52280" y="35812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=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E49B-F787-4BF4-9A36-257F8D35E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847800"/>
            <a:ext cx="86868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, una volta formato, reagisce rapidamente con qualsiasi specie disponibile, di solito con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tab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ue radicali reagiscono per formare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e Radicali che reagiscono l’uno con l’alt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03c"/>
          <p:cNvPicPr/>
          <p:nvPr/>
        </p:nvPicPr>
        <p:blipFill>
          <a:blip r:embed="rId1"/>
          <a:stretch/>
        </p:blipFill>
        <p:spPr>
          <a:xfrm>
            <a:off x="2343240" y="2287440"/>
            <a:ext cx="4743360" cy="12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8600" y="3581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azione di un radicale con ossigeno (che nella sua configurazione elettronica più stabile è un diradicale) è un altro esempio di due radicali che reagiscono l’uno con l’altr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0003d"/>
          <p:cNvPicPr/>
          <p:nvPr/>
        </p:nvPicPr>
        <p:blipFill>
          <a:blip r:embed="rId2"/>
          <a:stretch/>
        </p:blipFill>
        <p:spPr>
          <a:xfrm>
            <a:off x="990720" y="4648320"/>
            <a:ext cx="7010280" cy="78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28600" y="541008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mposti che impediscono alle reazioni radicaliche di avvenire sono chiamati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nibito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equestratori 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Oltre a 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anche la vitamina E e altri composti correlati sono inibitori radica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9122-10BA-4FD6-8B2E-B4DDA7D6D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895480" y="76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1066680"/>
            <a:ext cx="8686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calore o di luce, gli alcani reagiscono con gli alogeni per formare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è una reazione di sostituzione radical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degli alcani è utilizzabile solo con Cl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La reazione con F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violenta, e la reazione con 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lenta per essere di utilità prat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 un alcano che possiede più di un tipo di atomi di idrogeno, la reazione può fornire una miscela di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0004b"/>
          <p:cNvPicPr/>
          <p:nvPr/>
        </p:nvPicPr>
        <p:blipFill>
          <a:blip r:embed="rId1"/>
          <a:stretch/>
        </p:blipFill>
        <p:spPr>
          <a:xfrm>
            <a:off x="304920" y="4038480"/>
            <a:ext cx="8458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807B-2DBC-4CFB-8C9A-8C5F8F932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3320" y="5105520"/>
            <a:ext cx="7794360" cy="1473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895480" y="76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0825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un singolo atomo di idrogeno, su un carbonio, viene sostituito da un atomo di alogeno si ha l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alogenazio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viene usato un eccesso di alogeno, è possibile sostituire più di un atomo di idrogeno, su un singolo carbonio, con atomi di al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monoalogenazione può essere ottenuta sperimentalmente aggiungendo alogeno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eccesso di alc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disegnare i prodotti di alogenazione di un alcano, bisogna disegnare solo i prodotti di monoalogenazione, a meno che non sia indicato di fare altriment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60" y="4724280"/>
            <a:ext cx="2085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genazione complet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ando u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cesso di C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6:37Z</dcterms:modified>
  <cp:revision>871</cp:revision>
  <dc:subject/>
  <dc:title>PowerPoint Presentation</dc:title>
</cp:coreProperties>
</file>