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35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8CD-C036-4226-94F7-BF83EA7C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A58-C355-4F96-904D-647C2FA3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250-8051-4341-86B0-DD5D0054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CFD-0D9D-4A1C-A16A-D59C5901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FDB-8507-48EC-B0C8-B26E677E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D89-3CAD-49D2-9E42-1590D051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B71-01D9-48A1-864A-160FB38B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2AA3-FD80-45C2-8C10-6D08F8F1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D113-95AC-4A2D-998B-2A908AE4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12E-421B-4AC7-8E42-97268B68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9B07-34DF-4852-8A9C-66B08690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4310-E280-47DB-8791-1755FA60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3C59-ACF1-4CD7-959D-1668E12D2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9329-E0A6-4AEC-9F2A-039E31A43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946080" y="3809880"/>
            <a:ext cx="74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Benzene e composti aromatic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5BF6-6688-4280-8DB6-2C3C5219E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14637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tre diversi modi di legare due gruppi a un nucleo benzenico, e un prefisso—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r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viene usato per indicare la posizione relativa dei due sostit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0005b"/>
          <p:cNvPicPr/>
          <p:nvPr/>
        </p:nvPicPr>
        <p:blipFill>
          <a:blip r:embed="rId1"/>
          <a:stretch/>
        </p:blipFill>
        <p:spPr>
          <a:xfrm>
            <a:off x="533520" y="3200400"/>
            <a:ext cx="8153280" cy="2054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4920" y="5181480"/>
            <a:ext cx="28191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rth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2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20040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3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09588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4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E72B-1515-4903-9478-970E7068F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" y="146376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i due gruppi legati al nucleo benzenico sono differenti, si mettono in ordine alfabetico i nomi dei sostituenti che precedono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o dei sostituenti è parte di un nome comune di un benzene monosostituito, denominare la molecola come un suo deriv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0005c"/>
          <p:cNvPicPr/>
          <p:nvPr/>
        </p:nvPicPr>
        <p:blipFill>
          <a:blip r:embed="rId1"/>
          <a:stretch/>
        </p:blipFill>
        <p:spPr>
          <a:xfrm>
            <a:off x="457200" y="4017960"/>
            <a:ext cx="82296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292D-3C47-4DD5-8A71-DF0808DB1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371600" y="-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28600" y="685800"/>
            <a:ext cx="868680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e o più sostituenti sul nucleo benzenico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numerazione deve dare i numeri più piccoli possibile per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ttere in ordine alfabetico i nomi dei sostituen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 sostituenti sono parte di un nome comune, denominare la molecola come un derivato di questo benzene sostituito. Il sostituente che caratterizza il nome del composto è collocato in posizione 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7655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0055-FC1F-4734-AB55-B3D88F568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sostituente benzenico è chiama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 feni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in una struttura può essere abbreviato come “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”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28600" y="44481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eguentemente, il benzene può essere rappresentato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d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fenol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rà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O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0006b"/>
          <p:cNvPicPr/>
          <p:nvPr/>
        </p:nvPicPr>
        <p:blipFill>
          <a:blip r:embed="rId1"/>
          <a:stretch/>
        </p:blipFill>
        <p:spPr>
          <a:xfrm>
            <a:off x="2057400" y="5272200"/>
            <a:ext cx="5181480" cy="12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2"/>
          <a:stretch/>
        </p:blipFill>
        <p:spPr>
          <a:xfrm>
            <a:off x="304920" y="2268360"/>
            <a:ext cx="82296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B752-EF06-400C-9442-D635E8C98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benz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un altro sostituente comune che contiene un anello benzenico, differisce dal gruppo fen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28600" y="403848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sostituenti derivati da altri anelli aromatici sono chiamati collettivament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ri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06c"/>
          <p:cNvPicPr/>
          <p:nvPr/>
        </p:nvPicPr>
        <p:blipFill>
          <a:blip r:embed="rId1"/>
          <a:stretch/>
        </p:blipFill>
        <p:spPr>
          <a:xfrm>
            <a:off x="1828800" y="2438280"/>
            <a:ext cx="5556240" cy="1395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006d"/>
          <p:cNvPicPr/>
          <p:nvPr/>
        </p:nvPicPr>
        <p:blipFill>
          <a:blip r:embed="rId2"/>
          <a:stretch/>
        </p:blipFill>
        <p:spPr>
          <a:xfrm>
            <a:off x="1752480" y="5073480"/>
            <a:ext cx="55627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FD88-5202-4C6C-BEB0-B1F0DE6E8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463760"/>
            <a:ext cx="8686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are i calori di idrogenazione del cicloesene, 1,3-cicloesadiene e del benzene, i quali danno tutti cicloesano se trattati con eccesso di idrogeno in presenza di catalizzatori metal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paricolare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08"/>
          <p:cNvPicPr/>
          <p:nvPr/>
        </p:nvPicPr>
        <p:blipFill>
          <a:blip r:embed="rId1"/>
          <a:stretch/>
        </p:blipFill>
        <p:spPr>
          <a:xfrm>
            <a:off x="533520" y="2768760"/>
            <a:ext cx="80769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2B79-642D-4D99-90D0-AA81B3A1E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7804440" cy="2868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"/>
          <p:cNvSpPr/>
          <p:nvPr/>
        </p:nvSpPr>
        <p:spPr>
          <a:xfrm>
            <a:off x="1371600" y="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28600" y="12193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igura 17.2 confronta i calori di idrogenazione teorici e misurati del benz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28600" y="5715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grande differenza dei calori di idrogenazione sperimentali e calcolati per il benzene non può essere spiegata solo sulla base della risonanza e della coniuga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166440" y="1828800"/>
            <a:ext cx="2294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17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ison between t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and hypothet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s of hydrogen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benze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38D1-1CEA-4335-AB1D-CEEEF962A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371600" y="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85800"/>
            <a:ext cx="86868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asso calore di idrogenazione del benzene indica che il benzene è particolarmente stabile—anche più dei polieni coniugati. Questa particolare stabilità è caratteristica dei composti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comportamento chimico particolare del benzene non è limitato all’idrogenazione. Il benzene non dà le reazioni di addizione tipiche di altri composti altamente insaturi, compresi i dieni coniug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 dare un prodotto di addizione. Invece, in presenza di un acido di Lewis, il bromo sostituisce un atomo di idrogeno, dando quindi un prodotto che mantiene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0009"/>
          <p:cNvPicPr/>
          <p:nvPr/>
        </p:nvPicPr>
        <p:blipFill>
          <a:blip r:embed="rId1"/>
          <a:stretch/>
        </p:blipFill>
        <p:spPr>
          <a:xfrm>
            <a:off x="533520" y="4643280"/>
            <a:ext cx="807696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8078-969F-4248-8FBB-2EBC3AD23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ttro criteri strutturali devono essere soddisfatti perchè un composto possa essere considerato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2133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0652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icl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0010a"/>
          <p:cNvPicPr/>
          <p:nvPr/>
        </p:nvPicPr>
        <p:blipFill>
          <a:blip r:embed="rId1"/>
          <a:stretch/>
        </p:blipFill>
        <p:spPr>
          <a:xfrm>
            <a:off x="1600200" y="2809800"/>
            <a:ext cx="5867280" cy="2600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228600" y="5578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hè un composto sia aromatico, ogni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sovrapporsi a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gli atomi adiac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05D2-7A85-44A8-A313-47542B628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8600" y="1219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2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esser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8600" y="1600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ti 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iacenti devono essere allineati in modo che la densità elettronic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ssa essere delocal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28600" y="4359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icloottatetraene non è planare, non è aromatico, e dà luogo a reazioni di addizione tipiche degli alch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0010c"/>
          <p:cNvPicPr/>
          <p:nvPr/>
        </p:nvPicPr>
        <p:blipFill>
          <a:blip r:embed="rId1"/>
          <a:stretch/>
        </p:blipFill>
        <p:spPr>
          <a:xfrm>
            <a:off x="2514600" y="5334120"/>
            <a:ext cx="4191120" cy="1233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87422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B614-4279-42DC-AD68-474056D56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387440"/>
            <a:ext cx="868680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benzene (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drocarbu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romat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arene) più sempl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un idrocarburo fortemente insat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fferenza di idrocarburi insaturi come gli alcheni, gli alchini, i dieni, che danno facilmente reazioni di addizione, il benzene non ha lo stesso comportame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0001a"/>
          <p:cNvPicPr/>
          <p:nvPr/>
        </p:nvPicPr>
        <p:blipFill>
          <a:blip r:embed="rId1"/>
          <a:stretch/>
        </p:blipFill>
        <p:spPr>
          <a:xfrm>
            <a:off x="1371600" y="4381560"/>
            <a:ext cx="64008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9611-FB53-4869-AC88-B1D13030F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1523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3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ompletamente coniug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28600" y="2057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omposti aromatici devono avere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 ogni 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0010d"/>
          <p:cNvPicPr/>
          <p:nvPr/>
        </p:nvPicPr>
        <p:blipFill>
          <a:blip r:embed="rId1"/>
          <a:stretch/>
        </p:blipFill>
        <p:spPr>
          <a:xfrm>
            <a:off x="685800" y="3408480"/>
            <a:ext cx="76960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E1EB-8074-44EB-A590-3A97A942E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4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soddisfare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gola 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k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ntenere un numero particolare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28600" y="3505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aromatico e particolarmente stabile perchè contiene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l ciclobutadie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tiaromat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particolarmente instabile perchè contiene 4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04920" y="2133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gola di  Hückel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0011b"/>
          <p:cNvPicPr/>
          <p:nvPr/>
        </p:nvPicPr>
        <p:blipFill>
          <a:blip r:embed="rId1"/>
          <a:stretch/>
        </p:blipFill>
        <p:spPr>
          <a:xfrm>
            <a:off x="2209680" y="4800600"/>
            <a:ext cx="4648320" cy="18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849024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231B-5398-4FD7-AC4E-CA6541044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 si riferisce al numero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on al numero di atomi in un particolare an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number_of_electrons_tb_764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3C3B-17F4-45BB-8749-CA444B8E8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04920" y="21337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aromatico — Un composto a cui manca uno o più dei seguenti requisiti per l’aromaticità: essere ciclico, essere planare, e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28600" y="1311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ando l’aromaticità, tutti i composti possono essere classificati in tre categori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B858-953C-45F1-AF1B-82893810D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tare la relazione tra ciascun tipo di composto e una molecola simile a catena aperta e con lo stesso numero d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899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B9A8-BF71-4134-B735-5D3960D53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13111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elli completamente coniugati più grandi del benzene sono anch’essi aromatici se sono planari e se hanno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rocarburi monociclici con doppi legami alternati a legami singoli sono chiamati annul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nulene, indicare il numero in parentesi ed aggiungere la parola annul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0012b"/>
          <p:cNvPicPr/>
          <p:nvPr/>
        </p:nvPicPr>
        <p:blipFill>
          <a:blip r:embed="rId1"/>
          <a:stretch/>
        </p:blipFill>
        <p:spPr>
          <a:xfrm>
            <a:off x="2514600" y="4213080"/>
            <a:ext cx="4191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5628-EDF0-4EDF-A38F-17DC2ECB7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28600" y="990720"/>
            <a:ext cx="86868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[10]-annule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he soddisfa la regola di Hückel, ma una molecola planare posizionerebbe i due atomi di idrogeno all’interno dell’anello, troppo vicini fra loro. Per diminuire questa interazion la molecola si distor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ndi il [10]-annulene non è planare, i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n possono delocalizzarsi su tutto l’anello e non è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0012c"/>
          <p:cNvPicPr/>
          <p:nvPr/>
        </p:nvPicPr>
        <p:blipFill>
          <a:blip r:embed="rId1"/>
          <a:stretch/>
        </p:blipFill>
        <p:spPr>
          <a:xfrm>
            <a:off x="1219320" y="4233960"/>
            <a:ext cx="67816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9DAC-347C-4F0F-A0E4-8A4FBF4BC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ue o più anelli a sei termini con doppi legami alternati a legami singoli possono essere fusi a formare irocarburi policiclici aromatici (IPA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i sono due diversi modi di unire tre anelli insieme, per formare l’antracene ed il fenantr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0013a"/>
          <p:cNvPicPr/>
          <p:nvPr/>
        </p:nvPicPr>
        <p:blipFill>
          <a:blip r:embed="rId1"/>
          <a:stretch/>
        </p:blipFill>
        <p:spPr>
          <a:xfrm>
            <a:off x="1676520" y="2827440"/>
            <a:ext cx="5715000" cy="16682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228600" y="4572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l numero degli anelli benzenici fusi aumenta, il numero delle strutture di risonanza aumenta. Il naftalene è un ibrido di tre strutture di risonanza mentre il benzene è un ibrido di du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0013b"/>
          <p:cNvPicPr/>
          <p:nvPr/>
        </p:nvPicPr>
        <p:blipFill>
          <a:blip r:embed="rId2"/>
          <a:stretch/>
        </p:blipFill>
        <p:spPr>
          <a:xfrm>
            <a:off x="380880" y="5794200"/>
            <a:ext cx="830592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9478-29AD-4CE9-9783-F7A6EE6E0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28600" y="914400"/>
            <a:ext cx="86868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eterocicli contenenti ossigeno, azoto o zolfo, possono essere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eteroatomi, dobbiamo determinare se la coppia solitaria è localizzata sull’eteroatomo o è parte del sistema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elocalizz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esempio di un eterociclo aromatico è la piridin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0013c"/>
          <p:cNvPicPr/>
          <p:nvPr/>
        </p:nvPicPr>
        <p:blipFill>
          <a:blip r:embed="rId1"/>
          <a:stretch/>
        </p:blipFill>
        <p:spPr>
          <a:xfrm>
            <a:off x="2971800" y="3048120"/>
            <a:ext cx="2895480" cy="1274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0014a"/>
          <p:cNvPicPr/>
          <p:nvPr/>
        </p:nvPicPr>
        <p:blipFill>
          <a:blip r:embed="rId2"/>
          <a:stretch/>
        </p:blipFill>
        <p:spPr>
          <a:xfrm>
            <a:off x="762120" y="4495680"/>
            <a:ext cx="7696080" cy="2225880"/>
          </a:xfrm>
          <a:prstGeom prst="rect">
            <a:avLst/>
          </a:prstGeom>
          <a:ln w="0">
            <a:noFill/>
          </a:ln>
        </p:spPr>
      </p:pic>
      <p:sp>
        <p:nvSpPr>
          <p:cNvPr id="214" name="Line 10"/>
          <p:cNvSpPr/>
          <p:nvPr/>
        </p:nvSpPr>
        <p:spPr>
          <a:xfrm>
            <a:off x="228600" y="44197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7A6E-99B4-419C-8461-C99CFC0A0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143000"/>
            <a:ext cx="86868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l pirr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altro esempio di un eterociclo aromatico. Esso contiene un anello a cinque termini con du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un atomo di azo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un orbital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u ogni atomo adiacente, e quindi è completamente coniug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se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— quattro da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due dal doppietto elettro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0014c"/>
          <p:cNvPicPr/>
          <p:nvPr/>
        </p:nvPicPr>
        <p:blipFill>
          <a:blip r:embed="rId1"/>
          <a:stretch/>
        </p:blipFill>
        <p:spPr>
          <a:xfrm>
            <a:off x="838080" y="3695760"/>
            <a:ext cx="7543800" cy="21715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0"/>
          <p:cNvSpPr/>
          <p:nvPr/>
        </p:nvSpPr>
        <p:spPr>
          <a:xfrm>
            <a:off x="22860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è ciclico, planare, completamente coniugato, e ha 4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quindi è aromat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794A-D4CD-4A28-B91A-E002FBD9F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37160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4605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il bromo, se non in presenza di Fe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un acido di Lewis), e la reazione è una sostituzione , non un’addi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1905120" y="2590920"/>
            <a:ext cx="4952880" cy="741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28600" y="358128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strutture del benzene devono tener conto dell’alto grado di insaturazione e della sua mancanza di reattività verso l’addizione elettrofil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ugust 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pose che il benzene fosse una miscela di due composti in rapido equilibrio, ognuno dei quali aveva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la descrizione di Keku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il legame tra due atomi di carbonio nel benzene è alternativamente un doppio legame ed un legame singol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1A49-09CB-4BBC-AD5E-EE825518B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228600" y="9144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stemi ionici sia carichi positivamente che negativamente possono essere aromatici se posseggono tutti gli elementi necess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0016b"/>
          <p:cNvPicPr/>
          <p:nvPr/>
        </p:nvPicPr>
        <p:blipFill>
          <a:blip r:embed="rId1"/>
          <a:srcRect l="0" t="0" r="0" b="37074"/>
          <a:stretch/>
        </p:blipFill>
        <p:spPr>
          <a:xfrm>
            <a:off x="1219320" y="5396040"/>
            <a:ext cx="6705360" cy="776160"/>
          </a:xfrm>
          <a:prstGeom prst="rect">
            <a:avLst/>
          </a:prstGeom>
          <a:ln w="0">
            <a:noFill/>
          </a:ln>
        </p:spPr>
      </p:pic>
      <p:sp>
        <p:nvSpPr>
          <p:cNvPr id="226" name="Line 9"/>
          <p:cNvSpPr/>
          <p:nvPr/>
        </p:nvSpPr>
        <p:spPr>
          <a:xfrm>
            <a:off x="228600" y="525780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1219320" y="6111720"/>
            <a:ext cx="6933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Per l’anione ciclopentadienile possiamo disegnare cinque strutture di risonanza equivalenti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2"/>
          <a:stretch/>
        </p:blipFill>
        <p:spPr>
          <a:xfrm>
            <a:off x="152280" y="1890720"/>
            <a:ext cx="85917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59FC-5529-44A9-8E2E-20F42CB31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28600" y="1222200"/>
            <a:ext cx="86868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e il “corretto” numero di elettroni è necessario perchè una specie sia altamente stabile ad opera dell’aromaticità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ì, benchè si possano disegnare cinque strutture di risonanza per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clopentadienile ed 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e, solo l’anione ciclopentadienile ha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un numero che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0016c"/>
          <p:cNvPicPr/>
          <p:nvPr/>
        </p:nvPicPr>
        <p:blipFill>
          <a:blip r:embed="rId1"/>
          <a:stretch/>
        </p:blipFill>
        <p:spPr>
          <a:xfrm>
            <a:off x="762120" y="4210200"/>
            <a:ext cx="76197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F8D1-44F6-4DD0-B857-F50065E1A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28600" y="1219320"/>
            <a:ext cx="868680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iclopentadiene è più acido di molti idrocarburi perchè la sua base coniugata è aroma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iclopentadiene è 15, molto più basso (acido) de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qualsiasi legame C-H discusso fino ad o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ione ciclopentadienile è sia aromatico che stabilizzato per risonanza, ed è una base mol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e il ciclopentadiene non è aromatico perchè non è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0016d"/>
          <p:cNvPicPr/>
          <p:nvPr/>
        </p:nvPicPr>
        <p:blipFill>
          <a:blip r:embed="rId1"/>
          <a:stretch/>
        </p:blipFill>
        <p:spPr>
          <a:xfrm>
            <a:off x="838080" y="4786200"/>
            <a:ext cx="70866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6E00-9ED0-4FC5-B32E-C4545D90B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28600" y="137808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ropili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 carbocatione planare con tre doppi legami ed una carica positiva contenuta in un anello a sette termi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atione tropilio ha tr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non ha altri doppietti elettronici di non legame, contiene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sì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1"/>
          <a:stretch/>
        </p:blipFill>
        <p:spPr>
          <a:xfrm>
            <a:off x="685800" y="3859200"/>
            <a:ext cx="701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2C09-8809-4D26-844B-A55E4E37F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8600" y="1371600"/>
            <a:ext cx="868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e strutture sono note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trutture d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0001c"/>
          <p:cNvPicPr/>
          <p:nvPr/>
        </p:nvPicPr>
        <p:blipFill>
          <a:blip r:embed="rId1"/>
          <a:stretch/>
        </p:blipFill>
        <p:spPr>
          <a:xfrm>
            <a:off x="2130480" y="1981080"/>
            <a:ext cx="4727520" cy="711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228600" y="2806560"/>
            <a:ext cx="868680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bbene il benzene sia ancora disegnato come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, in realtà non c’è alcun equilibrio tra i due composti sopra cit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ttuale descrizione del benzene è basata sulla risonanza e sulla delocalizzazione degli elettroni a causa della sovrapposizione degli orbital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 diciannovesimo secolo, molti composti con proprietà simili a quelli del benzene vennero isolati da fonti naturali. Poichè questi composti hanno un caratteristico odore forte, furono chiamati composti aromatici. Si deve notare, comunque, che sono le loro proprietà chimiche, e non l’odore, a renderli particol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2421-524F-4CAF-9DA2-225660503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74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75"/>
          <p:cNvSpPr/>
          <p:nvPr/>
        </p:nvSpPr>
        <p:spPr>
          <a:xfrm>
            <a:off x="228600" y="1461960"/>
            <a:ext cx="868680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ruttura proposta per il benzene deve tener conto  dei seguenti fat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iene un anello a sei termini e tre insaturaz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’ plan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tti i legami C—C sono ugua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76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78"/>
          <p:cNvSpPr/>
          <p:nvPr/>
        </p:nvSpPr>
        <p:spPr>
          <a:xfrm>
            <a:off x="228600" y="3581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strutture di Keku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ddisfano i primi due criteri ma non il terzo, perchè avere tr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lternati significa che il benzene dovrebbe avere tre doppi legami corti intervallati da tre legami singoli più lungh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079" descr="0002a"/>
          <p:cNvPicPr/>
          <p:nvPr/>
        </p:nvPicPr>
        <p:blipFill>
          <a:blip r:embed="rId1"/>
          <a:stretch/>
        </p:blipFill>
        <p:spPr>
          <a:xfrm>
            <a:off x="533520" y="5110200"/>
            <a:ext cx="800100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CD31-3044-4F47-8C7F-2AD02C9A1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28600" y="137160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descrizione della risonanza del benzene viene fatta con due strutture di Lewis equivalenti, ognuna con tre doppi legami alternati a tre singol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ra struttura del benzene è un ibrido di risonanza di due strutture di Lewis, con una linea tratteggiata dell’ibrido indicante la posizione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i useremo una delle due strutture di Lewis e non l’ibrido per disegnare il benzene. Questo renderà più facile tenere conto dei doppietti elettronici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gli elettroni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0002b"/>
          <p:cNvPicPr/>
          <p:nvPr/>
        </p:nvPicPr>
        <p:blipFill>
          <a:blip r:embed="rId1"/>
          <a:stretch/>
        </p:blipFill>
        <p:spPr>
          <a:xfrm>
            <a:off x="1676520" y="4572000"/>
            <a:ext cx="56386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0042-234F-4D43-BD3E-1379F7CAD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ogni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due elettroni, il benzene ha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41936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872C-AACD-43D8-8352-DFC59631A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8600" y="1708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benzene, la reale lunghezza di legame (1.39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) è intermedia tra il legame carbonio—carbonio singolo (1.53 Å) e il legame carbonio—carbonio doppio (1.34 Å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0002c"/>
          <p:cNvPicPr/>
          <p:nvPr/>
        </p:nvPicPr>
        <p:blipFill>
          <a:blip r:embed="rId1"/>
          <a:stretch/>
        </p:blipFill>
        <p:spPr>
          <a:xfrm>
            <a:off x="762120" y="2951280"/>
            <a:ext cx="7619760" cy="1011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004a"/>
          <p:cNvPicPr/>
          <p:nvPr/>
        </p:nvPicPr>
        <p:blipFill>
          <a:blip r:embed="rId2"/>
          <a:stretch/>
        </p:blipFill>
        <p:spPr>
          <a:xfrm>
            <a:off x="1828800" y="4678200"/>
            <a:ext cx="5486400" cy="1798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>
            <a:off x="380880" y="4343400"/>
            <a:ext cx="838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1B4D-5599-449A-9501-44E40BED8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ello benzenico monosostituito, si denomina il sostituente e si aggiunge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04b"/>
          <p:cNvPicPr/>
          <p:nvPr/>
        </p:nvPicPr>
        <p:blipFill>
          <a:blip r:embed="rId1"/>
          <a:stretch/>
        </p:blipFill>
        <p:spPr>
          <a:xfrm>
            <a:off x="762120" y="2397240"/>
            <a:ext cx="7467480" cy="1793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228600" y="4267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ti benzeni monosostituiti hanno nomi comuni che dobbiamo comunque conosce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0005a"/>
          <p:cNvPicPr/>
          <p:nvPr/>
        </p:nvPicPr>
        <p:blipFill>
          <a:blip r:embed="rId2"/>
          <a:stretch/>
        </p:blipFill>
        <p:spPr>
          <a:xfrm>
            <a:off x="1143000" y="5300640"/>
            <a:ext cx="685800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17:36Z</dcterms:modified>
  <cp:revision>1029</cp:revision>
  <dc:subject/>
  <dc:title>PowerPoint Presentation</dc:title>
</cp:coreProperties>
</file>