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F64-DF79-4273-AACE-CA711D17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723-B24A-408B-9A8D-2DE85CF5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A6A-28B7-4D9B-8243-23F2FABF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940-8441-4D24-9A29-D62A16BD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C10-E5DF-48F7-BFB9-74C80E6C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48F-0375-42AD-ACCE-8E9AB6AB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328-D57B-4DD6-8057-CB574C8F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1383-630E-478C-882E-8BB84AB0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024-78AB-4082-86FA-28363FF0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F15-70D6-4AC8-A905-1D85D042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251-4C66-4D3C-A74D-3C479B4F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9A5-BAD5-47F5-A62F-32F660D0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33CA-475F-4517-9BC0-20541E543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7067-4AA0-47DE-B51E-55561D57F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46080" y="3809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Benzene e composti aromatic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B4BE-4D2F-46C0-9C66-E9A388B77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4637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tre diversi modi di legare due gruppi a un nucleo benzenico, e un prefisso—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viene usato per indicare la posizione relativa dei due sostit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0005b"/>
          <p:cNvPicPr/>
          <p:nvPr/>
        </p:nvPicPr>
        <p:blipFill>
          <a:blip r:embed="rId1"/>
          <a:stretch/>
        </p:blipFill>
        <p:spPr>
          <a:xfrm>
            <a:off x="533520" y="3200400"/>
            <a:ext cx="8153280" cy="205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4920" y="5181480"/>
            <a:ext cx="28191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rth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2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0040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3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09588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4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B389-C7A9-4286-8E1D-B1970424A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146376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i due gruppi legati al nucleo benzenico sono differenti, si mettono in ordine alfabetico i nomi dei sostituenti che precedono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o dei sostituenti è parte di un nome comune di un benzene monosostituito, denominare la molecola come un suo deriv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0005c"/>
          <p:cNvPicPr/>
          <p:nvPr/>
        </p:nvPicPr>
        <p:blipFill>
          <a:blip r:embed="rId1"/>
          <a:stretch/>
        </p:blipFill>
        <p:spPr>
          <a:xfrm>
            <a:off x="457200" y="4017960"/>
            <a:ext cx="82296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6795-DBF5-474B-83F1-827DFBCB8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-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685800"/>
            <a:ext cx="8686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e o più sostituenti sul nucleo benzenico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numerazione deve dare i numeri più piccoli possibile per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ttere in ordine alfabetico i nomi dei sostituen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 sostituenti sono parte di un nome comune, denominare la molecola come un derivato di questo benzene sostituito. Il sostituente che caratterizza il nome del composto è collocato in posizione 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765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9AB6-D3F7-4E43-9862-C5001520F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sostituente benzenico è chiama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 feni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in una struttura può essere abbreviato come “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”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28600" y="44481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eguentemente, il benzene può essere rappresentato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d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fenol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rà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O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0006b"/>
          <p:cNvPicPr/>
          <p:nvPr/>
        </p:nvPicPr>
        <p:blipFill>
          <a:blip r:embed="rId1"/>
          <a:stretch/>
        </p:blipFill>
        <p:spPr>
          <a:xfrm>
            <a:off x="2057400" y="5272200"/>
            <a:ext cx="5181480" cy="12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304920" y="2268360"/>
            <a:ext cx="822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0937-D3D5-4A34-8F6E-8318FF15D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benz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un altro sostituente comune che contiene un anello benzenico, differisce dal gruppo fen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" y="40384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sostituenti derivati da altri anelli aromatici sono chiamati collettivament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ri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06c"/>
          <p:cNvPicPr/>
          <p:nvPr/>
        </p:nvPicPr>
        <p:blipFill>
          <a:blip r:embed="rId1"/>
          <a:stretch/>
        </p:blipFill>
        <p:spPr>
          <a:xfrm>
            <a:off x="1828800" y="2438280"/>
            <a:ext cx="5556240" cy="1395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006d"/>
          <p:cNvPicPr/>
          <p:nvPr/>
        </p:nvPicPr>
        <p:blipFill>
          <a:blip r:embed="rId2"/>
          <a:stretch/>
        </p:blipFill>
        <p:spPr>
          <a:xfrm>
            <a:off x="1752480" y="5073480"/>
            <a:ext cx="5562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DBF6-8566-4520-9F74-0C4E2D578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463760"/>
            <a:ext cx="868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are i calori di idrogenazione del cicloesene, 1,3-cicloesadiene e del benzene, i quali danno tutti cicloesano se trattati con eccesso di idrogeno in presenza di catalizzatori metal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paricolare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08"/>
          <p:cNvPicPr/>
          <p:nvPr/>
        </p:nvPicPr>
        <p:blipFill>
          <a:blip r:embed="rId1"/>
          <a:stretch/>
        </p:blipFill>
        <p:spPr>
          <a:xfrm>
            <a:off x="533520" y="2768760"/>
            <a:ext cx="8076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8CB1-A744-4113-B9B3-BE03D6A87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7804440" cy="2868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371600" y="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28600" y="12193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igura 17.2 confronta i calori di idrogenazione teorici e misurati del benz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28600" y="5715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grande differenza dei calori di idrogenazione sperimentali e calcolati per il benzene non può essere spiegata solo sulla base della risonanza e della coniuga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66440" y="1828800"/>
            <a:ext cx="229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17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between 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nd hypothet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s of hydrogen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enz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3646-3DA6-4405-96D0-98EE01AA1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371600" y="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85800"/>
            <a:ext cx="86868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asso calore di idrogenazione del benzene indica che il benzene è particolarmente stabile—anche più dei polieni coniugati. Questa particolare stabilità è caratteristica dei composti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comportamento chimico particolare del benzene non è limitato all’idrogenazione. Il benzene non dà le reazioni di addizione tipiche di altri composti altamente insaturi, compresi i dieni coniug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 dare un prodotto di addizione. Invece, in presenza di un acido di Lewis, il bromo sostituisce un atomo di idrogeno, dando quindi un prodotto che mantiene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0009"/>
          <p:cNvPicPr/>
          <p:nvPr/>
        </p:nvPicPr>
        <p:blipFill>
          <a:blip r:embed="rId1"/>
          <a:stretch/>
        </p:blipFill>
        <p:spPr>
          <a:xfrm>
            <a:off x="533520" y="4643280"/>
            <a:ext cx="807696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83EC-BC28-4DDD-AD7D-7E9921079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ttro criteri strutturali devono essere soddisfatti perchè un composto possa essere considerato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2133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0652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icl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010a"/>
          <p:cNvPicPr/>
          <p:nvPr/>
        </p:nvPicPr>
        <p:blipFill>
          <a:blip r:embed="rId1"/>
          <a:stretch/>
        </p:blipFill>
        <p:spPr>
          <a:xfrm>
            <a:off x="1600200" y="2809800"/>
            <a:ext cx="5867280" cy="260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28600" y="5578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hè un composto sia aromatico, ogni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sovrapporsi a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li atomi adiac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3FA8-304F-46DA-AED7-5E7BC59C1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1219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esser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8600" y="1600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ti 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iacenti devono essere allineati in modo che la densità elettronic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ssa essere delocal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4359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icloottatetraene non è planare, non è aromatico, e dà luogo a reazioni di addizione tipiche degli alch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0010c"/>
          <p:cNvPicPr/>
          <p:nvPr/>
        </p:nvPicPr>
        <p:blipFill>
          <a:blip r:embed="rId1"/>
          <a:stretch/>
        </p:blipFill>
        <p:spPr>
          <a:xfrm>
            <a:off x="2514600" y="5334120"/>
            <a:ext cx="4191120" cy="12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422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EB41-42E1-473B-96CC-1E72501E5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387440"/>
            <a:ext cx="86868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benzene (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drocarbu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omat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arene) più sempl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un idrocarburo fortemente insat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fferenza di idrocarburi insaturi come gli alcheni, gli alchini, i dieni, che danno facilmente reazioni di addizione, il benzene non ha lo stesso comporta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0001a"/>
          <p:cNvPicPr/>
          <p:nvPr/>
        </p:nvPicPr>
        <p:blipFill>
          <a:blip r:embed="rId1"/>
          <a:stretch/>
        </p:blipFill>
        <p:spPr>
          <a:xfrm>
            <a:off x="1371600" y="4381560"/>
            <a:ext cx="6400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3CA8-3006-4126-8C31-2FE030321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3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ompletamente coniug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28600" y="2057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omposti aromatici devono avere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 ogni 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0010d"/>
          <p:cNvPicPr/>
          <p:nvPr/>
        </p:nvPicPr>
        <p:blipFill>
          <a:blip r:embed="rId1"/>
          <a:stretch/>
        </p:blipFill>
        <p:spPr>
          <a:xfrm>
            <a:off x="685800" y="3408480"/>
            <a:ext cx="76960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DBE8-BA5C-40D6-A9D3-6F2E4F0CC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soddisfare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ola 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k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ntenere un numero particolare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8600" y="3505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aromatico e particolarmente stabile perchè contiene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l ciclobutadie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tiaromat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particolarmente instabile perchè contiene 4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04920" y="2133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ola di  Hückel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0011b"/>
          <p:cNvPicPr/>
          <p:nvPr/>
        </p:nvPicPr>
        <p:blipFill>
          <a:blip r:embed="rId1"/>
          <a:stretch/>
        </p:blipFill>
        <p:spPr>
          <a:xfrm>
            <a:off x="2209680" y="4800600"/>
            <a:ext cx="4648320" cy="18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4902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6D77-D228-4807-A408-0FA57ACD3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 si riferisce al numero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n al numero di atomi in un particolare an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number_of_electrons_tb_764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F976-FF21-4301-A1B0-0F1072FA6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04920" y="21337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aromatico — Un composto a cui manca uno o più dei seguenti requisiti per l’aromaticità: essere ciclico, essere planare, e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28600" y="131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ndo l’aromaticità, tutti i composti possono essere classificati in tre categor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4617-E9E7-46E8-9484-615B3664F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tare la relazione tra ciascun tipo di composto e una molecola simile a catena aperta e con lo stesso numero d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89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C128-8BF9-4D6F-B345-B6215EFF2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13111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elli completamente coniugati più grandi del benzene sono anch’essi aromatici se sono planari e se hanno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rocarburi monociclici con doppi legami alternati a legami singoli sono chiamati annul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nulene, indicare il numero in parentesi ed aggiungere la parola annul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0012b"/>
          <p:cNvPicPr/>
          <p:nvPr/>
        </p:nvPicPr>
        <p:blipFill>
          <a:blip r:embed="rId1"/>
          <a:stretch/>
        </p:blipFill>
        <p:spPr>
          <a:xfrm>
            <a:off x="2514600" y="4213080"/>
            <a:ext cx="4191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3B21-ED01-48FF-AA9B-2B15A766C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8600" y="990720"/>
            <a:ext cx="86868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[10]-annul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he soddisfa la regola di Hückel, ma una molecola planare posizionerebbe i due atomi di idrogeno all’interno dell’anello, troppo vicini fra loro. Per diminuire questa interazion la molecola si disto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di il [10]-annulene non è planare, i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n possono delocalizzarsi su tutto l’anello e non è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0012c"/>
          <p:cNvPicPr/>
          <p:nvPr/>
        </p:nvPicPr>
        <p:blipFill>
          <a:blip r:embed="rId1"/>
          <a:stretch/>
        </p:blipFill>
        <p:spPr>
          <a:xfrm>
            <a:off x="1219320" y="4233960"/>
            <a:ext cx="6781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FC82-E5AA-44C8-AF98-C42795C54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ue o più anelli a sei termini con doppi legami alternati a legami singoli possono essere fusi a formare irocarburi policiclici aromatici (IPA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 sono due diversi modi di unire tre anelli insieme, per formare l’antracene ed il fenantr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0013a"/>
          <p:cNvPicPr/>
          <p:nvPr/>
        </p:nvPicPr>
        <p:blipFill>
          <a:blip r:embed="rId1"/>
          <a:stretch/>
        </p:blipFill>
        <p:spPr>
          <a:xfrm>
            <a:off x="1676520" y="2827440"/>
            <a:ext cx="5715000" cy="1668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228600" y="4572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l numero degli anelli benzenici fusi aumenta, il numero delle strutture di risonanza aumenta. Il naftalene è un ibrido di tre strutture di risonanza mentre il benzene è un ibrido di du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0013b"/>
          <p:cNvPicPr/>
          <p:nvPr/>
        </p:nvPicPr>
        <p:blipFill>
          <a:blip r:embed="rId2"/>
          <a:stretch/>
        </p:blipFill>
        <p:spPr>
          <a:xfrm>
            <a:off x="380880" y="5794200"/>
            <a:ext cx="830592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CAED-83D4-4D3E-B829-0988D064D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28600" y="914400"/>
            <a:ext cx="86868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eterocicli contenenti ossigeno, azoto o zolfo, possono essere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eteroatomi, dobbiamo determinare se la coppia solitaria è localizzata sull’eteroatomo o è parte del sistema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elocalizz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esempio di un eterociclo aromatico è la piridin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0013c"/>
          <p:cNvPicPr/>
          <p:nvPr/>
        </p:nvPicPr>
        <p:blipFill>
          <a:blip r:embed="rId1"/>
          <a:stretch/>
        </p:blipFill>
        <p:spPr>
          <a:xfrm>
            <a:off x="2971800" y="3048120"/>
            <a:ext cx="2895480" cy="1274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0014a"/>
          <p:cNvPicPr/>
          <p:nvPr/>
        </p:nvPicPr>
        <p:blipFill>
          <a:blip r:embed="rId2"/>
          <a:stretch/>
        </p:blipFill>
        <p:spPr>
          <a:xfrm>
            <a:off x="762120" y="4495680"/>
            <a:ext cx="7696080" cy="2225880"/>
          </a:xfrm>
          <a:prstGeom prst="rect">
            <a:avLst/>
          </a:prstGeom>
          <a:ln w="0">
            <a:noFill/>
          </a:ln>
        </p:spPr>
      </p:pic>
      <p:sp>
        <p:nvSpPr>
          <p:cNvPr id="214" name="Line 10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DFEF-4E73-40E0-9D5D-0225A271F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143000"/>
            <a:ext cx="86868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l pirr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altro esempio di un eterociclo aromatico. Esso contiene un anello a cinque termini con du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un atomo di azo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un orbital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u ogni atomo adiacente, e quindi è completamente coniug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se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— quattro da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due dal doppietto elettro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0014c"/>
          <p:cNvPicPr/>
          <p:nvPr/>
        </p:nvPicPr>
        <p:blipFill>
          <a:blip r:embed="rId1"/>
          <a:stretch/>
        </p:blipFill>
        <p:spPr>
          <a:xfrm>
            <a:off x="838080" y="3695760"/>
            <a:ext cx="7543800" cy="2171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22860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è ciclico, planare, completamente coniugato, e ha 4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quindi è aromat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F62D-B8D0-4762-A044-F74F658D6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37160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4605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il bromo, se non in presenza di Fe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un acido di Lewis), e la reazione è una sostituzione , non un’addi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741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28600" y="358128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strutture del benzene devono tener conto dell’alto grado di insaturazione e della sua mancanza di reattività verso l’addizione elettrofil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ugust 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pose che il benzene fosse una miscela di due composti in rapido equilibrio, ognuno dei quali aveva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la descrizione di Keku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il legame tra due atomi di carbonio nel benzene è alternativamente un doppio legame ed un legame singol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427E-74E6-408C-ABCB-71B7D5B57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28600" y="9144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stemi ionici sia carichi positivamente che negativamente possono essere aromatici se posseggono tutti gli elementi necess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0016b"/>
          <p:cNvPicPr/>
          <p:nvPr/>
        </p:nvPicPr>
        <p:blipFill>
          <a:blip r:embed="rId1"/>
          <a:srcRect l="0" t="0" r="0" b="37074"/>
          <a:stretch/>
        </p:blipFill>
        <p:spPr>
          <a:xfrm>
            <a:off x="1219320" y="5396040"/>
            <a:ext cx="6705360" cy="776160"/>
          </a:xfrm>
          <a:prstGeom prst="rect">
            <a:avLst/>
          </a:prstGeom>
          <a:ln w="0">
            <a:noFill/>
          </a:ln>
        </p:spPr>
      </p:pic>
      <p:sp>
        <p:nvSpPr>
          <p:cNvPr id="226" name="Line 9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219320" y="6111720"/>
            <a:ext cx="6933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Per l’anione ciclopentadienile possiamo disegnare cinque strutture di risonanza equivalenti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2"/>
          <a:stretch/>
        </p:blipFill>
        <p:spPr>
          <a:xfrm>
            <a:off x="152280" y="1890720"/>
            <a:ext cx="8591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C1CF-9C5B-4642-BE0A-56CAF69C6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28600" y="1222200"/>
            <a:ext cx="8686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e il “corretto” numero di elettroni è necessario perchè una specie sia altamente stabile ad opera dell’aromaticità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ì, benchè si possano disegnare cinque strutture di risonanza per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clopentadienile ed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e, solo l’anione ciclopentadienile ha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n numero che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0016c"/>
          <p:cNvPicPr/>
          <p:nvPr/>
        </p:nvPicPr>
        <p:blipFill>
          <a:blip r:embed="rId1"/>
          <a:stretch/>
        </p:blipFill>
        <p:spPr>
          <a:xfrm>
            <a:off x="762120" y="4210200"/>
            <a:ext cx="76197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AEA3-2F73-45BC-9CCA-59DFAFF88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28600" y="1219320"/>
            <a:ext cx="868680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iclopentadiene è più acido di molti idrocarburi perchè la sua base coniugata è aroma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iclopentadiene è 15, molto più basso (acido) de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qualsiasi legame C-H discusso fino ad o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ione ciclopentadienile è sia aromatico che stabilizzato per risonanza, ed è una base mol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e il ciclopentadiene non è aromatico perchè non è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0016d"/>
          <p:cNvPicPr/>
          <p:nvPr/>
        </p:nvPicPr>
        <p:blipFill>
          <a:blip r:embed="rId1"/>
          <a:stretch/>
        </p:blipFill>
        <p:spPr>
          <a:xfrm>
            <a:off x="838080" y="4786200"/>
            <a:ext cx="70866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9E70-433A-4399-BB3D-3BA99A429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28600" y="137808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opil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 carbocatione planare con tre doppi legami ed una carica positiva contenuta in un anello a sette termi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atione tropilio ha tr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non ha altri doppietti elettronici di non legame, contiene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sì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685800" y="3859200"/>
            <a:ext cx="701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D507-BAB1-4DA9-8DF3-0936A4A52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6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e strutture sono note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trutture d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0001c"/>
          <p:cNvPicPr/>
          <p:nvPr/>
        </p:nvPicPr>
        <p:blipFill>
          <a:blip r:embed="rId1"/>
          <a:stretch/>
        </p:blipFill>
        <p:spPr>
          <a:xfrm>
            <a:off x="2130480" y="1981080"/>
            <a:ext cx="4727520" cy="71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228600" y="2806560"/>
            <a:ext cx="86868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bbene il benzene sia ancora disegnato come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, in realtà non c’è alcun equilibrio tra i due composti sopra cit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ttuale descrizione del benzene è basata sulla risonanza e sulla delocalizzazione degli elettroni a causa della sovrapposizione degli orbital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 diciannovesimo secolo, molti composti con proprietà simili a quelli del benzene vennero isolati da fonti naturali. Poichè questi composti hanno un caratteristico odore forte, furono chiamati composti aromatici. Si deve notare, comunque, che sono le loro proprietà chimiche, e non l’odore, a renderli particol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CE98-0FD0-4CDB-BE2C-C8FC725C2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74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75"/>
          <p:cNvSpPr/>
          <p:nvPr/>
        </p:nvSpPr>
        <p:spPr>
          <a:xfrm>
            <a:off x="228600" y="1461960"/>
            <a:ext cx="868680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ruttura proposta per il benzene deve tener conto  dei seguenti fat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iene un anello a sei termini e tre insaturaz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’ plan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ti i legami C—C sono ugua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76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78"/>
          <p:cNvSpPr/>
          <p:nvPr/>
        </p:nvSpPr>
        <p:spPr>
          <a:xfrm>
            <a:off x="228600" y="3581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strutture di Keku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ddisfano i primi due criteri ma non il terzo, perchè avere tr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lternati significa che il benzene dovrebbe avere tre doppi legami corti intervallati da tre legami singoli più lungh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079" descr="0002a"/>
          <p:cNvPicPr/>
          <p:nvPr/>
        </p:nvPicPr>
        <p:blipFill>
          <a:blip r:embed="rId1"/>
          <a:stretch/>
        </p:blipFill>
        <p:spPr>
          <a:xfrm>
            <a:off x="533520" y="5110200"/>
            <a:ext cx="8001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C7D2-9BD5-4EAF-8302-834E3839F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137160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descrizione della risonanza del benzene viene fatta con due strutture di Lewis equivalenti, ognuna con tre doppi legami alternati a tre singol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ra struttura del benzene è un ibrido di risonanza di due strutture di Lewis, con una linea tratteggiata dell’ibrido indicante la posizione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i useremo una delle due strutture di Lewis e non l’ibrido per disegnare il benzene. Questo renderà più facile tenere conto dei doppietti elettronici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gli elettroni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0002b"/>
          <p:cNvPicPr/>
          <p:nvPr/>
        </p:nvPicPr>
        <p:blipFill>
          <a:blip r:embed="rId1"/>
          <a:stretch/>
        </p:blipFill>
        <p:spPr>
          <a:xfrm>
            <a:off x="1676520" y="4572000"/>
            <a:ext cx="5638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4A02-59DD-4DF0-A158-9218C29A4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ogni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due elettroni, il benzene ha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419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B68E-7F53-4A2B-95E8-3F12FB6FC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708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benzene, la reale lunghezza di legame (1.3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) è intermedia tra il legame carbonio—carbonio singolo (1.53 Å) e il legame carbonio—carbonio doppio (1.34 Å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0002c"/>
          <p:cNvPicPr/>
          <p:nvPr/>
        </p:nvPicPr>
        <p:blipFill>
          <a:blip r:embed="rId1"/>
          <a:stretch/>
        </p:blipFill>
        <p:spPr>
          <a:xfrm>
            <a:off x="762120" y="2951280"/>
            <a:ext cx="7619760" cy="101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004a"/>
          <p:cNvPicPr/>
          <p:nvPr/>
        </p:nvPicPr>
        <p:blipFill>
          <a:blip r:embed="rId2"/>
          <a:stretch/>
        </p:blipFill>
        <p:spPr>
          <a:xfrm>
            <a:off x="1828800" y="4678200"/>
            <a:ext cx="5486400" cy="1798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>
            <a:off x="380880" y="4343400"/>
            <a:ext cx="838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EA8E-592B-4436-A76C-2CF1C18B4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ello benzenico monosostituito, si denomina il sostituente e si aggiunge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04b"/>
          <p:cNvPicPr/>
          <p:nvPr/>
        </p:nvPicPr>
        <p:blipFill>
          <a:blip r:embed="rId1"/>
          <a:stretch/>
        </p:blipFill>
        <p:spPr>
          <a:xfrm>
            <a:off x="762120" y="2397240"/>
            <a:ext cx="7467480" cy="1793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228600" y="4267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ti benzeni monosostituiti hanno nomi comuni che dobbiamo comunque conosc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0005a"/>
          <p:cNvPicPr/>
          <p:nvPr/>
        </p:nvPicPr>
        <p:blipFill>
          <a:blip r:embed="rId2"/>
          <a:stretch/>
        </p:blipFill>
        <p:spPr>
          <a:xfrm>
            <a:off x="1143000" y="5300640"/>
            <a:ext cx="685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17:36Z</dcterms:modified>
  <cp:revision>1029</cp:revision>
  <dc:subject/>
  <dc:title>PowerPoint Presentation</dc:title>
</cp:coreProperties>
</file>