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39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.png" ContentType="image/png"/>
  <Override PartName="/ppt/media/image24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34.jpeg" ContentType="image/jpeg"/>
  <Override PartName="/ppt/media/image13.jpeg" ContentType="image/jpeg"/>
  <Override PartName="/ppt/media/image40.jpeg" ContentType="image/jpeg"/>
  <Override PartName="/ppt/media/image35.jpeg" ContentType="image/jpeg"/>
  <Override PartName="/ppt/media/image10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7BAF-CCF1-4E00-89DB-13324B66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41D4-247E-479F-9D88-144A197B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8284-76B1-4C57-8D8C-9F025DE6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BC2D-425D-49CA-AC24-C7FE1B66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50DD-822D-482B-B159-53A49B82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FA89-54BC-42B0-8413-19E1E890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7DB0-7C56-4634-A576-D747D000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CEB1-F184-4768-A18B-A077386B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2305-6CA6-45E0-BFC5-110FD475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F055-4EDB-4D2F-8BCA-04B581EE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10DB-1E9D-4937-B87D-065745D7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6561-581B-4618-93EE-D407A498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41AA-F3CA-44D8-AA27-78B60317E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4F4C-458C-41EB-BE33-A9C98E249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860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946080" y="3809880"/>
            <a:ext cx="748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1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Benzene e composti aromatic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4233-EB7E-4FD5-947D-214E71919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28600" y="14637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 sono tre diversi modi di legare due gruppi a un nucleo benzenico, e un prefisso—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r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e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viene usato per indicare la posizione relativa dei due sostituen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0005b"/>
          <p:cNvPicPr/>
          <p:nvPr/>
        </p:nvPicPr>
        <p:blipFill>
          <a:blip r:embed="rId1"/>
          <a:stretch/>
        </p:blipFill>
        <p:spPr>
          <a:xfrm>
            <a:off x="533520" y="3200400"/>
            <a:ext cx="8153280" cy="2054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304920" y="5181480"/>
            <a:ext cx="281916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ortho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 1,2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200400" y="5181480"/>
            <a:ext cx="281952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meta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 1,3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6095880" y="5181480"/>
            <a:ext cx="281952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para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 1,4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1260-147C-494F-9F5A-C99D6FE12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28600" y="1463760"/>
            <a:ext cx="868680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i due gruppi legati al nucleo benzenico sono differenti, si mettono in ordine alfabetico i nomi dei sostituenti che precedono la parola benz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uno dei sostituenti è parte di un nome comune di un benzene monosostituito, denominare la molecola come un suo deriva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0005c"/>
          <p:cNvPicPr/>
          <p:nvPr/>
        </p:nvPicPr>
        <p:blipFill>
          <a:blip r:embed="rId1"/>
          <a:stretch/>
        </p:blipFill>
        <p:spPr>
          <a:xfrm>
            <a:off x="457200" y="4017960"/>
            <a:ext cx="822960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7566-4D6E-4A8C-9098-31E74ABBF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371600" y="-763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28600" y="685800"/>
            <a:ext cx="868680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 tre o più sostituenti sul nucleo benzenico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numerazione deve dare i numeri più piccoli possibile per l’anello benzen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ettere in ordine alfabetico i nomi dei sostituen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 i sostituenti sono parte di un nome comune, denominare la molecola come un derivato di questo benzene sostituito. Il sostituente che caratterizza il nome del composto è collocato in posizione 1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52280" y="304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7655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F241-0700-4504-9CCB-F682728EF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28600" y="1463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sostituente benzenico è chiamat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gruppo feni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e in una struttura può essere abbreviato come “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P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”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28600" y="44481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eguentemente, il benzene può essere rappresentato com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Ph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ed 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fenolo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arà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PhO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0006b"/>
          <p:cNvPicPr/>
          <p:nvPr/>
        </p:nvPicPr>
        <p:blipFill>
          <a:blip r:embed="rId1"/>
          <a:stretch/>
        </p:blipFill>
        <p:spPr>
          <a:xfrm>
            <a:off x="2057400" y="5272200"/>
            <a:ext cx="5181480" cy="1204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"/>
          <p:cNvPicPr/>
          <p:nvPr/>
        </p:nvPicPr>
        <p:blipFill>
          <a:blip r:embed="rId2"/>
          <a:stretch/>
        </p:blipFill>
        <p:spPr>
          <a:xfrm>
            <a:off x="304920" y="2268360"/>
            <a:ext cx="82296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F333-1C1E-4801-8FD8-F44308333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28600" y="1463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grupp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benzilic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un altro sostituente comune che contiene un anello benzenico, differisce dal gruppo fenil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28600" y="403848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 sostituenti derivati da altri anelli aromatici sono chiamati collettivament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grupp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rilic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0006c"/>
          <p:cNvPicPr/>
          <p:nvPr/>
        </p:nvPicPr>
        <p:blipFill>
          <a:blip r:embed="rId1"/>
          <a:stretch/>
        </p:blipFill>
        <p:spPr>
          <a:xfrm>
            <a:off x="1828800" y="2438280"/>
            <a:ext cx="5556240" cy="1395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0006d"/>
          <p:cNvPicPr/>
          <p:nvPr/>
        </p:nvPicPr>
        <p:blipFill>
          <a:blip r:embed="rId2"/>
          <a:stretch/>
        </p:blipFill>
        <p:spPr>
          <a:xfrm>
            <a:off x="1752480" y="5073480"/>
            <a:ext cx="556272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5768-94F5-4401-B1FA-B69BA85E1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28600" y="1463760"/>
            <a:ext cx="8686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iderare i calori di idrogenazione del cicloesene, 1,3-cicloesadiene e del benzene, i quali danno tutti cicloesano se trattati con eccesso di idrogeno in presenza di catalizzatori metal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paricolare stabilità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0008"/>
          <p:cNvPicPr/>
          <p:nvPr/>
        </p:nvPicPr>
        <p:blipFill>
          <a:blip r:embed="rId1"/>
          <a:stretch/>
        </p:blipFill>
        <p:spPr>
          <a:xfrm>
            <a:off x="533520" y="2768760"/>
            <a:ext cx="807696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9E3D-113A-4E14-B1D7-17ED61D87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2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7804440" cy="2868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"/>
          <p:cNvSpPr/>
          <p:nvPr/>
        </p:nvSpPr>
        <p:spPr>
          <a:xfrm>
            <a:off x="1371600" y="763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28600" y="12193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figura 17.2 confronta i calori di idrogenazione teorici e misurati del benze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abilità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28600" y="571500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grande differenza dei calori di idrogenazione sperimentali e calcolati per il benzene non può essere spiegata solo sulla base della risonanza e della coniugazio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6166440" y="1828800"/>
            <a:ext cx="2294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17.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parison between th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served and hypothetic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ts of hydrogen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benze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15E8-FE4A-4662-97D3-5751260FF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371600" y="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8600" y="685800"/>
            <a:ext cx="868680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basso calore di idrogenazione del benzene indica che il benzene è particolarmente stabile—anche più dei polieni coniugati. Questa particolare stabilità è caratteristica dei composti aromat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comportamento chimico particolare del benzene non è limitato all’idrogenazione. Il benzene non dà le reazioni di addizione tipiche di altri composti altamente insaturi, compresi i dieni coniuga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benzene non reagisce con Br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 dare un prodotto di addizione. Invece, in presenza di un acido di Lewis, il bromo sostituisce un atomo di idrogeno, dando quindi un prodotto che mantiene l’anello benzen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52280" y="304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abilità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0009"/>
          <p:cNvPicPr/>
          <p:nvPr/>
        </p:nvPicPr>
        <p:blipFill>
          <a:blip r:embed="rId1"/>
          <a:stretch/>
        </p:blipFill>
        <p:spPr>
          <a:xfrm>
            <a:off x="533520" y="4643280"/>
            <a:ext cx="8076960" cy="20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93DB-EE66-4F5E-B780-A6DE0FEA0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28600" y="1235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ttro criteri strutturali devono essere soddisfatti perchè un composto possa essere considerato aromat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28600" y="21337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50652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ula deve essere cicl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0010a"/>
          <p:cNvPicPr/>
          <p:nvPr/>
        </p:nvPicPr>
        <p:blipFill>
          <a:blip r:embed="rId1"/>
          <a:stretch/>
        </p:blipFill>
        <p:spPr>
          <a:xfrm>
            <a:off x="1600200" y="2809800"/>
            <a:ext cx="5867280" cy="2600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228600" y="55785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hè un composto sia aromatico, ogni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ve sovrapporsi agli orbital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gli atomi adiacen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71D9-8D12-4CDA-A389-5A2E682E2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28600" y="12193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56844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2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deve essere plan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28600" y="16002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tti gli orbital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diacenti devono essere allineati in modo che la densità elettronic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ssa essere delocalizz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228600" y="43592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il cicloottatetraene non è planare, non è aromatico, e dà luogo a reazioni di addizione tipiche degli alche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" descr="0010c"/>
          <p:cNvPicPr/>
          <p:nvPr/>
        </p:nvPicPr>
        <p:blipFill>
          <a:blip r:embed="rId1"/>
          <a:stretch/>
        </p:blipFill>
        <p:spPr>
          <a:xfrm>
            <a:off x="2514600" y="5334120"/>
            <a:ext cx="4191120" cy="1233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"/>
          <p:cNvPicPr/>
          <p:nvPr/>
        </p:nvPicPr>
        <p:blipFill>
          <a:blip r:embed="rId2"/>
          <a:stretch/>
        </p:blipFill>
        <p:spPr>
          <a:xfrm>
            <a:off x="228600" y="2666880"/>
            <a:ext cx="874224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F6A5-9E9A-4F65-831D-8B7019932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1387440"/>
            <a:ext cx="868680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benzene (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idrocarbu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romatic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 arene) più sempl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benzene è un idrocarburo fortemente insatu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ifferenza di idrocarburi insaturi come gli alcheni, gli alchini, i dieni, che danno facilmente reazioni di addizione, il benzene non ha lo stesso comportamen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ndamen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8" descr="0001a"/>
          <p:cNvPicPr/>
          <p:nvPr/>
        </p:nvPicPr>
        <p:blipFill>
          <a:blip r:embed="rId1"/>
          <a:stretch/>
        </p:blipFill>
        <p:spPr>
          <a:xfrm>
            <a:off x="1371600" y="4381560"/>
            <a:ext cx="64008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F196-CE21-45A0-B143-5BA0C4EDD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28600" y="15238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3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ula deve essere completamente coniug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228600" y="2057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composti aromatici devono avere 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u ogni atom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0010d"/>
          <p:cNvPicPr/>
          <p:nvPr/>
        </p:nvPicPr>
        <p:blipFill>
          <a:blip r:embed="rId1"/>
          <a:stretch/>
        </p:blipFill>
        <p:spPr>
          <a:xfrm>
            <a:off x="685800" y="3408480"/>
            <a:ext cx="7696080" cy="20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EF38-DD1E-4894-9F56-28C54FA39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1219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4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deve soddisfare l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egola d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k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contenere un numero particolare d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228600" y="35053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benzene è aromatico e particolarmente stabile perchè contiene 6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Il ciclobutadiene è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ntiaromatic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particolarmente instabile perchè contiene 4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04920" y="2133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egola di  Hückel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3" descr="0011b"/>
          <p:cNvPicPr/>
          <p:nvPr/>
        </p:nvPicPr>
        <p:blipFill>
          <a:blip r:embed="rId1"/>
          <a:stretch/>
        </p:blipFill>
        <p:spPr>
          <a:xfrm>
            <a:off x="2209680" y="4800600"/>
            <a:ext cx="4648320" cy="1852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5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849024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4CFA-2E1B-4336-B0AC-B8A8C41CF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28600" y="1219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re che la regola di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el si riferisce al numero d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non al numero di atomi in un particolare anell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1" descr="number_of_electrons_tb_764"/>
          <p:cNvPicPr/>
          <p:nvPr/>
        </p:nvPicPr>
        <p:blipFill>
          <a:blip r:embed="rId1"/>
          <a:stretch/>
        </p:blipFill>
        <p:spPr>
          <a:xfrm>
            <a:off x="990720" y="2209680"/>
            <a:ext cx="685800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496F-B4EF-40BD-A2C8-77BB0680F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304920" y="2133720"/>
            <a:ext cx="86868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omatico — Un composto ciclico, planare, completamente coniugato con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2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aromatico — Un composto ciclico, planare, completamente coniugato con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 aromatico — Un composto a cui manca uno o più dei seguenti requisiti per l’aromaticità: essere ciclico, essere planare, e completamente coniuga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28600" y="13111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ando l’aromaticità, tutti i composti possono essere classificati in tre categori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C03A-0588-4E61-8516-2B0D03452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28600" y="1247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otare la relazione tra ciascun tipo di composto e una molecola simile a catena aperta e con lo stesso numero di elettron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58996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639E-90E6-4DA5-B2C9-AA4523198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52280" y="806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28600" y="1311120"/>
            <a:ext cx="86868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elli completamente coniugati più grandi del benzene sono anch’essi aromatici se sono planari e se hanno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2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rocarburi monociclici con doppi legami alternati a legami singoli sono chiamati annule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enominare un annulene, indicare il numero in parentesi ed aggiungere la parola annul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0012b"/>
          <p:cNvPicPr/>
          <p:nvPr/>
        </p:nvPicPr>
        <p:blipFill>
          <a:blip r:embed="rId1"/>
          <a:stretch/>
        </p:blipFill>
        <p:spPr>
          <a:xfrm>
            <a:off x="2514600" y="4213080"/>
            <a:ext cx="41911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B47F-5E28-4852-85EF-8A2A106AA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28600" y="990720"/>
            <a:ext cx="86868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[10]-annule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 10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l che soddisfa la regola di Hückel, ma una molecola planare posizionerebbe i due atomi di idrogeno all’interno dell’anello, troppo vicini fra loro. Per diminuire questa interazion la molecola si distor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ndi il [10]-annulene non è planare, i 10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on possono delocalizzarsi su tutto l’anello e non è aromat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0012c"/>
          <p:cNvPicPr/>
          <p:nvPr/>
        </p:nvPicPr>
        <p:blipFill>
          <a:blip r:embed="rId1"/>
          <a:stretch/>
        </p:blipFill>
        <p:spPr>
          <a:xfrm>
            <a:off x="1219320" y="4233960"/>
            <a:ext cx="678168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9729-E8A3-4B04-A977-2CB29143A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28600" y="1143000"/>
            <a:ext cx="86868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ue o più anelli a sei termini con doppi legami alternati a legami singoli possono essere fusi a formare irocarburi policiclici aromatici (IPA)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i sono due diversi modi di unire tre anelli insieme, per formare l’antracene ed il fenantre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0013a"/>
          <p:cNvPicPr/>
          <p:nvPr/>
        </p:nvPicPr>
        <p:blipFill>
          <a:blip r:embed="rId1"/>
          <a:stretch/>
        </p:blipFill>
        <p:spPr>
          <a:xfrm>
            <a:off x="1676520" y="2827440"/>
            <a:ext cx="5715000" cy="16682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7"/>
          <p:cNvSpPr/>
          <p:nvPr/>
        </p:nvSpPr>
        <p:spPr>
          <a:xfrm>
            <a:off x="228600" y="457200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 il numero degli anelli benzenici fusi aumenta, il numero delle strutture di risonanza aumenta. Il naftalene è un ibrido di tre strutture di risonanza mentre il benzene è un ibrido di du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8" descr="0013b"/>
          <p:cNvPicPr/>
          <p:nvPr/>
        </p:nvPicPr>
        <p:blipFill>
          <a:blip r:embed="rId2"/>
          <a:stretch/>
        </p:blipFill>
        <p:spPr>
          <a:xfrm>
            <a:off x="380880" y="5794200"/>
            <a:ext cx="8305920" cy="6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D4DA-D39B-43C2-AC6E-8D376D4FC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228600" y="914400"/>
            <a:ext cx="868680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li eterocicli contenenti ossigeno, azoto o zolfo, possono essere aromat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 presenza di eteroatomi, dobbiamo determinare se la coppia solitaria è localizzata sull’eteroatomo o è parte del sistema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delocalizza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esempio di un eterociclo aromatico è la piridin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0013c"/>
          <p:cNvPicPr/>
          <p:nvPr/>
        </p:nvPicPr>
        <p:blipFill>
          <a:blip r:embed="rId1"/>
          <a:stretch/>
        </p:blipFill>
        <p:spPr>
          <a:xfrm>
            <a:off x="2971800" y="3048120"/>
            <a:ext cx="2895480" cy="1274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0014a"/>
          <p:cNvPicPr/>
          <p:nvPr/>
        </p:nvPicPr>
        <p:blipFill>
          <a:blip r:embed="rId2"/>
          <a:stretch/>
        </p:blipFill>
        <p:spPr>
          <a:xfrm>
            <a:off x="762120" y="4495680"/>
            <a:ext cx="7696080" cy="2225880"/>
          </a:xfrm>
          <a:prstGeom prst="rect">
            <a:avLst/>
          </a:prstGeom>
          <a:ln w="0">
            <a:noFill/>
          </a:ln>
        </p:spPr>
      </p:pic>
      <p:sp>
        <p:nvSpPr>
          <p:cNvPr id="214" name="Line 10"/>
          <p:cNvSpPr/>
          <p:nvPr/>
        </p:nvSpPr>
        <p:spPr>
          <a:xfrm>
            <a:off x="228600" y="44197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25B7-9F71-4DFD-B5F1-497FE5B28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28600" y="1143000"/>
            <a:ext cx="868680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Il pirrol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un altro esempio di un eterociclo aromatico. Esso contiene un anello a cinque termini con due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e un atomo di azo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pirrolo ha un orbital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u ogni atomo adiacente, e quindi è completamente coniuga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pirrolo ha sei elettron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— quattro dai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e due dal doppietto elettron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0014c"/>
          <p:cNvPicPr/>
          <p:nvPr/>
        </p:nvPicPr>
        <p:blipFill>
          <a:blip r:embed="rId1"/>
          <a:stretch/>
        </p:blipFill>
        <p:spPr>
          <a:xfrm>
            <a:off x="838080" y="3695760"/>
            <a:ext cx="7543800" cy="21715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0"/>
          <p:cNvSpPr/>
          <p:nvPr/>
        </p:nvSpPr>
        <p:spPr>
          <a:xfrm>
            <a:off x="228600" y="60199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pirrolo è ciclico, planare, completamente coniugato, e ha 4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+ 2 elettron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e quindi è aromatico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A702-5B81-4933-B14A-B306835AA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1371600" y="228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460520"/>
            <a:ext cx="8686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benzene non reagisce con il bromo, se non in presenza di FeBr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un acido di Lewis), e la reazione è una sostituzione , non un’addizio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2280" y="882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ndame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0001b"/>
          <p:cNvPicPr/>
          <p:nvPr/>
        </p:nvPicPr>
        <p:blipFill>
          <a:blip r:embed="rId1"/>
          <a:stretch/>
        </p:blipFill>
        <p:spPr>
          <a:xfrm>
            <a:off x="1905120" y="2590920"/>
            <a:ext cx="4952880" cy="7412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228600" y="3581280"/>
            <a:ext cx="8686800" cy="31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e strutture del benzene devono tener conto dell’alto grado di insaturazione e della sua mancanza di reattività verso l’addizione elettrofil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ugust Kekul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  <a:ea typeface="Arial"/>
              </a:rPr>
              <a:t>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propose che il benzene fosse una miscela di due composti in rapido equilibrio, ognuno dei quali aveva un anello a sei termini con tre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lterna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lla descrizione di Kekul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il legame tra due atomi di carbonio nel benzene è alternativamente un doppio legame ed un legame singol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3316-54CD-48B1-B92E-E9B109AD3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228600" y="91440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stemi ionici sia carichi positivamente che negativamente possono essere aromatici se posseggono tutti gli elementi necessa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0016b"/>
          <p:cNvPicPr/>
          <p:nvPr/>
        </p:nvPicPr>
        <p:blipFill>
          <a:blip r:embed="rId1"/>
          <a:srcRect l="0" t="0" r="0" b="37074"/>
          <a:stretch/>
        </p:blipFill>
        <p:spPr>
          <a:xfrm>
            <a:off x="1219320" y="5396040"/>
            <a:ext cx="6705360" cy="776160"/>
          </a:xfrm>
          <a:prstGeom prst="rect">
            <a:avLst/>
          </a:prstGeom>
          <a:ln w="0">
            <a:noFill/>
          </a:ln>
        </p:spPr>
      </p:pic>
      <p:sp>
        <p:nvSpPr>
          <p:cNvPr id="226" name="Line 9"/>
          <p:cNvSpPr/>
          <p:nvPr/>
        </p:nvSpPr>
        <p:spPr>
          <a:xfrm>
            <a:off x="228600" y="525780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1219320" y="6111720"/>
            <a:ext cx="69339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Arial"/>
              </a:rPr>
              <a:t>Per l’anione ciclopentadienile possiamo disegnare cinque strutture di risonanza equivalenti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2" descr=""/>
          <p:cNvPicPr/>
          <p:nvPr/>
        </p:nvPicPr>
        <p:blipFill>
          <a:blip r:embed="rId2"/>
          <a:stretch/>
        </p:blipFill>
        <p:spPr>
          <a:xfrm>
            <a:off x="152280" y="1890720"/>
            <a:ext cx="85917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4430-F9AA-4BBA-8956-A75F9AF71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228600" y="1222200"/>
            <a:ext cx="868680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e il “corretto” numero di elettroni è necessario perchè una specie sia altamente stabile ad opera dell’aromaticità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ì, benchè si possano disegnare cinque strutture di risonanza per i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t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iclopentadienile ed i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cale, solo l’anione ciclopentadienile ha 6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un numero che soddisfa la regola di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8" descr="0016c"/>
          <p:cNvPicPr/>
          <p:nvPr/>
        </p:nvPicPr>
        <p:blipFill>
          <a:blip r:embed="rId1"/>
          <a:stretch/>
        </p:blipFill>
        <p:spPr>
          <a:xfrm>
            <a:off x="762120" y="4210200"/>
            <a:ext cx="76197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D5F1-F6CD-4A9B-AEA9-2314E71A2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228600" y="1219320"/>
            <a:ext cx="8686800" cy="35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ciclopentadiene è più acido di molti idrocarburi perchè la sua base coniugata è aromat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l ciclopentadiene è 15, molto più basso (acido) del 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qualsiasi legame C-H discusso fino ad or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anione ciclopentadienile è sia aromatico che stabilizzato per risonanza, ed è una base molto stabi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che il ciclopentadiene non è aromatico perchè non è completamente coniuga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0016d"/>
          <p:cNvPicPr/>
          <p:nvPr/>
        </p:nvPicPr>
        <p:blipFill>
          <a:blip r:embed="rId1"/>
          <a:stretch/>
        </p:blipFill>
        <p:spPr>
          <a:xfrm>
            <a:off x="838080" y="4786200"/>
            <a:ext cx="708660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E765-0F7C-48B3-B9B5-BB1D4B9F9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228600" y="1378080"/>
            <a:ext cx="868680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t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ropili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è un carbocatione planare con tre doppi legami ed una carica positiva contenuta in un anello a sette termi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il catione tropilio ha tre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non ha altri doppietti elettronici di non legame, contiene se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così soddisfa la regola di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8" descr=""/>
          <p:cNvPicPr/>
          <p:nvPr/>
        </p:nvPicPr>
        <p:blipFill>
          <a:blip r:embed="rId1"/>
          <a:stretch/>
        </p:blipFill>
        <p:spPr>
          <a:xfrm>
            <a:off x="685800" y="3859200"/>
            <a:ext cx="70120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87D6-33DF-4F3D-9BE4-3127EF640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28600" y="1371600"/>
            <a:ext cx="8686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Queste strutture sono note com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strutture d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Kekul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  <a:ea typeface="Arial"/>
              </a:rPr>
              <a:t>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52280" y="882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ndame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0001c"/>
          <p:cNvPicPr/>
          <p:nvPr/>
        </p:nvPicPr>
        <p:blipFill>
          <a:blip r:embed="rId1"/>
          <a:stretch/>
        </p:blipFill>
        <p:spPr>
          <a:xfrm>
            <a:off x="2130480" y="1981080"/>
            <a:ext cx="4727520" cy="711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228600" y="2806560"/>
            <a:ext cx="8686800" cy="37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bbene il benzene sia ancora disegnato come un anello a sei termini con tre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lternati, in realtà non c’è alcun equilibrio tra i due composti sopra cita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ttuale descrizione del benzene è basata sulla risonanza e sulla delocalizzazione degli elettroni a causa della sovrapposizione degli orbital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l diciannovesimo secolo, molti composti con proprietà simili a quelli del benzene vennero isolati da fonti naturali. Poichè questi composti hanno un caratteristico odore forte, furono chiamati composti aromatici. Si deve notare, comunque, che sono le loro proprietà chimiche, e non l’odore, a renderli particola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F992-B62E-44AC-B650-C81634365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74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075"/>
          <p:cNvSpPr/>
          <p:nvPr/>
        </p:nvSpPr>
        <p:spPr>
          <a:xfrm>
            <a:off x="228600" y="1461960"/>
            <a:ext cx="8686800" cy="19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struttura proposta per il benzene deve tener conto  dei seguenti fatti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iene un anello a sei termini e tre insaturazion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’ planar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utti i legami C—C sono ugual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76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78"/>
          <p:cNvSpPr/>
          <p:nvPr/>
        </p:nvSpPr>
        <p:spPr>
          <a:xfrm>
            <a:off x="228600" y="35812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strutture di Keku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oddisfano i primi due criteri ma non il terzo, perchè avere tre legami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lternati significa che il benzene dovrebbe avere tre doppi legami corti intervallati da tre legami singoli più lungh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079" descr="0002a"/>
          <p:cNvPicPr/>
          <p:nvPr/>
        </p:nvPicPr>
        <p:blipFill>
          <a:blip r:embed="rId1"/>
          <a:stretch/>
        </p:blipFill>
        <p:spPr>
          <a:xfrm>
            <a:off x="533520" y="5110200"/>
            <a:ext cx="800100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E9AE-D64E-4332-9EAF-D6FF19116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28600" y="1371600"/>
            <a:ext cx="8686800" cy="31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descrizione della risonanza del benzene viene fatta con due strutture di Lewis equivalenti, ognuna con tre doppi legami alternati a tre singoli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vera struttura del benzene è un ibrido di risonanza di due strutture di Lewis, con una linea tratteggiata dell’ibrido indicante la posizione dei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oi useremo una delle due strutture di Lewis e non l’ibrido per disegnare il benzene. Questo renderà più facile tenere conto dei doppietti elettronici dei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gli elettroni)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0002b"/>
          <p:cNvPicPr/>
          <p:nvPr/>
        </p:nvPicPr>
        <p:blipFill>
          <a:blip r:embed="rId1"/>
          <a:stretch/>
        </p:blipFill>
        <p:spPr>
          <a:xfrm>
            <a:off x="1676520" y="4572000"/>
            <a:ext cx="563868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0174-0DED-4A2C-801D-872E6B6BA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28600" y="14637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ogni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 due elettroni, il benzene ha se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441936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1436-4330-485E-9409-C0FE3D613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28600" y="17082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 benzene, la reale lunghezza di legame (1.39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) è intermedia tra il legame carbonio—carbonio singolo (1.53 Å) e il legame carbonio—carbonio doppio (1.34 Å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0002c"/>
          <p:cNvPicPr/>
          <p:nvPr/>
        </p:nvPicPr>
        <p:blipFill>
          <a:blip r:embed="rId1"/>
          <a:stretch/>
        </p:blipFill>
        <p:spPr>
          <a:xfrm>
            <a:off x="762120" y="2951280"/>
            <a:ext cx="7619760" cy="1011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0004a"/>
          <p:cNvPicPr/>
          <p:nvPr/>
        </p:nvPicPr>
        <p:blipFill>
          <a:blip r:embed="rId2"/>
          <a:stretch/>
        </p:blipFill>
        <p:spPr>
          <a:xfrm>
            <a:off x="1828800" y="4678200"/>
            <a:ext cx="5486400" cy="1798920"/>
          </a:xfrm>
          <a:prstGeom prst="rect">
            <a:avLst/>
          </a:prstGeom>
          <a:ln w="0">
            <a:noFill/>
          </a:ln>
        </p:spPr>
      </p:pic>
      <p:sp>
        <p:nvSpPr>
          <p:cNvPr id="90" name="Line 9"/>
          <p:cNvSpPr/>
          <p:nvPr/>
        </p:nvSpPr>
        <p:spPr>
          <a:xfrm>
            <a:off x="380880" y="4343400"/>
            <a:ext cx="838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2C28-8CFC-4FBD-8E6F-C182843FA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28600" y="14637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enominare un anello benzenico monosostituito, si denomina il sostituente e si aggiunge la parola benz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0004b"/>
          <p:cNvPicPr/>
          <p:nvPr/>
        </p:nvPicPr>
        <p:blipFill>
          <a:blip r:embed="rId1"/>
          <a:stretch/>
        </p:blipFill>
        <p:spPr>
          <a:xfrm>
            <a:off x="762120" y="2397240"/>
            <a:ext cx="7467480" cy="1793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228600" y="42670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ti benzeni monosostituiti hanno nomi comuni che dobbiamo comunque conosce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0005a"/>
          <p:cNvPicPr/>
          <p:nvPr/>
        </p:nvPicPr>
        <p:blipFill>
          <a:blip r:embed="rId2"/>
          <a:stretch/>
        </p:blipFill>
        <p:spPr>
          <a:xfrm>
            <a:off x="1143000" y="5300640"/>
            <a:ext cx="685800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20T09:17:36Z</dcterms:modified>
  <cp:revision>1029</cp:revision>
  <dc:subject/>
  <dc:title>PowerPoint Presentation</dc:title>
</cp:coreProperties>
</file>