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39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.png" ContentType="image/png"/>
  <Override PartName="/ppt/media/image24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34.jpeg" ContentType="image/jpeg"/>
  <Override PartName="/ppt/media/image13.jpeg" ContentType="image/jpeg"/>
  <Override PartName="/ppt/media/image40.jpeg" ContentType="image/jpeg"/>
  <Override PartName="/ppt/media/image35.jpeg" ContentType="image/jpeg"/>
  <Override PartName="/ppt/media/image10.jpeg" ContentType="image/jpeg"/>
  <Override PartName="/ppt/media/image7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42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97E8-BEEC-4DC7-858A-A8030512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C6B7-4568-4DBD-A8EE-BE49FEE9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3634-5084-4F10-855B-2DA8F647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7515-BBA5-48B4-BD99-BE7FB260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3B1B-6F58-4260-9DF1-0C4DFCA1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56D9-CD27-4639-A7C5-20A06F98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0B42-F6A3-4025-9665-54778AB7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58BD-7DE9-491B-A224-E73D3BE2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521B-C03B-4638-BFE8-2474C63E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F8C2-2622-4000-8184-996D2F5E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F658-176E-46D0-8523-98BA87A2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3C22-4AA7-4A46-9BF8-4D044D5A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BD0C-FAD4-4FA6-887D-3F21B87BC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6528-A8DD-48F2-8A3E-E2D54B130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946080" y="3809880"/>
            <a:ext cx="748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1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Benzene e composti aromatic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0881-E8A8-4F27-96FD-A699763F7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28600" y="14637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 sono tre diversi modi di legare due gruppi a un nucleo benzenico, e un prefisso—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r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e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viene usato per indicare la posizione relativa dei due sostitu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0005b"/>
          <p:cNvPicPr/>
          <p:nvPr/>
        </p:nvPicPr>
        <p:blipFill>
          <a:blip r:embed="rId1"/>
          <a:stretch/>
        </p:blipFill>
        <p:spPr>
          <a:xfrm>
            <a:off x="533520" y="3200400"/>
            <a:ext cx="8153280" cy="2054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04920" y="5181480"/>
            <a:ext cx="281916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orth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2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3200400" y="5181480"/>
            <a:ext cx="28195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met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3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095880" y="5181480"/>
            <a:ext cx="281952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para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or 1,4-dibromobenze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50A2-F263-4FDA-9E0E-1BB5EE559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28600" y="1463760"/>
            <a:ext cx="86868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i due gruppi legati al nucleo benzenico sono differenti, si mettono in ordine alfabetico i nomi dei sostituenti che precedono la parola benz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uno dei sostituenti è parte di un nome comune di un benzene monosostituito, denominare la molecola come un suo deriv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0005c"/>
          <p:cNvPicPr/>
          <p:nvPr/>
        </p:nvPicPr>
        <p:blipFill>
          <a:blip r:embed="rId1"/>
          <a:stretch/>
        </p:blipFill>
        <p:spPr>
          <a:xfrm>
            <a:off x="457200" y="4017960"/>
            <a:ext cx="822960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504F-80BD-4CB5-84B4-078DDDE55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371600" y="-763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28600" y="685800"/>
            <a:ext cx="868680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e o più sostituenti sul nucleo benzenico: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numerazione deve dare i numeri più piccoli possibile per l’anello benze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ettere in ordine alfabetico i nomi dei sostituen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i sostituenti sono parte di un nome comune, denominare la molecola come un derivato di questo benzene sostituito. Il sostituente che caratterizza il nome del composto è collocato in posizione 1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52280" y="304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76550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9340-1ED1-42E0-84AA-5A2BC1715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28600" y="1463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sostituente benzenico è chiamat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o fenil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 in una struttura può essere abbreviato come “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”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28600" y="44481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eguentemente, il benzene può essere rappresentato com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d 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fenol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arà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PhOH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0006b"/>
          <p:cNvPicPr/>
          <p:nvPr/>
        </p:nvPicPr>
        <p:blipFill>
          <a:blip r:embed="rId1"/>
          <a:stretch/>
        </p:blipFill>
        <p:spPr>
          <a:xfrm>
            <a:off x="2057400" y="5272200"/>
            <a:ext cx="5181480" cy="120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"/>
          <p:cNvPicPr/>
          <p:nvPr/>
        </p:nvPicPr>
        <p:blipFill>
          <a:blip r:embed="rId2"/>
          <a:stretch/>
        </p:blipFill>
        <p:spPr>
          <a:xfrm>
            <a:off x="304920" y="2268360"/>
            <a:ext cx="82296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63D0-3CBC-4AD3-A261-24E65F690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8600" y="1463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benzilic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un altro sostituente comune che contiene un anello benzenico, differisce dal gruppo fenil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28600" y="403848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 sostituenti derivati da altri anelli aromatici sono chiamati collettivament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grupp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rilic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0006c"/>
          <p:cNvPicPr/>
          <p:nvPr/>
        </p:nvPicPr>
        <p:blipFill>
          <a:blip r:embed="rId1"/>
          <a:stretch/>
        </p:blipFill>
        <p:spPr>
          <a:xfrm>
            <a:off x="1828800" y="2438280"/>
            <a:ext cx="5556240" cy="1395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0006d"/>
          <p:cNvPicPr/>
          <p:nvPr/>
        </p:nvPicPr>
        <p:blipFill>
          <a:blip r:embed="rId2"/>
          <a:stretch/>
        </p:blipFill>
        <p:spPr>
          <a:xfrm>
            <a:off x="1752480" y="5073480"/>
            <a:ext cx="556272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60EE-FAE1-43D2-A37B-1E6D1BD4D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1463760"/>
            <a:ext cx="8686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iderare i calori di idrogenazione del cicloesene, 1,3-cicloesadiene e del benzene, i quali danno tutti cicloesano se trattati con eccesso di idrogeno in presenza di catalizzatori metall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paricolare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0008"/>
          <p:cNvPicPr/>
          <p:nvPr/>
        </p:nvPicPr>
        <p:blipFill>
          <a:blip r:embed="rId1"/>
          <a:stretch/>
        </p:blipFill>
        <p:spPr>
          <a:xfrm>
            <a:off x="533520" y="2768760"/>
            <a:ext cx="80769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CD25-453B-430A-BE1C-3327195CE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7804440" cy="2868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"/>
          <p:cNvSpPr/>
          <p:nvPr/>
        </p:nvSpPr>
        <p:spPr>
          <a:xfrm>
            <a:off x="1371600" y="763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28600" y="12193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figura 17.2 confronta i calori di idrogenazione teorici e misurati del benze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28600" y="57150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grande differenza dei calori di idrogenazione sperimentali e calcolati per il benzene non può essere spiegata solo sulla base della risonanza e della coniugaz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166440" y="1828800"/>
            <a:ext cx="2294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17.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comparison between th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ed and hypothetic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ts of hydrogen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benze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D3052-9497-44C0-AD95-5B88CDF3E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371600" y="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685800"/>
            <a:ext cx="8686800" cy="41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asso calore di idrogenazione del benzene indica che il benzene è particolarmente stabile—anche più dei polieni coniugati. Questa particolare stabilità è caratteristica dei composti aromat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comportamento chimico particolare del benzene non è limitato all’idrogenazione. Il benzene non dà le reazioni di addizione tipiche di altri composti altamente insaturi, compresi i dieni coniug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enzene non reagisce con 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 dare un prodotto di addizione. Invece, in presenza di un acido di Lewis, il bromo sostituisce un atomo di idrogeno, dando quindi un prodotto che mantiene l’anello benze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52280" y="304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abilità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0009"/>
          <p:cNvPicPr/>
          <p:nvPr/>
        </p:nvPicPr>
        <p:blipFill>
          <a:blip r:embed="rId1"/>
          <a:stretch/>
        </p:blipFill>
        <p:spPr>
          <a:xfrm>
            <a:off x="533520" y="4643280"/>
            <a:ext cx="807696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6C9E-D7C1-493B-B564-C0858E7BE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ttro criteri strutturali devono essere soddisfatti perchè un composto possa essere considerato aromat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28600" y="21337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0652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ula deve essere cicl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0010a"/>
          <p:cNvPicPr/>
          <p:nvPr/>
        </p:nvPicPr>
        <p:blipFill>
          <a:blip r:embed="rId1"/>
          <a:stretch/>
        </p:blipFill>
        <p:spPr>
          <a:xfrm>
            <a:off x="1600200" y="2809800"/>
            <a:ext cx="5867280" cy="26002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228600" y="55785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hè un composto sia aromatico, ogni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 sovrapporsi agli orbital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gli atomi adiacen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2D6D-2EFE-44B5-A1C1-152219F3A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28600" y="1219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68440"/>
                <a:tab algn="l" pos="9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2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deve essere plan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28600" y="1600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tti gli orbital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diacenti devono essere allineati in modo che la densità elettronic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ssa essere delocalizz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28600" y="4359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il cicloottatetraene non è planare, non è aromatico, e dà luogo a reazioni di addizione tipiche degli alche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0010c"/>
          <p:cNvPicPr/>
          <p:nvPr/>
        </p:nvPicPr>
        <p:blipFill>
          <a:blip r:embed="rId1"/>
          <a:stretch/>
        </p:blipFill>
        <p:spPr>
          <a:xfrm>
            <a:off x="2514600" y="5334120"/>
            <a:ext cx="4191120" cy="1233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"/>
          <p:cNvPicPr/>
          <p:nvPr/>
        </p:nvPicPr>
        <p:blipFill>
          <a:blip r:embed="rId2"/>
          <a:stretch/>
        </p:blipFill>
        <p:spPr>
          <a:xfrm>
            <a:off x="228600" y="2666880"/>
            <a:ext cx="874224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80A7-E649-4B84-9817-21A9A6A3C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387440"/>
            <a:ext cx="868680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benzene (C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idrocarbu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romatic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 arene) più sempl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è un idrocarburo fortemente insatu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ifferenza di idrocarburi insaturi come gli alcheni, gli alchini, i dieni, che danno facilmente reazioni di addizione, il benzene non ha lo stesso comportamen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0001a"/>
          <p:cNvPicPr/>
          <p:nvPr/>
        </p:nvPicPr>
        <p:blipFill>
          <a:blip r:embed="rId1"/>
          <a:stretch/>
        </p:blipFill>
        <p:spPr>
          <a:xfrm>
            <a:off x="1371600" y="4381560"/>
            <a:ext cx="64008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FB77-5C45-4D27-A1E3-CDF00FF4A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15238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568440"/>
                <a:tab algn="l" pos="1136520"/>
                <a:tab algn="l" pos="1704960"/>
                <a:tab algn="l" pos="2273400"/>
                <a:tab algn="l" pos="2841480"/>
                <a:tab algn="l" pos="3409920"/>
                <a:tab algn="l" pos="3978360"/>
                <a:tab algn="l" pos="4546440"/>
                <a:tab algn="l" pos="5114880"/>
                <a:tab algn="l" pos="5683320"/>
                <a:tab algn="l" pos="6251400"/>
                <a:tab algn="l" pos="6819840"/>
                <a:tab algn="l" pos="7388280"/>
                <a:tab algn="l" pos="7956720"/>
                <a:tab algn="l" pos="8524800"/>
                <a:tab algn="l" pos="9093240"/>
                <a:tab algn="l" pos="9661680"/>
                <a:tab algn="l" pos="10229760"/>
                <a:tab algn="l" pos="10798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3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ula deve essere completamente coniug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28600" y="20574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composti aromatici devono avere un orbital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u ogni atom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0010d"/>
          <p:cNvPicPr/>
          <p:nvPr/>
        </p:nvPicPr>
        <p:blipFill>
          <a:blip r:embed="rId1"/>
          <a:stretch/>
        </p:blipFill>
        <p:spPr>
          <a:xfrm>
            <a:off x="685800" y="3408480"/>
            <a:ext cx="769608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9B70-4A90-4D92-8FAE-2E6718F71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4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deve soddisfare l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egola d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k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contenere un numero particolare d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28600" y="3505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è aromatico e particolarmente stabile perchè contiene 6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l ciclobutadiene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ntiaromatic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particolarmente instabile perchè contiene 4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04920" y="2133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gola di  Hückel 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3" descr="0011b"/>
          <p:cNvPicPr/>
          <p:nvPr/>
        </p:nvPicPr>
        <p:blipFill>
          <a:blip r:embed="rId1"/>
          <a:stretch/>
        </p:blipFill>
        <p:spPr>
          <a:xfrm>
            <a:off x="2209680" y="4800600"/>
            <a:ext cx="4648320" cy="1852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"/>
          <p:cNvPicPr/>
          <p:nvPr/>
        </p:nvPicPr>
        <p:blipFill>
          <a:blip r:embed="rId2"/>
          <a:stretch/>
        </p:blipFill>
        <p:spPr>
          <a:xfrm>
            <a:off x="380880" y="2514600"/>
            <a:ext cx="849024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3702-C134-4BEC-8FC4-C2303AAF2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28600" y="1219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re che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 si riferisce al numero d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non al numero di atomi in un particolare anell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1" descr="number_of_electrons_tb_764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775A-37BA-466B-8329-BE1B9C6F8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04920" y="213372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omatico — Un composto ciclico, planare, completamente coniugato con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aromatico — Un composto ciclico, planare, completamente coniugato con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aromatico — Un composto a cui manca uno o più dei seguenti requisiti per l’aromaticità: essere ciclico, essere planare, e completamente coniug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28600" y="13111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ando l’aromaticità, tutti i composti possono essere classificati in tre categori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14D2-909B-4B66-8B87-3DB3F8ACD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 criteri per l’aromaticità—La regola di 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k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28600" y="1247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tare la relazione tra ciascun tipo di composto e una molecola simile a catena aperta e con lo stesso numero di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899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6A15-9AEB-428D-A9BD-B67CB0AC3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1311120"/>
            <a:ext cx="86868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elli completamente coniugati più grandi del benzene sono anch’essi aromatici se sono planari e se hanno 4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rocarburi monociclici con doppi legami alternati a legami singoli sono chiamati annule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nominare un annulene, indicare il numero in parentesi ed aggiungere la parola annul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0012b"/>
          <p:cNvPicPr/>
          <p:nvPr/>
        </p:nvPicPr>
        <p:blipFill>
          <a:blip r:embed="rId1"/>
          <a:stretch/>
        </p:blipFill>
        <p:spPr>
          <a:xfrm>
            <a:off x="2514600" y="4213080"/>
            <a:ext cx="41911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0736-2813-4870-AA3B-C2BDDA15B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28600" y="990720"/>
            <a:ext cx="86868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l [10]-annule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 10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il che soddisfa la regola di Hückel, ma una molecola planare posizionerebbe i due atomi di idrogeno all’interno dell’anello, troppo vicini fra loro. Per diminuire questa interazion la molecola si distor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ndi il [10]-annulene non è planare, i 10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n possono delocalizzarsi su tutto l’anello e non è aromat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0012c"/>
          <p:cNvPicPr/>
          <p:nvPr/>
        </p:nvPicPr>
        <p:blipFill>
          <a:blip r:embed="rId1"/>
          <a:stretch/>
        </p:blipFill>
        <p:spPr>
          <a:xfrm>
            <a:off x="1219320" y="4233960"/>
            <a:ext cx="67816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1A4F-FC84-43C1-9D44-D34ED7F76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143000"/>
            <a:ext cx="868680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ue o più anelli a sei termini con doppi legami alternati a legami singoli possono essere fusi a formare irocarburi policiclici aromatici (IPA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i sono due diversi modi di unire tre anelli insieme, per formare l’antracene ed il fenantre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0013a"/>
          <p:cNvPicPr/>
          <p:nvPr/>
        </p:nvPicPr>
        <p:blipFill>
          <a:blip r:embed="rId1"/>
          <a:stretch/>
        </p:blipFill>
        <p:spPr>
          <a:xfrm>
            <a:off x="1676520" y="2827440"/>
            <a:ext cx="5715000" cy="16682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"/>
          <p:cNvSpPr/>
          <p:nvPr/>
        </p:nvSpPr>
        <p:spPr>
          <a:xfrm>
            <a:off x="228600" y="45720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il numero degli anelli benzenici fusi aumenta, il numero delle strutture di risonanza aumenta. Il naftalene è un ibrido di tre strutture di risonanza mentre il benzene è un ibrido di du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8" descr="0013b"/>
          <p:cNvPicPr/>
          <p:nvPr/>
        </p:nvPicPr>
        <p:blipFill>
          <a:blip r:embed="rId2"/>
          <a:stretch/>
        </p:blipFill>
        <p:spPr>
          <a:xfrm>
            <a:off x="380880" y="5794200"/>
            <a:ext cx="8305920" cy="6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54E8-7B08-4268-847E-5D9993CAF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228600" y="914400"/>
            <a:ext cx="868680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li eterocicli contenenti ossigeno, azoto o zolfo, possono essere aromatic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 presenza di eteroatomi, dobbiamo determinare se la coppia solitaria è localizzata sull’eteroatomo o è parte del sistema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delocalizza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esempio di un eterociclo aromatico è la piridin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0013c"/>
          <p:cNvPicPr/>
          <p:nvPr/>
        </p:nvPicPr>
        <p:blipFill>
          <a:blip r:embed="rId1"/>
          <a:stretch/>
        </p:blipFill>
        <p:spPr>
          <a:xfrm>
            <a:off x="2971800" y="3048120"/>
            <a:ext cx="2895480" cy="1274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0014a"/>
          <p:cNvPicPr/>
          <p:nvPr/>
        </p:nvPicPr>
        <p:blipFill>
          <a:blip r:embed="rId2"/>
          <a:stretch/>
        </p:blipFill>
        <p:spPr>
          <a:xfrm>
            <a:off x="762120" y="4495680"/>
            <a:ext cx="7696080" cy="2225880"/>
          </a:xfrm>
          <a:prstGeom prst="rect">
            <a:avLst/>
          </a:prstGeom>
          <a:ln w="0">
            <a:noFill/>
          </a:ln>
        </p:spPr>
      </p:pic>
      <p:sp>
        <p:nvSpPr>
          <p:cNvPr id="214" name="Line 10"/>
          <p:cNvSpPr/>
          <p:nvPr/>
        </p:nvSpPr>
        <p:spPr>
          <a:xfrm>
            <a:off x="228600" y="44197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6353-D519-47C1-9F23-313206577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28600" y="1143000"/>
            <a:ext cx="868680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Il pirrol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un altro esempio di un eterociclo aromatico. Esso contiene un anello a cinque termini con du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 un atomo di azo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ha un orbitale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su ogni atomo adiacente, e quindi è completamente coniuga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ha sei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— quattro da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 due dal doppietto elettronic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0014c"/>
          <p:cNvPicPr/>
          <p:nvPr/>
        </p:nvPicPr>
        <p:blipFill>
          <a:blip r:embed="rId1"/>
          <a:stretch/>
        </p:blipFill>
        <p:spPr>
          <a:xfrm>
            <a:off x="838080" y="3695760"/>
            <a:ext cx="7543800" cy="21715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0"/>
          <p:cNvSpPr/>
          <p:nvPr/>
        </p:nvSpPr>
        <p:spPr>
          <a:xfrm>
            <a:off x="228600" y="6019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pirrolo è ciclico, planare, completamente coniugato, e ha 4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+ 2 elettron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e quindi è aromatico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AC75-89DB-4A2B-9B67-1B5C25A9C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1371600" y="228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46052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l benzene non reagisce con il bromo, se non in presenza di FeBr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un acido di Lewis), e la reazione è una sostituzione , non un’addiz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1905120" y="2590920"/>
            <a:ext cx="4952880" cy="7412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228600" y="3581280"/>
            <a:ext cx="868680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 strutture del benzene devono tener conto dell’alto grado di insaturazione e della sua mancanza di reattività verso l’addizione elettrofil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August Kekul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propose che il benzene fosse una miscela di due composti in rapido equilibrio, ognuno dei quali aveva un anello a sei termini con tr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ltern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lla descrizione di Kekul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, il legame tra due atomi di carbonio nel benzene è alternativamente un doppio legame ed un legame singol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C74A-67DE-4A48-8D8C-645B63C6F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228600" y="91440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stemi ionici sia carichi positivamente che negativamente possono essere aromatici se posseggono tutti gli elementi necessa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0016b"/>
          <p:cNvPicPr/>
          <p:nvPr/>
        </p:nvPicPr>
        <p:blipFill>
          <a:blip r:embed="rId1"/>
          <a:srcRect l="0" t="0" r="0" b="37074"/>
          <a:stretch/>
        </p:blipFill>
        <p:spPr>
          <a:xfrm>
            <a:off x="1219320" y="5396040"/>
            <a:ext cx="6705360" cy="776160"/>
          </a:xfrm>
          <a:prstGeom prst="rect">
            <a:avLst/>
          </a:prstGeom>
          <a:ln w="0">
            <a:noFill/>
          </a:ln>
        </p:spPr>
      </p:pic>
      <p:sp>
        <p:nvSpPr>
          <p:cNvPr id="226" name="Line 9"/>
          <p:cNvSpPr/>
          <p:nvPr/>
        </p:nvSpPr>
        <p:spPr>
          <a:xfrm>
            <a:off x="228600" y="525780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1219320" y="6111720"/>
            <a:ext cx="69339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Per l’anione ciclopentadienile possiamo disegnare cinque strutture di risonanza equivalenti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2" descr=""/>
          <p:cNvPicPr/>
          <p:nvPr/>
        </p:nvPicPr>
        <p:blipFill>
          <a:blip r:embed="rId2"/>
          <a:stretch/>
        </p:blipFill>
        <p:spPr>
          <a:xfrm>
            <a:off x="152280" y="1890720"/>
            <a:ext cx="85917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2FEE-C075-48D1-8124-F75BE2684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28600" y="1222200"/>
            <a:ext cx="868680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e il “corretto” numero di elettroni è necessario perchè una specie sia altamente stabile ad opera dell’aromaticità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ì, benchè si possano disegnare cinque strutture di risonanza per 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t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iclopentadienile ed i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cale, solo l’anione ciclopentadienile ha 6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un numero che soddisfa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8" descr="0016c"/>
          <p:cNvPicPr/>
          <p:nvPr/>
        </p:nvPicPr>
        <p:blipFill>
          <a:blip r:embed="rId1"/>
          <a:stretch/>
        </p:blipFill>
        <p:spPr>
          <a:xfrm>
            <a:off x="762120" y="4210200"/>
            <a:ext cx="76197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994B-A082-41DC-946D-050C8758B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228600" y="1219320"/>
            <a:ext cx="8686800" cy="35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ciclopentadiene è più acido di molti idrocarburi perchè la sua base coniugata è aromat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l ciclopentadiene è 15, molto più basso (acido) del 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qualsiasi legame C-H discusso fino ad o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nione ciclopentadienile è sia aromatico che stabilizzato per risonanza, ed è una base molto stabi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he il ciclopentadiene non è aromatico perchè non è completamente coniuga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0016d"/>
          <p:cNvPicPr/>
          <p:nvPr/>
        </p:nvPicPr>
        <p:blipFill>
          <a:blip r:embed="rId1"/>
          <a:stretch/>
        </p:blipFill>
        <p:spPr>
          <a:xfrm>
            <a:off x="838080" y="4786200"/>
            <a:ext cx="708660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E65E-8923-46EE-B42F-D75C1B75D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1371600" y="903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empi di composti aromat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228600" y="1378080"/>
            <a:ext cx="86868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t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ropili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un carbocatione planare con tre doppi legami ed una carica positiva contenuta in un anello a sette termin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il catione tropilio ha tre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non ha altri doppietti elettronici di non legame, contiene se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così soddisfa la regola di 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k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8" descr=""/>
          <p:cNvPicPr/>
          <p:nvPr/>
        </p:nvPicPr>
        <p:blipFill>
          <a:blip r:embed="rId1"/>
          <a:stretch/>
        </p:blipFill>
        <p:spPr>
          <a:xfrm>
            <a:off x="685800" y="3859200"/>
            <a:ext cx="70120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8B42-DCC1-4359-ACD3-DF8633B09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28600" y="1371600"/>
            <a:ext cx="8686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Queste strutture sono note come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strutture d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Kekul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  <a:ea typeface="Arial"/>
              </a:rPr>
              <a:t>é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ament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0001c"/>
          <p:cNvPicPr/>
          <p:nvPr/>
        </p:nvPicPr>
        <p:blipFill>
          <a:blip r:embed="rId1"/>
          <a:stretch/>
        </p:blipFill>
        <p:spPr>
          <a:xfrm>
            <a:off x="2130480" y="1981080"/>
            <a:ext cx="4727520" cy="711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228600" y="2806560"/>
            <a:ext cx="8686800" cy="37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bbene il benzene sia ancora disegnato come un anello a sei termini con tre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lternati, in realtà non c’è alcun equilibrio tra i due composti sopra citat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’attuale descrizione del benzene è basata sulla risonanza e sulla delocalizzazione degli elettroni a causa della sovrapposizione degli orbital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el diciannovesimo secolo, molti composti con proprietà simili a quelli del benzene vennero isolati da fonti naturali. Poichè questi composti hanno un caratteristico odore forte, furono chiamati composti aromatici. Si deve notare, comunque, che sono le loro proprietà chimiche, e non l’odore, a renderli particola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B1B2-E645-42E6-A37F-A33E410A3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74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075"/>
          <p:cNvSpPr/>
          <p:nvPr/>
        </p:nvSpPr>
        <p:spPr>
          <a:xfrm>
            <a:off x="228600" y="1461960"/>
            <a:ext cx="8686800" cy="19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struttura proposta per il benzene deve tener conto  dei seguenti fatti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tiene un anello a sei termini e tre insaturazio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’ planar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tti i legami C—C sono ugua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76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78"/>
          <p:cNvSpPr/>
          <p:nvPr/>
        </p:nvSpPr>
        <p:spPr>
          <a:xfrm>
            <a:off x="228600" y="358128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strutture di Keku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ddisfano i primi due criteri ma non il terzo, perchè avere tre legami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lternati significa che il benzene dovrebbe avere tre doppi legami corti intervallati da tre legami singoli più lungh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079" descr="0002a"/>
          <p:cNvPicPr/>
          <p:nvPr/>
        </p:nvPicPr>
        <p:blipFill>
          <a:blip r:embed="rId1"/>
          <a:stretch/>
        </p:blipFill>
        <p:spPr>
          <a:xfrm>
            <a:off x="533520" y="5110200"/>
            <a:ext cx="800100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F14B-824E-4105-B546-A916D28A0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28600" y="1371600"/>
            <a:ext cx="8686800" cy="31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descrizione della risonanza del benzene viene fatta con due strutture di Lewis equivalenti, ognuna con tre doppi legami alternati a tre singoli.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vera struttura del benzene è un ibrido di risonanza di due strutture di Lewis, con una linea tratteggiata dell’ibrido indicante la posizione de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oi useremo una delle due strutture di Lewis e non l’ibrido per disegnare il benzene. Questo renderà più facile tenere conto dei doppietti elettronici dei legami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gli elettroni)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0002b"/>
          <p:cNvPicPr/>
          <p:nvPr/>
        </p:nvPicPr>
        <p:blipFill>
          <a:blip r:embed="rId1"/>
          <a:stretch/>
        </p:blipFill>
        <p:spPr>
          <a:xfrm>
            <a:off x="1676520" y="4572000"/>
            <a:ext cx="563868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8A30-8C86-415C-BAD5-CD57D7056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28600" y="1463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ogni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 due elettroni, il benzene ha sei elettr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441936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39E6F-C5FB-47F1-8FA8-F656F9D1D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28600" y="1708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benzene, la reale lunghezza di legame (1.39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) è intermedia tra il legame carbonio—carbonio singolo (1.53 Å) e il legame carbonio—carbonio doppio (1.34 Å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struttura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0002c"/>
          <p:cNvPicPr/>
          <p:nvPr/>
        </p:nvPicPr>
        <p:blipFill>
          <a:blip r:embed="rId1"/>
          <a:stretch/>
        </p:blipFill>
        <p:spPr>
          <a:xfrm>
            <a:off x="762120" y="2951280"/>
            <a:ext cx="7619760" cy="1011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0004a"/>
          <p:cNvPicPr/>
          <p:nvPr/>
        </p:nvPicPr>
        <p:blipFill>
          <a:blip r:embed="rId2"/>
          <a:stretch/>
        </p:blipFill>
        <p:spPr>
          <a:xfrm>
            <a:off x="1828800" y="4678200"/>
            <a:ext cx="5486400" cy="1798920"/>
          </a:xfrm>
          <a:prstGeom prst="rect">
            <a:avLst/>
          </a:prstGeom>
          <a:ln w="0">
            <a:noFill/>
          </a:ln>
        </p:spPr>
      </p:pic>
      <p:sp>
        <p:nvSpPr>
          <p:cNvPr id="90" name="Line 9"/>
          <p:cNvSpPr/>
          <p:nvPr/>
        </p:nvSpPr>
        <p:spPr>
          <a:xfrm>
            <a:off x="380880" y="4343400"/>
            <a:ext cx="838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9371-0CFF-497D-80BF-A4CA4A757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371600" y="2286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 benzene e i composti aromati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28600" y="1463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enominare un anello benzenico monosostituito, si denomina il sostituente e si aggiunge la parola benze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menclatura dei derivati del benze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0004b"/>
          <p:cNvPicPr/>
          <p:nvPr/>
        </p:nvPicPr>
        <p:blipFill>
          <a:blip r:embed="rId1"/>
          <a:stretch/>
        </p:blipFill>
        <p:spPr>
          <a:xfrm>
            <a:off x="762120" y="2397240"/>
            <a:ext cx="7467480" cy="1793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228600" y="4267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ti benzeni monosostituiti hanno nomi comuni che dobbiamo comunque conosce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0005a"/>
          <p:cNvPicPr/>
          <p:nvPr/>
        </p:nvPicPr>
        <p:blipFill>
          <a:blip r:embed="rId2"/>
          <a:stretch/>
        </p:blipFill>
        <p:spPr>
          <a:xfrm>
            <a:off x="1143000" y="5300640"/>
            <a:ext cx="685800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20T09:17:36Z</dcterms:modified>
  <cp:revision>1029</cp:revision>
  <dc:subject/>
  <dc:title>PowerPoint Presentation</dc:title>
</cp:coreProperties>
</file>