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34.jpeg" ContentType="image/jpeg"/>
  <Override PartName="/ppt/media/image46.png" ContentType="image/png"/>
  <Override PartName="/ppt/media/image11.png" ContentType="image/png"/>
  <Override PartName="/ppt/media/image55.png" ContentType="image/png"/>
  <Override PartName="/ppt/media/image45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6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93BE-A755-46E7-8E15-47B2EA0A101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5CC5-B225-49E1-97D4-6E149DFE8A5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66B6-9C7C-4268-9B99-B8D235097DF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0A5F-71CF-4197-BB8E-26E354B3AF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B6A9-D8E7-4348-A69E-4A06664B40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77C7-59E6-4E5D-B859-FD3E2F13E9D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7138-A322-4FC0-94D8-E33F6AF5882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96ED-A744-4703-B5E9-3E35E08151E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7C4A-DF0C-4EC7-8096-F11B1C1033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1416-10BB-45B5-8623-A04DF851DF1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661F-BC04-45C9-92DC-5A540702BB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2A21-8F0C-4DD4-A14F-AC690841320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BEC-D982-4D58-97D5-95FB495F71C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8494-24BD-403F-9DD1-AA9EDDE4E64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6915-AD74-4549-A568-D598EEE4FA2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684D-57F0-482C-9A16-20D23078F40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C1F6-46F3-4D41-B593-8CA16431F4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6EE0-5DCC-4DA8-A46A-BD5FF96AAD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B6ED-B713-4BC1-81A9-85B6E7D87E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F4DF-D42B-43EB-8D2F-46CD11F7942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D926-97FD-4FF0-8A11-452B059D58D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8DAE-B126-44CC-94AC-DBF7F3337D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EB01-643C-45BC-B8D8-16BD1F5DA19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ACE7-B02E-475A-9DD7-27FE38B4AEE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90AC-9981-4A39-91FD-0A40F2BCDBF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4B1B-35EA-4021-84E0-B67E5A253BA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DAB2-E76B-466F-B661-FE8259FF34A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DB71-E280-4D2A-8584-7C32CC936F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5715-41AA-475D-8DE7-9265C19A89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1C0A-82C8-470E-A03A-6401C3293D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5E00-B6E9-455A-8D2C-FAC8063DAF9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9291-2975-4B2F-A02C-E6BF1EE027D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EE9E-2DF7-40DA-B187-8D2EAE11670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DE7-D94F-46E9-AA5B-CC9C624FC6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89C6-8579-41B1-829F-0FF951EBF98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6E89-CEAE-4DD6-AE1A-CB85A28747C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4D01-E241-45B2-9EA7-5AE2091BC7D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D63A-5EF1-407C-B8F5-030FDAECFAF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37E-3BF5-43C0-8C25-9E5110981A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C9A9-0DC5-4A17-82E2-902A692BC6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5381-5D61-4CDC-82D7-CE76695F3A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8572-1E9A-449B-AD97-CDADB8C7760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7E44-05F1-4BF9-98C3-EAA130CE63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D8A4-E464-46A4-9EFB-EFC57D3A237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52B5-E84E-4AE5-9C14-2A08C52DAA4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E434-8952-4CFA-9FB7-43859E4A47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4CAD-77C4-4D12-B036-6DB4160027E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D744-5389-427C-8D4B-8D38E84238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A1B5-B5C9-4BB0-BE90-4E9378411A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9FE1-829C-4420-8903-777D375FFA7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FB6B-A55F-404F-8E16-613AEFAEBD5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B395-7281-420D-AA6D-8F74A10E518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B9F-301E-489B-AD6D-9897185C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46A-3232-4747-BBD4-FA183E1E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AEE-4BE8-4632-8472-35F03E0C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39E-ADED-4FC4-BC6E-C52C6AC2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849-D718-46AF-A4D1-7CCE6375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C11-DC38-41CC-8C0D-86A6B48E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9BD-27F2-4DA1-A388-20DA71CD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EF5-870B-4361-9CC4-3B094880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85A-A36F-4984-9B89-ED9FC76D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EE2-9250-46D8-93B7-AEDC131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E94-7358-4091-B9F9-35AF36E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682-DC1B-4E2B-87BE-C5C335D5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B36D-68B5-47F6-8808-F0785A6BA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BFEA-C2F9-402C-A81B-B674695B2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56600" y="3809880"/>
            <a:ext cx="3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D8E7-7923-4A5F-9CBA-39CA527D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415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008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A61C-915E-4DE1-BE97-97E6E0D79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assunto dei Principi Basilari della Chiralità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2125800"/>
            <a:ext cx="8686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oggetto ha la propria immagine speculare. La domanda fondamentale è se una molecola e la sua immagine speculare sono sovrappon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a molecola e la sua immagine speculare non sono sovrapponbili, la molecola e la sua immagine speculare sono chir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ermini centro stereogenico e molecola chirale sono correlati ma distinti. In generale, una molecola chirale deve avere uno o più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za di un piano di simmetria indica che la molecola   è  a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267A-4428-40E3-B0AB-D3FF42E7B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00320"/>
            <a:ext cx="86868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individuare un centro stereogenico, considerare ogni carbonio tetraedrico di una  molecola e guardare i quattro gruppi — non i quattro atomi — a esso leg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cludere mai tutti gli atomi di C che non possono essere centri stereogenici tetraedrici. Tra ques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grupp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C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30040" y="4368960"/>
            <a:ext cx="838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D6E6-CC56-4D25-8F55-9E76E306F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048120" y="547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2073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organiche più grandi possono avere due, tre o anche cento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" y="3303720"/>
            <a:ext cx="8534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EB28-449F-4C5C-B979-18F46C185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914400"/>
            <a:ext cx="8686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entrambi gli enantiomeri di un composto chirale, come il 2-butanolo, usare la tipica convenzione per rappresentare il tetraedro: scrivere due legami nel piano, poi uno sopra al piano (a cuneo) ed uno sotto al piano (a tratteggio). Quindi, per formare il primo enantiomero, sistemare i gruppi H, OH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bitrariamente, su ciascun legame del centro stereogenico. Quindi scrivere l’immagine specu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13"/>
          <p:cNvPicPr/>
          <p:nvPr/>
        </p:nvPicPr>
        <p:blipFill>
          <a:blip r:embed="rId1"/>
          <a:stretch/>
        </p:blipFill>
        <p:spPr>
          <a:xfrm>
            <a:off x="1066680" y="4038480"/>
            <a:ext cx="7086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E272-D929-436F-9768-6AE24D4A7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91440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tomi di carbonio che fanno parte di un anello possono essere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ovare i centri stereogenici sui carboni dell’anello, disegnare sempre il ciclo come un poligono piatto, e cercare i carboni tetraedrici che sono legati a  quattro gruppi divers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280" y="380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15a"/>
          <p:cNvPicPr/>
          <p:nvPr/>
        </p:nvPicPr>
        <p:blipFill>
          <a:blip r:embed="rId1"/>
          <a:stretch/>
        </p:blipFill>
        <p:spPr>
          <a:xfrm>
            <a:off x="1143000" y="3195720"/>
            <a:ext cx="7086600" cy="19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015b"/>
          <p:cNvPicPr/>
          <p:nvPr/>
        </p:nvPicPr>
        <p:blipFill>
          <a:blip r:embed="rId2"/>
          <a:stretch/>
        </p:blipFill>
        <p:spPr>
          <a:xfrm>
            <a:off x="838080" y="5375160"/>
            <a:ext cx="7391520" cy="140652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>
            <a:off x="457200" y="5181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56F9-6FE3-4EB8-A76E-1491F88A9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631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3-metilcicloesene, i sostituent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, che sono sopra e sotto al piano dell’anello, sono disegnati con cunei e linee tratteggi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17a"/>
          <p:cNvPicPr/>
          <p:nvPr/>
        </p:nvPicPr>
        <p:blipFill>
          <a:blip r:embed="rId1"/>
          <a:stretch/>
        </p:blipFill>
        <p:spPr>
          <a:xfrm>
            <a:off x="1371600" y="3595680"/>
            <a:ext cx="670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1474-45E1-4336-9F5B-98FC93C9B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29528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ti composti biologicamente attivi contengono uno o più centri stereogenici sui carboni d’anell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0017b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17c"/>
          <p:cNvPicPr/>
          <p:nvPr/>
        </p:nvPicPr>
        <p:blipFill>
          <a:blip r:embed="rId2"/>
          <a:stretch/>
        </p:blipFill>
        <p:spPr>
          <a:xfrm>
            <a:off x="2209680" y="40100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7AA0-7C96-4F91-9161-C388F30EA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1098720"/>
            <a:ext cx="86868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gli enantiomeri sono due composti diversi, dobbiamo essere in grado di distinguerli con un nome. Questo viene fatto aggiungendo il prefiss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 nome IUPAC dell’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omenclatura degli enantiomeri con i prefiss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chiamato il siste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hn-Ingold-Pre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segnare un enantiomero c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ima bisogna assegnare la priorità a ciascun gruppo legato al centro stereogenico, in base al numero atomico descrescente. L’atomo con il più alto numero atomico ha la priorità maggiore (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019a"/>
          <p:cNvPicPr/>
          <p:nvPr/>
        </p:nvPicPr>
        <p:blipFill>
          <a:blip r:embed="rId1"/>
          <a:stretch/>
        </p:blipFill>
        <p:spPr>
          <a:xfrm>
            <a:off x="3276720" y="5611680"/>
            <a:ext cx="236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7204-F769-40F9-A598-7BAD81F9E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6477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atomi su un centro stereogenico sono uguali, assegnare la priorità in base al numero atomico legato a questi atom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a numero atomico maggiore determina priorità maggi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019b"/>
          <p:cNvPicPr/>
          <p:nvPr/>
        </p:nvPicPr>
        <p:blipFill>
          <a:blip r:embed="rId1"/>
          <a:srcRect l="0" t="1373" r="0" b="0"/>
          <a:stretch/>
        </p:blipFill>
        <p:spPr>
          <a:xfrm>
            <a:off x="152280" y="3597120"/>
            <a:ext cx="8839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AD1-13BC-41FA-9A33-DC1572EB6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1240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457200"/>
            <a:ext cx="8686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la stereochimica indaga la struttura tridimensionale delle molecol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seguenza della stereochimica, si ha che differenze apparentemente insignificanti nella struttura 3-D possono causare proprietà molto differenti. Si può osservare questo considerando amido e cellulosa, due polimeri composti dalla stessa unità, che si ripe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533520" y="2979720"/>
            <a:ext cx="85341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2318-F83E-413B-BD3D-916B03AE1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2028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isotopi sono legati al centro stereogenico, assegnare le priorità secondo il numero di massa decrescente. Confrontando i tre isotopi dell’idrogeno, l’ordine di priorità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019c"/>
          <p:cNvPicPr/>
          <p:nvPr/>
        </p:nvPicPr>
        <p:blipFill>
          <a:blip r:embed="rId1"/>
          <a:stretch/>
        </p:blipFill>
        <p:spPr>
          <a:xfrm>
            <a:off x="533520" y="4105440"/>
            <a:ext cx="77724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89C6-8361-426C-80A7-5574EBA3C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006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assegnare la priorità ad un atomo che fa parte di legami multipli, considerare come se fosse legato con un equivalente numero di legami singoli. Per esempio, il C di un gruppo C=O è considerato essere legato con un legame singolo a due atomi di 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19d"/>
          <p:cNvPicPr/>
          <p:nvPr/>
        </p:nvPicPr>
        <p:blipFill>
          <a:blip r:embed="rId1"/>
          <a:stretch/>
        </p:blipFill>
        <p:spPr>
          <a:xfrm>
            <a:off x="2971800" y="2590920"/>
            <a:ext cx="4800600" cy="152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4221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ri tipi di legami multipli ricorrenti sono riportati di segui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0019e"/>
          <p:cNvPicPr/>
          <p:nvPr/>
        </p:nvPicPr>
        <p:blipFill>
          <a:blip r:embed="rId2"/>
          <a:stretch/>
        </p:blipFill>
        <p:spPr>
          <a:xfrm>
            <a:off x="152280" y="4859280"/>
            <a:ext cx="87631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8114-3127-4220-8E4D-2F577CBDC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65960" y="1828800"/>
            <a:ext cx="256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assegn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riorità a centri stereogen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AB0F-17C5-4509-9EAC-ABD1A0D9A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95120" y="1676520"/>
            <a:ext cx="8720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AF58-FCD5-4676-BFE1-C04C3A110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8839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52B2-DD02-4CD0-BDED-D7113F640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328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3265-69E5-4FCF-8BFC-480BA5EBC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8120" y="2430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83240" y="1447920"/>
            <a:ext cx="2949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orientare correttamen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gruppo a priorità minore: Esem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01480" y="2286000"/>
            <a:ext cx="7804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6EF-5452-43F3-92F0-19E5D4F7C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8120" y="4255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14637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una molecola c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entri stereogenici, il numero massimo di stereoisomeri è 2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Consideriamo un procedura a stadi per trovare tutti i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9907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380880" y="3205080"/>
            <a:ext cx="81583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9632-0668-463F-8211-B80BBB34E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8120" y="304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320" y="1295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stato scritto correttamente il composto e la sua immagine speculare, si devono fare solo due cose per vedere se gli atomi si allineano: sistemare B direttamente su A, quindi ruotare B a 18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vedere se gli atomi si allineano con 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05_02a"/>
          <p:cNvPicPr/>
          <p:nvPr/>
        </p:nvPicPr>
        <p:blipFill>
          <a:blip r:embed="rId1"/>
          <a:srcRect l="27563" t="64546" r="15022" b="6999"/>
          <a:stretch/>
        </p:blipFill>
        <p:spPr>
          <a:xfrm>
            <a:off x="1828800" y="2849400"/>
            <a:ext cx="5715000" cy="21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76320" y="51213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questo caso gli atomi di A e B non si allineano, e pertanto A e B non sono immagini speculari sovrapponibili—cioè sono enantiomeri. A e B sono perciò due dei quattro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DB54-4C9D-467A-A74D-21D19A168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ambiando la posizione di H e Br (o di altri due gruppi) sul centro stereogenico di A (oppure di B) si forma un nuovo stereoisomero (indicato con C), che è differente sia da A che da B. L’immagine speculare di C è indicata con D. C e D sono enanti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320" y="5867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stereoisomeri che non sono immagini speculari l’uno dell’altro son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diastereoisome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Per esempio, A e C sono diastereois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345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5B27-2CE3-4F16-A92C-77C78726F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1066680"/>
            <a:ext cx="86868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someri sono composti diversi aventi la stessa formula moleco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ue principali classi di isomeri sono gli isomer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gli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 (o strutturali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o nomi IUPAC differenti, gruppi funzionali uguali o diversi,  diverse proprietà fisiche e diverse proprietà chim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iscono solo per il modo in cui gli atomi sono disposti nello spazio. Hanno identici nomi IUPAC (eccetto per il prefis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Hanno sempre gli stessi gruppi funzion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articolare disposizione tridimensionale è chiama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 hanno differenti configurazio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due Principali Classi di Isomer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CE10-191B-4E2E-B021-FBDF8D734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1"/>
          <a:stretch/>
        </p:blipFill>
        <p:spPr>
          <a:xfrm>
            <a:off x="762120" y="2519280"/>
            <a:ext cx="7804080" cy="30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3048120" y="2728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9920" y="1523880"/>
            <a:ext cx="189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quattr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 2,3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bromopen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3649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B2C0-A437-47FD-9696-3BCC945D6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320" y="9111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iamo gli stereoisomeri del 2,3-dibromobutano. Poichè questa molecola ha due centri stereogenici, il numero massimo di stereoisomeri è 4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320" y="5335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320" y="327672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tutti gli stereoisomeri del 2,3-dibromobutano, aggiungere arbitrariamente i gruppi H, Br e C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i centri stereogenici, formando così lo stereoisomero A, e quindi disegnare la sua immagine speculare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026"/>
          <p:cNvPicPr/>
          <p:nvPr/>
        </p:nvPicPr>
        <p:blipFill>
          <a:blip r:embed="rId1"/>
          <a:stretch/>
        </p:blipFill>
        <p:spPr>
          <a:xfrm>
            <a:off x="3733920" y="1905120"/>
            <a:ext cx="1981080" cy="13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10"/>
          <p:cNvPicPr/>
          <p:nvPr/>
        </p:nvPicPr>
        <p:blipFill>
          <a:blip r:embed="rId2"/>
          <a:stretch/>
        </p:blipFill>
        <p:spPr>
          <a:xfrm>
            <a:off x="1066680" y="4800600"/>
            <a:ext cx="6934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CCD3-C5C6-4500-B1C8-021CA812D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gli altri due stereoisomeri (se esistono), scambiare le posizioni dei due gruppi sullo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tess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o stereogenico d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un s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nantiomero. In questo caso, scambiando la posizione di H e Br su un centro stereogenico di A, si forma C, che è differente sia da A che da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32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compos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mes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composto achirale che contiene centri stereogenici tetraedrici. C è un composto mes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029"/>
          <p:cNvPicPr/>
          <p:nvPr/>
        </p:nvPicPr>
        <p:blipFill>
          <a:blip r:embed="rId1"/>
          <a:stretch/>
        </p:blipFill>
        <p:spPr>
          <a:xfrm>
            <a:off x="1066680" y="2540160"/>
            <a:ext cx="6934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5FE6-7CC7-4C84-BF2D-0CD9B883A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066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mposto C contiene un piano si simmetria, e quindi è achira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composti meso contengono un piano 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perciò sono caratterizzati da due metà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0030"/>
          <p:cNvPicPr/>
          <p:nvPr/>
        </p:nvPicPr>
        <p:blipFill>
          <a:blip r:embed="rId1"/>
          <a:stretch/>
        </p:blipFill>
        <p:spPr>
          <a:xfrm>
            <a:off x="3505320" y="2749680"/>
            <a:ext cx="2100240" cy="288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28600" y="559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uno stereoisomero del 2,3-dibromobutano è sovrapponibile alla sua immagine speculare, ci sono solo tre stereoisomeri, non quat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8A02-5B81-4F10-935B-851960F11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"/>
          <p:cNvPicPr/>
          <p:nvPr/>
        </p:nvPicPr>
        <p:blipFill>
          <a:blip r:embed="rId1"/>
          <a:stretch/>
        </p:blipFill>
        <p:spPr>
          <a:xfrm>
            <a:off x="669960" y="2451240"/>
            <a:ext cx="7804080" cy="349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29840" y="1371600"/>
            <a:ext cx="16772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t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-dibromobu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76320" y="5638680"/>
            <a:ext cx="2514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3D82-EDF0-4C08-8542-A7DD84AD1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composto ha più di un centro stereogenico, la configurazi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essere assegnata a ciascuno di es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2280" y="7142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gnazione di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composti con due o più Centri Stereogeni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0031"/>
          <p:cNvPicPr/>
          <p:nvPr/>
        </p:nvPicPr>
        <p:blipFill>
          <a:blip r:embed="rId1"/>
          <a:stretch/>
        </p:blipFill>
        <p:spPr>
          <a:xfrm>
            <a:off x="2362320" y="2792520"/>
            <a:ext cx="4952880" cy="147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2743200" y="4235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o stereoisomero del 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666880" y="4616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me completo: (2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,3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)-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2"/>
          <a:stretch/>
        </p:blipFill>
        <p:spPr>
          <a:xfrm>
            <a:off x="152280" y="5102280"/>
            <a:ext cx="8763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0F69-B9A0-42EE-82DE-61DB688C4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8380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iamo l’1,3-dibromociclopentano. Dal momento che ha due centri stereogenici, questa molecola ha un numero massimo di quattro stereois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033a"/>
          <p:cNvPicPr/>
          <p:nvPr/>
        </p:nvPicPr>
        <p:blipFill>
          <a:blip r:embed="rId1"/>
          <a:stretch/>
        </p:blipFill>
        <p:spPr>
          <a:xfrm>
            <a:off x="3352680" y="2101680"/>
            <a:ext cx="2438640" cy="1175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28600" y="3292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un cicloalcano disostituito può avere i due sostituenti dalla stessa parte dell’anello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A) o da parti opposte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B). Questi composti sono stereoisomeri, ma non reciproca immagine specul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3192480" y="4921200"/>
            <a:ext cx="4275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7F5A-A8E8-4AE9-8AB8-2DA6D386D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15699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trovare gli altri due stereoisomeri (se esistono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egnare l’immagine speculare di ciascun composto e determinare se il composto e la propria immagine speculare sono sovrappon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è sovrapponibile alla sua immagine speculare, e perciò le due molecole sono identiche. Quindi A è un composto achirale mes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0033c"/>
          <p:cNvPicPr/>
          <p:nvPr/>
        </p:nvPicPr>
        <p:blipFill>
          <a:blip r:embed="rId1"/>
          <a:stretch/>
        </p:blipFill>
        <p:spPr>
          <a:xfrm>
            <a:off x="533520" y="2949480"/>
            <a:ext cx="82296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6F7E-C68C-4707-86A5-CD62D4DDC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156996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è sovrapponibile alla sua immagine speculare, indicata con C, e perciò B e C sono composti differenti. B e  C sono enanti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chè uno stereoisomero dell’1,3-dibromociclopentano è sovrapponibile alla sua immagine speculare, ci sono solo tre stereoisomeri, non quattr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0033d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6546-84E9-45C2-8426-692FD0C26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03760" y="1143000"/>
            <a:ext cx="241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m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I tipi di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7804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DD28-C8F2-4860-A32E-E6A83F813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1240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1040" y="1371600"/>
            <a:ext cx="247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tra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ituzionali e stereo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C111-4192-4736-9650-E0F46B0FE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2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33"/>
          <p:cNvSpPr/>
          <p:nvPr/>
        </p:nvSpPr>
        <p:spPr>
          <a:xfrm>
            <a:off x="44280" y="625320"/>
            <a:ext cx="2324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determina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zione tra due moleco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identic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35" descr=""/>
          <p:cNvPicPr/>
          <p:nvPr/>
        </p:nvPicPr>
        <p:blipFill>
          <a:blip r:embed="rId1"/>
          <a:stretch/>
        </p:blipFill>
        <p:spPr>
          <a:xfrm>
            <a:off x="762120" y="1690560"/>
            <a:ext cx="7270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33EB-8F84-41CC-AD7B-E23B358D8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8600" y="1143000"/>
            <a:ext cx="8686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roprietà chimiche e fisiche di due enantiomeri sono identiche eccetto che nella loro interazione con altre sostenze chirali. Hanno identiche proprietà fisiche, eccetto che per il modo con cui interagiscono con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piano-polarizz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ce piano-polarizz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luce polarizzata)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la luce che possiede un vettore elettrico oscillante in un solo piano. La luce piano-polarizzata deriva dal passaggio della luce ordinaria attraverso un polarizzato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met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o strumento che consente alla luce polarizzata di attraversare un tubo porta-campione contenente un composto organico. Permette quindi la misura dell’angolo (in gradi) di cui un composto organico ruota il piano della luce polar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4ECE-C622-4F7E-8103-F033EB329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327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composti achirali, la luce che esce dal porta-campione non risulta modificata. Un composto che non modifica il piano della luce polarizzata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tticamente inat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0036b"/>
          <p:cNvPicPr/>
          <p:nvPr/>
        </p:nvPicPr>
        <p:blipFill>
          <a:blip r:embed="rId1"/>
          <a:srcRect l="0" t="212" r="0" b="0"/>
          <a:stretch/>
        </p:blipFill>
        <p:spPr>
          <a:xfrm>
            <a:off x="380880" y="2852640"/>
            <a:ext cx="8305920" cy="3624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52280" y="66996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0283-CDD0-4547-A56F-2B371F410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" y="1125360"/>
            <a:ext cx="8686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 composti chirali, il piano della luce polarizzata viene invece ruotato di un 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L’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è misurato in gradi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, ed è chiama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otazione osserva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 composto che ruota il piano della luce polarizzata è det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otticamente attiv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0037"/>
          <p:cNvPicPr/>
          <p:nvPr/>
        </p:nvPicPr>
        <p:blipFill>
          <a:blip r:embed="rId1"/>
          <a:stretch/>
        </p:blipFill>
        <p:spPr>
          <a:xfrm>
            <a:off x="533520" y="293688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0E1E-9530-4AF7-A923-FE4C03884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8120" y="90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114300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rotazione della luce polarizzata può essere in senso orario o antior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orario (verso destra rispetto alle or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tr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antiorario (verso sinistra rispetto all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ue enantiomeri ruotano la luce piano-polarizzata di un valore uguale, ma nella direzione oppos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erciò, se l’enantiomero A ruota la luce polarizzata di +5°, allora la stessa concentrazione dell’enantiomero B ruota di  -5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esiste nessuna relazione fra i prefissi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e le designazioni (+) e (-), che indicano la rotazione ot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B167-788B-4C96-BA98-B2656732F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28600" y="150660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a quantità uguale di due enantiomeri è chiamata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miscela racem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acemat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miscela racemica è otticamente inattiva. Poichè due enantiomeri ruotano la luce piano-polarizzata di un valore uguale, ma in direzioni opposte, le rotazioni si annullano, e non viene osservata nessuna rotazion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22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hyiscal_properties_tb_764"/>
          <p:cNvPicPr/>
          <p:nvPr/>
        </p:nvPicPr>
        <p:blipFill>
          <a:blip r:embed="rId1"/>
          <a:stretch/>
        </p:blipFill>
        <p:spPr>
          <a:xfrm>
            <a:off x="533520" y="3933720"/>
            <a:ext cx="8001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D2E0-F145-44BD-9310-321C644F6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28600" y="16034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a rotazione specif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è una costante fisica standardizzata ed è funzione della concentrazione. La rotazione specifica è indicata con il simbolo [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e tiene conto della lunghezza del tubo porta-camp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n dm), della concentraz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g/mL), della temperatura (2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) e della lunghezza d’onda della radiazione utilizzata (589 nm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0041"/>
          <p:cNvPicPr/>
          <p:nvPr/>
        </p:nvPicPr>
        <p:blipFill>
          <a:blip r:embed="rId1"/>
          <a:stretch/>
        </p:blipFill>
        <p:spPr>
          <a:xfrm>
            <a:off x="533520" y="4565520"/>
            <a:ext cx="8076960" cy="168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152280" y="974880"/>
            <a:ext cx="883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E144-83A5-4719-86BC-AFC711D81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1143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eccesso enantiomerico (purezza ottic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misura di quanto un enantiomero è presente in eccesso rispetto alla miscela racemica. E’ indicato con il simbol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52280" y="654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rietà fisiche degli stereoisomeri—Purezza Ott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33520" y="2362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% di un enantiomero - % dell’altro 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2895480"/>
            <a:ext cx="86868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il seguente esemp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 una miscela contiene il 75% di un enantiomero e il 25% dell’altro, l’eccesso enantiomerico 75% - 25% = 50%. Perciò, c’è un 50% di eccesso di un enantiomero rispetto alla miscela racem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ccesso enantiomerico può essere anche calcolato se sono not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i una miscela 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ell’enantiomero p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90720" y="6095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miscela / 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enantiomero puro) x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49D6-1B55-4C6F-9956-3EF3F44B2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28600" y="83808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chè due enantiomeri hanno identiche proprietà fisiche, essi non possono essere separati mediante le comuni tecniche fisiche, come la distillazi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 diastereoisomeri e gli isomeri costituzionali hanno differenti proprietà fis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perciò possono essere separati mediante le comuni tecniche fisic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2280" y="4572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fisiche degli stereois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03600" y="3368520"/>
            <a:ext cx="180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età fisiche de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stereoisomer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l’ acido tartar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3498840" y="2573280"/>
            <a:ext cx="4730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8D5C-948F-478E-AEF6-A85A482C1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28600" y="91440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enantiomeri hanno esattamente le stesse proprietà chimiche, eccetto che per le reazioni con reagenti chirali non-racemi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ti farmaci sono chirali e spesso, per svolgere la loro azione terapeutica, devono interagire con recettori o enzimi chirali. Un enantiomero di un farmaco può curare efficacemente una malattia, mentre la sua  immagine speculare può essere inefficace o toss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54756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chimiche degli Enanti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044a"/>
          <p:cNvPicPr/>
          <p:nvPr/>
        </p:nvPicPr>
        <p:blipFill>
          <a:blip r:embed="rId1"/>
          <a:stretch/>
        </p:blipFill>
        <p:spPr>
          <a:xfrm>
            <a:off x="1752480" y="2971800"/>
            <a:ext cx="5639040" cy="1535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0044b"/>
          <p:cNvPicPr/>
          <p:nvPr/>
        </p:nvPicPr>
        <p:blipFill>
          <a:blip r:embed="rId2"/>
          <a:stretch/>
        </p:blipFill>
        <p:spPr>
          <a:xfrm>
            <a:off x="1447920" y="4572000"/>
            <a:ext cx="6248160" cy="1811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828E-6EB8-4B1B-A33F-7016A6827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048120" y="1666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0666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bbene ogni oggetto abbia la propria immagine speculare, le immagini speculari possono o non possono essere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molecole sono come le mani. La mano destra e la mano sinistra sono una l’immagine speculare dell’altra, ma non sono identiche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4920" y="3747960"/>
            <a:ext cx="8001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7B74-E2C3-454F-90C1-5B7429667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28600" y="1227240"/>
            <a:ext cx="8686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suggerisce che l’odore di una particolare molecola è determinato più dalla sua forma che dalla presenza di particolari gruppi funzional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gli enantiomeri interagiscono con i recettori dell’olfatto, alcuni enantiomeri hanno odore diver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53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46AC-405D-4C98-846D-8017BB5B3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6320" y="762120"/>
            <a:ext cx="8762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45440" y="1371600"/>
            <a:ext cx="2423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hape of molecules 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nse of sme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7724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D402-3E1C-4EF9-87E9-3E0DB0561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48120" y="1666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143000"/>
            <a:ext cx="50292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re molecole sono come le calze. Due calze formano una coppia di immagini speculari che sono sovrapponibili. Una calza e la sua immagine speculare sono dunque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è sovrapponibile alla sua immagine speculare è det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hir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non è sovrapponibile alla sua immagine speculare è detta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0006"/>
          <p:cNvPicPr/>
          <p:nvPr/>
        </p:nvPicPr>
        <p:blipFill>
          <a:blip r:embed="rId1"/>
          <a:stretch/>
        </p:blipFill>
        <p:spPr>
          <a:xfrm>
            <a:off x="5481720" y="1600200"/>
            <a:ext cx="3433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0C2A-457A-4583-864B-9A960E837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048120" y="763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alcune molecole per determinare se sono o non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r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7a"/>
          <p:cNvPicPr/>
          <p:nvPr/>
        </p:nvPicPr>
        <p:blipFill>
          <a:blip r:embed="rId1"/>
          <a:stretch/>
        </p:blipFill>
        <p:spPr>
          <a:xfrm>
            <a:off x="1523880" y="2306520"/>
            <a:ext cx="60962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69C1-E5CC-4962-9FBF-92AE3F3CF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71800" y="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762120"/>
            <a:ext cx="8686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molecola A e la sua immagine speculare B non sono sovrapponibili. Non importa come A e B siano ruotati, non sarà mai possibile sovrapporre tutti i loro atomi. Inoltre, CHBrClF è una molecola chirale, e A e B sono composti differen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 B sono stereoisomeri—più precisament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nti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tomo di carbonio legato a quattro gruppi differenti è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gen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traed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425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14560" y="4191120"/>
            <a:ext cx="6734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71EB-2B1E-446D-B62C-09488F712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8414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una molecola senza centri stereogenici non è chirale. Esistono tuttavia alcune eccezioni a questa generalizz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un centro stereogenico tetraedrico, la molecola è semp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due o più centri stereogenici, una molecola può essere o non esse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achirali contengono un pi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ntre quelle chirali 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 piano di simmetria è un pia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taglia la molecola a metà, in modo tale che una metà è il riflesso dell’al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5:31Z</dcterms:modified>
  <cp:revision>600</cp:revision>
  <dc:subject/>
  <dc:title>PowerPoint Presentation</dc:title>
</cp:coreProperties>
</file>