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77F-6E30-496B-9853-E44A4E7A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359-302C-4B93-B8C5-A302249A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B35-6F3A-4249-9219-19D400F1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6AF-4955-42C3-A33C-A16A255E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876-A665-4DDB-A725-9E7DFFD6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AB9-6C48-4E73-9691-1C04C20F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B49-F931-4B52-A737-9AE438B9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726-B6BD-4497-9BF0-602F979D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A83-D1E7-4577-98A2-09B7BE44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9CD-FA76-45BF-8A39-CDED15B4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655-9047-4E94-950D-964606B4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997-5B5E-4549-A645-D79763E1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8FF0-D0E2-4890-A48D-3F1624DF0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E7E7-7153-41E5-9E29-C1A88BAEF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52800" y="380988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5C6C-F304-4C3C-95B4-48963AC91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676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evidenze dell’alogenazione suggeriscono che il meccanismo coinvolge intermedi radicalici, e non ionic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0005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9DE2-4CAE-451F-A818-B3CD9759B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143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logenazione radicalica ha tre passaggi distin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4572000"/>
            <a:ext cx="8686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meccanismo (come l’alogenazione radicalica), che prevede due o più stadi che si ripetono,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ccanismo a cate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stadi più importanti dell’alogenazione radicalica son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li stadi di propagazione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portano alla formazione dei prodot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28B0-175F-4991-9598-BEC8FF977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—Meccanism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mechanism_151_c_la_764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AD97-D9D0-46EB-BF19-C19767BF1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7432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295280"/>
            <a:ext cx="86868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grado gli alcani subiscano reazioni radicaliche sia con 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he con B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la clorurazione e la bromurazione mostrano due importanti differenz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è più veloce della bromur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non è selettiva, e fornisce una miscela di prodotti, mentre la bromurazione è spesso selettiva, e fornisce un prodotto principa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ze fra Clorurazione e Bromur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008a"/>
          <p:cNvPicPr/>
          <p:nvPr/>
        </p:nvPicPr>
        <p:blipFill>
          <a:blip r:embed="rId1"/>
          <a:stretch/>
        </p:blipFill>
        <p:spPr>
          <a:xfrm>
            <a:off x="457200" y="4095720"/>
            <a:ext cx="838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8F2C-8625-497D-82F4-DE3DA0E33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743200" y="1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2868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carboni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è un carbonio adiacente a un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omolisi del legame C—H allilico del propene genera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che ha un elettrone spaiato sul carbonio adiacente al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13b"/>
          <p:cNvPicPr/>
          <p:nvPr/>
        </p:nvPicPr>
        <p:blipFill>
          <a:blip r:embed="rId1"/>
          <a:stretch/>
        </p:blipFill>
        <p:spPr>
          <a:xfrm>
            <a:off x="914400" y="2843280"/>
            <a:ext cx="723888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28600" y="398772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energia di dissociazione di questo processo è inferiore anche a quella di un legame C—H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91 kcal/mol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o significa che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più stabile del radicale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013c"/>
          <p:cNvPicPr/>
          <p:nvPr/>
        </p:nvPicPr>
        <p:blipFill>
          <a:blip r:embed="rId2"/>
          <a:stretch/>
        </p:blipFill>
        <p:spPr>
          <a:xfrm>
            <a:off x="685800" y="5518080"/>
            <a:ext cx="822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300D-BF8C-490A-875C-96EA015C0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95480" y="228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allilico è più stabile di altri radicali in quanto può essere descritto con due strutture di risonanz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380880" y="2828880"/>
            <a:ext cx="846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F9AD-0E77-43DD-967F-8564C4C1D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89548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HBr si lega agli alcheni per formare bromuri alchilici in presenza di luce, calore o perossid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gioselettività dell’addizione a un alchene asimmetrico è diversa dall’addizione di HBr in assenza di luce, calore o perossid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18c"/>
          <p:cNvPicPr/>
          <p:nvPr/>
        </p:nvPicPr>
        <p:blipFill>
          <a:blip r:embed="rId1"/>
          <a:stretch/>
        </p:blipFill>
        <p:spPr>
          <a:xfrm>
            <a:off x="685800" y="2878200"/>
            <a:ext cx="8077320" cy="298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28600" y="5943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ddizione di HBr ad alcheni in presenza di luce, calore o perossidi avviene con un meccanismo radical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4986-5B25-4C64-8452-AD4A01CDE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00400" y="76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 Re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176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echanism_154_c_la_764"/>
          <p:cNvPicPr/>
          <p:nvPr/>
        </p:nvPicPr>
        <p:blipFill>
          <a:blip r:embed="rId1"/>
          <a:stretch/>
        </p:blipFill>
        <p:spPr>
          <a:xfrm>
            <a:off x="533520" y="1095480"/>
            <a:ext cx="784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DABF-6F3E-4BC2-9BE1-D01881F46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895480" y="76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136520"/>
            <a:ext cx="8686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nel primo stadio di propagazione (l’addizione di 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al doppio legame) ci sono due possibili percor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A] forma il radica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eno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B] forma il radicale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39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2° più stabile si forma più velocemente, e quindi il percorso [B] è favori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0019"/>
          <p:cNvPicPr/>
          <p:nvPr/>
        </p:nvPicPr>
        <p:blipFill>
          <a:blip r:embed="rId1"/>
          <a:stretch/>
        </p:blipFill>
        <p:spPr>
          <a:xfrm>
            <a:off x="685800" y="4143240"/>
            <a:ext cx="7772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BFA1-9F38-4D25-BA89-6BFFD6455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895480" y="166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251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radicalico mostra anche perchè la regioselettività dell’addizione di HBr dipende dalle condizioni di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2498-2A36-4ABF-86E4-FD97CBCE2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295280"/>
            <a:ext cx="8686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significativo gruppo di reazioni prevede intermedi radical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intermedio reattivo con un singolo elettrone spaiato, che si forma dall’omolisi di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radicale contiene un atomo che non ha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mostrare il movimento di singoli elettroni nei processi radicalici si us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ecce a una sola pun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0001a"/>
          <p:cNvPicPr/>
          <p:nvPr/>
        </p:nvPicPr>
        <p:blipFill>
          <a:blip r:embed="rId1"/>
          <a:stretch/>
        </p:blipFill>
        <p:spPr>
          <a:xfrm>
            <a:off x="2971800" y="5372280"/>
            <a:ext cx="2971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7764-E37C-488C-BFC6-A5F12490C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3360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el carbonio sono classificati come primari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econdari (2°) o terziari 3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rbonio radicalico è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 è trigonale planare, come i carbocationi ibridat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orbitale non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ene un elettrone spaiato e si estende al di sopra e al di sotto del carbonio trigonal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8580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0363-AE94-418A-88ED-CDF5DD4B3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88272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169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147600" y="4038480"/>
            <a:ext cx="2297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à relativa di radical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arbonio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e 2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7804440" cy="165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E576-14A3-4D4F-9A32-03D8D88EF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8686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si formano dalla rottura di legami covalenti per aggiunta di energia sotto for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lore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(h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reazioni radicaliche avvengono in presenza di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iziatore radical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niziatori radicalici contengono un legame particolarmente debole che serve come sorgente di radic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peross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posti con struttura generale RO—OR, sono gli iniziatori radicalici usati più comune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aldando un perossido si causa l’omolisi del debole legame O—O, che forma due radicali R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anno due principali tipi di reazione—reagiscono con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onds, e si addizionano a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e Reazioni Radicali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BA7C-86DA-48A0-8CCC-325D8964A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1430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trappa un atomo di idrogeno da un legame 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—H per formare H—X e un carbonio radical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65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-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003a"/>
          <p:cNvPicPr/>
          <p:nvPr/>
        </p:nvPicPr>
        <p:blipFill>
          <a:blip r:embed="rId1"/>
          <a:stretch/>
        </p:blipFill>
        <p:spPr>
          <a:xfrm>
            <a:off x="1690560" y="1905120"/>
            <a:ext cx="562464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28600" y="41148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i può anche addizionare al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 un doppio legame carbonio—carboni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003b"/>
          <p:cNvPicPr/>
          <p:nvPr/>
        </p:nvPicPr>
        <p:blipFill>
          <a:blip r:embed="rId2"/>
          <a:stretch/>
        </p:blipFill>
        <p:spPr>
          <a:xfrm>
            <a:off x="2209680" y="492444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52280" y="35812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=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D7F6-56BD-47B3-96E6-83097BCBA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847800"/>
            <a:ext cx="86868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, una volta formato, reagisce rapidamente con qualsiasi specie disponibile, di solito con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tab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ue radicali reagiscono per formare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e Radicali che reagiscono l’uno con l’alt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03c"/>
          <p:cNvPicPr/>
          <p:nvPr/>
        </p:nvPicPr>
        <p:blipFill>
          <a:blip r:embed="rId1"/>
          <a:stretch/>
        </p:blipFill>
        <p:spPr>
          <a:xfrm>
            <a:off x="2343240" y="2287440"/>
            <a:ext cx="4743360" cy="12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8600" y="3581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azione di un radicale con ossigeno (che nella sua configurazione elettronica più stabile è un diradicale) è un altro esempio di due radicali che reagiscono l’uno con l’altr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0003d"/>
          <p:cNvPicPr/>
          <p:nvPr/>
        </p:nvPicPr>
        <p:blipFill>
          <a:blip r:embed="rId2"/>
          <a:stretch/>
        </p:blipFill>
        <p:spPr>
          <a:xfrm>
            <a:off x="990720" y="4648320"/>
            <a:ext cx="7010280" cy="78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28600" y="541008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mposti che impediscono alle reazioni radicaliche di avvenire sono chiamati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nibito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equestratori 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Oltre a 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anche la vitamina E e altri composti correlati sono inibitori radica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3B24-ECBD-4D34-A227-8F9911088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895480" y="76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1066680"/>
            <a:ext cx="8686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calore o di luce, gli alcani reagiscono con gli alogeni per formare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è una reazione di sostituzione radical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degli alcani è utilizzabile solo con Cl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La reazione con F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violenta, e la reazione con 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lenta per essere di utilità prat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 un alcano che possiede più di un tipo di atomi di idrogeno, la reazione può fornire una miscela di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0004b"/>
          <p:cNvPicPr/>
          <p:nvPr/>
        </p:nvPicPr>
        <p:blipFill>
          <a:blip r:embed="rId1"/>
          <a:stretch/>
        </p:blipFill>
        <p:spPr>
          <a:xfrm>
            <a:off x="304920" y="4038480"/>
            <a:ext cx="8458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F999-C665-46EE-92B9-2E057C924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3320" y="5105520"/>
            <a:ext cx="7794360" cy="1473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895480" y="76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0825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un singolo atomo di idrogeno, su un carbonio, viene sostituito da un atomo di alogeno si ha l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alogenazio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viene usato un eccesso di alogeno, è possibile sostituire più di un atomo di idrogeno, su un singolo carbonio, con atomi di al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monoalogenazione può essere ottenuta sperimentalmente aggiungendo alogeno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eccesso di alc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disegnare i prodotti di alogenazione di un alcano, bisogna disegnare solo i prodotti di monoalogenazione, a meno che non sia indicato di fare altriment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60" y="4724280"/>
            <a:ext cx="2085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genazione complet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ando u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cesso di C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6:37Z</dcterms:modified>
  <cp:revision>871</cp:revision>
  <dc:subject/>
  <dc:title>PowerPoint Presentation</dc:title>
</cp:coreProperties>
</file>